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1968-9B9D-4AFC-9AF7-422BDB40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2BD-5AE7-4EED-A986-D3212BD2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C7A-1A0A-446B-A088-4D304154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1C87-6623-4B2B-80B0-5E0330C1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B01-A588-455F-9A27-B4C0B3E8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AB0-EF30-4561-9FDA-F0F5E693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F4F-E993-4DB8-9F15-5DE0A4D5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DB5-0D0D-4A35-A3A3-C388F6B2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92A-261A-4056-9353-EACEC945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1E3A-2372-4584-8469-963DA2E5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8B1-3456-4688-835E-E068CA4C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947E-0AD6-4BFB-B606-36460AF6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5D5A-0FFA-4FDD-AE20-C1DD6DD97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9680" y="298404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arek Kukawczyński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35,C4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nsultacje: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iedziałek 13.15 - 15.00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torek 11.15 - 13.00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www. 156.17.39.225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www.zue.ita.pwr.wroc.p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marek.kukawczynski@pwr.wroc.pl</a:t>
            </a:r>
            <a:br>
              <a:rPr sz="2000"/>
            </a:br>
            <a:br>
              <a:rPr sz="2000"/>
            </a:b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Literatura podstawowa i dodatkowa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. Nosal, J.Baranowski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kłady elektroniczne cz. I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NT Warszawa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. Kuta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Elementy i układy elektroniczne, cz. 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AGH, Kraków 2000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. Guziński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Liniowe elektroniczne układy analogo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WNT Warszaw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. Antoszkiewicz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Zbiór zadań z układów elektronicznych liniowych,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NT Warszawa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. Antoszkiewicz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Zbiór zadań z układów elektronicznych nieliniowych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 impulsowych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NT Warszaw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27400" y="1295280"/>
            <a:ext cx="8570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wiadomo, że tranzystor npn pracuje w obszarze aktywnym pr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yzacji normalnej (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0 ) dla tranzystora npn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można uprościć do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00720" y="3041640"/>
            <a:ext cx="3798720" cy="155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1 -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Ebersa - Molla dla tranzystora npn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 tzw. polaryzacji normaln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763920" y="2612880"/>
            <a:ext cx="3343680" cy="3070440"/>
            <a:chOff x="763920" y="2612880"/>
            <a:chExt cx="3343680" cy="3070440"/>
          </a:xfrm>
        </p:grpSpPr>
        <p:sp>
          <p:nvSpPr>
            <p:cNvPr id="263" name=""/>
            <p:cNvSpPr/>
            <p:nvPr/>
          </p:nvSpPr>
          <p:spPr>
            <a:xfrm>
              <a:off x="2292480" y="3486240"/>
              <a:ext cx="330120" cy="355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0800000">
              <a:off x="2325600" y="4809600"/>
              <a:ext cx="239760" cy="2588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295000" y="5114880"/>
              <a:ext cx="319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8520" y="4300560"/>
              <a:ext cx="118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21000" y="424188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17920" y="300528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55920" y="307800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55920" y="562464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48000" y="5114880"/>
              <a:ext cx="0" cy="5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55920" y="307800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17920" y="553896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47680" y="4255920"/>
              <a:ext cx="1335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1378080" y="3097080"/>
                  <a:ext cx="900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2468520" y="4300560"/>
              <a:ext cx="0" cy="40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00320" y="26128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47880" y="44416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3920" y="4503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07280" y="267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92480" y="3689280"/>
              <a:ext cx="330120" cy="357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55920" y="3471840"/>
              <a:ext cx="144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68520" y="3925800"/>
              <a:ext cx="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3122280" y="307800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65520" y="562464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41520" y="4300560"/>
              <a:ext cx="4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57120" y="486252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58000" y="435276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2901960" y="3465360"/>
              <a:ext cx="330120" cy="609840"/>
              <a:chOff x="2901960" y="3465360"/>
              <a:chExt cx="330120" cy="609840"/>
            </a:xfrm>
          </p:grpSpPr>
          <p:sp>
            <p:nvSpPr>
              <p:cNvPr id="290" name=""/>
              <p:cNvSpPr/>
              <p:nvPr/>
            </p:nvSpPr>
            <p:spPr>
              <a:xfrm>
                <a:off x="2901960" y="3479760"/>
                <a:ext cx="330120" cy="355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01960" y="3683160"/>
                <a:ext cx="330120" cy="357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065400" y="3465360"/>
                <a:ext cx="180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3070080" y="308628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70320" y="4303800"/>
              <a:ext cx="59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070080" y="40381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77440" y="3557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21120" y="301320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462560" y="488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2209680" y="1371600"/>
            <a:ext cx="3927960" cy="2212200"/>
            <a:chOff x="2209680" y="1371600"/>
            <a:chExt cx="3927960" cy="2212200"/>
          </a:xfrm>
        </p:grpSpPr>
        <p:sp>
          <p:nvSpPr>
            <p:cNvPr id="300" name=""/>
            <p:cNvSpPr/>
            <p:nvPr/>
          </p:nvSpPr>
          <p:spPr>
            <a:xfrm rot="10800000">
              <a:off x="3879720" y="2437920"/>
              <a:ext cx="193680" cy="193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3853800" y="2666880"/>
              <a:ext cx="25884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47760" y="2057040"/>
              <a:ext cx="958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4630320" y="1985760"/>
              <a:ext cx="968400" cy="107640"/>
              <a:chOff x="4630320" y="1985760"/>
              <a:chExt cx="968400" cy="107640"/>
            </a:xfrm>
          </p:grpSpPr>
          <p:sp>
            <p:nvSpPr>
              <p:cNvPr id="304" name=""/>
              <p:cNvSpPr/>
              <p:nvPr/>
            </p:nvSpPr>
            <p:spPr>
              <a:xfrm>
                <a:off x="5490720" y="1985760"/>
                <a:ext cx="108000" cy="1076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30320" y="2040840"/>
                <a:ext cx="860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047760" y="3047760"/>
              <a:ext cx="2514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78000" y="2666880"/>
              <a:ext cx="0" cy="380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95680" y="243828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95680" y="259056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27440" y="2427120"/>
              <a:ext cx="144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7668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19520" y="2039760"/>
              <a:ext cx="0" cy="39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30680" y="2984400"/>
              <a:ext cx="108000" cy="1072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25360" y="201096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4794120" y="2438280"/>
                  <a:ext cx="53964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16" name=""/>
            <p:cNvSpPr/>
            <p:nvPr/>
          </p:nvSpPr>
          <p:spPr>
            <a:xfrm>
              <a:off x="4952880" y="1523880"/>
              <a:ext cx="39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09680" y="236196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92360" y="1371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40840" y="1599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76560" y="31240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82680" y="2057040"/>
              <a:ext cx="0" cy="388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952880" y="20397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44680" y="205704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74600" y="236196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428640" y="1371600"/>
              <a:ext cx="392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27440" y="2666880"/>
              <a:ext cx="0" cy="388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9760" y="298584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4632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56236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97144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89320" y="298440"/>
            <a:ext cx="77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praktyce projektowej model ten bywa stosowany w post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dstawionej na poniższym rysunk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508120" y="4343400"/>
                <a:ext cx="359568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S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E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1136880" y="3429000"/>
            <a:ext cx="61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modelu tym prądy bazy i kolektora wynosz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521240" y="5421240"/>
                <a:ext cx="13730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19600" y="457200"/>
            <a:ext cx="86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ydwa modele są zgodne, gdy pomiędzy ich parametrami zachodz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tępujące związk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039680" y="1600200"/>
                <a:ext cx="6303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1144080" y="220968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ą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141720" y="254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915480" y="3429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741240" y="3798720"/>
                <a:ext cx="74757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530280" y="49528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392120" y="5548320"/>
                <a:ext cx="55976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04920" y="228600"/>
            <a:ext cx="845820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temperatura złącza tranzystora bipolarnego jest wys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bliska maksymalnej temperaturze złącza przyjmowanej zwy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krzemu jako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170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) , to może być konieczne uwzględnienie w modelu tranzystora  zerowego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10800000">
            <a:off x="3443400" y="3043080"/>
            <a:ext cx="239760" cy="2080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413160" y="3287880"/>
            <a:ext cx="318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17760" y="2637000"/>
            <a:ext cx="1182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84720" y="2570040"/>
            <a:ext cx="133560" cy="1144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70400" y="2627280"/>
            <a:ext cx="1714320" cy="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17760" y="3693960"/>
            <a:ext cx="36669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65440" y="3287880"/>
            <a:ext cx="0" cy="406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03720" y="3043080"/>
            <a:ext cx="330120" cy="285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03720" y="3206880"/>
            <a:ext cx="330120" cy="284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67160" y="3032280"/>
            <a:ext cx="1800" cy="488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03800" y="3633840"/>
            <a:ext cx="889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56000" y="2617920"/>
            <a:ext cx="0" cy="42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3627360"/>
            <a:ext cx="133560" cy="1144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66920" y="2587680"/>
            <a:ext cx="133560" cy="1159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694400" y="3065400"/>
                <a:ext cx="12826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768920" y="2066760"/>
            <a:ext cx="48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82760" y="2962440"/>
            <a:ext cx="84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5436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10680" y="1986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73520" y="377676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71920" y="2637000"/>
            <a:ext cx="0" cy="415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768560" y="2617920"/>
            <a:ext cx="376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60760" y="2637000"/>
            <a:ext cx="469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79560" y="2962440"/>
            <a:ext cx="56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87560" y="1905120"/>
            <a:ext cx="48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67160" y="3287880"/>
            <a:ext cx="0" cy="415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4560" y="3629160"/>
            <a:ext cx="133200" cy="1141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25840" y="3633840"/>
            <a:ext cx="889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178680" y="2800080"/>
            <a:ext cx="0" cy="731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322360" y="2800080"/>
            <a:ext cx="0" cy="731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52720" y="426708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tranzystora z prądem zerow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2000" y="4876920"/>
            <a:ext cx="74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nieją następujące związki pomiędzy prądami zerowy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000160" y="5470560"/>
                <a:ext cx="453708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yzac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9400" y="2306520"/>
            <a:ext cx="901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yzacja polega na zastąpieniu nieliniowej funkcji opisującej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u przez funkcję liniową, która jest przybliżeniem tej pierwsz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pewnym niewielkim zakresie zmian jej argume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 otoczeniu punktu pracy Q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yzacja diody przy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57360" y="988920"/>
            <a:ext cx="1902960" cy="1087560"/>
            <a:chOff x="657360" y="988920"/>
            <a:chExt cx="1902960" cy="1087560"/>
          </a:xfrm>
        </p:grpSpPr>
        <p:sp>
          <p:nvSpPr>
            <p:cNvPr id="382" name=""/>
            <p:cNvSpPr/>
            <p:nvPr/>
          </p:nvSpPr>
          <p:spPr>
            <a:xfrm>
              <a:off x="1663920" y="988920"/>
              <a:ext cx="727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657360" y="993960"/>
              <a:ext cx="1902960" cy="1082520"/>
              <a:chOff x="657360" y="993960"/>
              <a:chExt cx="1902960" cy="1082520"/>
            </a:xfrm>
          </p:grpSpPr>
          <p:sp>
            <p:nvSpPr>
              <p:cNvPr id="384" name=""/>
              <p:cNvSpPr/>
              <p:nvPr/>
            </p:nvSpPr>
            <p:spPr>
              <a:xfrm rot="10800000">
                <a:off x="2326680" y="1420920"/>
                <a:ext cx="193320" cy="19368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301840" y="1649520"/>
                <a:ext cx="2584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95440" y="1040040"/>
                <a:ext cx="9583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95440" y="2030400"/>
                <a:ext cx="9248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425680" y="1649520"/>
                <a:ext cx="0" cy="380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373040" y="99396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7360" y="1344600"/>
                <a:ext cx="685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430360" y="1040040"/>
                <a:ext cx="0" cy="38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92000" y="1040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87440" y="196848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1419120" y="1191960"/>
                <a:ext cx="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222720" y="1004760"/>
                <a:ext cx="320040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77880" y="2117880"/>
                <a:ext cx="757224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5899320" y="3006720"/>
            <a:ext cx="2387520" cy="1150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083120" y="3833640"/>
            <a:ext cx="1866960" cy="903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00360" y="5570640"/>
            <a:ext cx="63504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019320" y="428616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19320" y="613584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30720" y="5246640"/>
            <a:ext cx="111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30520" y="5457960"/>
            <a:ext cx="10328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D0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U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DQ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625400" y="42829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566720" y="6481800"/>
            <a:ext cx="242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66880" y="4282920"/>
            <a:ext cx="811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66560" y="38019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484280" y="435420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0000" y="46846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05040" y="5227560"/>
            <a:ext cx="635040" cy="56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32280" y="54388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95640" y="4305240"/>
            <a:ext cx="0" cy="21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97360" y="5056200"/>
            <a:ext cx="19368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94200" y="454032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9120" y="2811600"/>
            <a:ext cx="1376280" cy="16207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45040" y="4268880"/>
            <a:ext cx="2163600" cy="10382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41560" y="3079800"/>
            <a:ext cx="3844800" cy="10033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21120" y="4594320"/>
            <a:ext cx="0" cy="3715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106440" y="4132440"/>
            <a:ext cx="469800" cy="5061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32760" y="595476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odel linowy - wielkosygnał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yzacja diody - parametry modelu lin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701640" y="1789200"/>
                <a:ext cx="775800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25mV,  m</m:t>
                        </m: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ypowo 1,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 flipV="1">
            <a:off x="2998800" y="3930120"/>
            <a:ext cx="1782720" cy="16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57560" y="4525920"/>
            <a:ext cx="193680" cy="582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25720" y="5583240"/>
            <a:ext cx="63504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344680" y="56368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2344680" y="509076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362320" y="4260960"/>
            <a:ext cx="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344680" y="614844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34520" y="4640400"/>
            <a:ext cx="98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83440" y="5632560"/>
            <a:ext cx="11318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950400" y="4295880"/>
            <a:ext cx="141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891720" y="6494400"/>
            <a:ext cx="141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92240" y="4295880"/>
            <a:ext cx="811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91920" y="38149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809640" y="436680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5360" y="46972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2106720" y="878040"/>
                <a:ext cx="468000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9" name=""/>
          <p:cNvGrpSpPr/>
          <p:nvPr/>
        </p:nvGrpSpPr>
        <p:grpSpPr>
          <a:xfrm>
            <a:off x="4849920" y="3427560"/>
            <a:ext cx="3477960" cy="3327840"/>
            <a:chOff x="4849920" y="3427560"/>
            <a:chExt cx="3477960" cy="3327840"/>
          </a:xfrm>
        </p:grpSpPr>
        <p:sp>
          <p:nvSpPr>
            <p:cNvPr id="440" name=""/>
            <p:cNvSpPr/>
            <p:nvPr/>
          </p:nvSpPr>
          <p:spPr>
            <a:xfrm flipV="1">
              <a:off x="5413320" y="4105800"/>
              <a:ext cx="0" cy="208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13320" y="6195960"/>
              <a:ext cx="221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408640" y="4193280"/>
              <a:ext cx="1747800" cy="1998000"/>
            </a:xfrm>
            <a:custGeom>
              <a:avLst/>
              <a:gdLst/>
              <a:ahLst/>
              <a:rect l="l" t="t" r="r" b="b"/>
              <a:pathLst>
                <a:path w="906" h="1014">
                  <a:moveTo>
                    <a:pt x="0" y="1014"/>
                  </a:moveTo>
                  <a:cubicBezTo>
                    <a:pt x="143" y="1013"/>
                    <a:pt x="288" y="1012"/>
                    <a:pt x="384" y="1010"/>
                  </a:cubicBezTo>
                  <a:cubicBezTo>
                    <a:pt x="480" y="1009"/>
                    <a:pt x="525" y="1011"/>
                    <a:pt x="579" y="1003"/>
                  </a:cubicBezTo>
                  <a:cubicBezTo>
                    <a:pt x="633" y="995"/>
                    <a:pt x="673" y="991"/>
                    <a:pt x="708" y="962"/>
                  </a:cubicBezTo>
                  <a:cubicBezTo>
                    <a:pt x="743" y="933"/>
                    <a:pt x="767" y="879"/>
                    <a:pt x="788" y="830"/>
                  </a:cubicBezTo>
                  <a:cubicBezTo>
                    <a:pt x="809" y="781"/>
                    <a:pt x="821" y="716"/>
                    <a:pt x="832" y="666"/>
                  </a:cubicBezTo>
                  <a:cubicBezTo>
                    <a:pt x="843" y="616"/>
                    <a:pt x="843" y="599"/>
                    <a:pt x="852" y="530"/>
                  </a:cubicBezTo>
                  <a:cubicBezTo>
                    <a:pt x="861" y="461"/>
                    <a:pt x="875" y="338"/>
                    <a:pt x="884" y="250"/>
                  </a:cubicBezTo>
                  <a:cubicBezTo>
                    <a:pt x="893" y="162"/>
                    <a:pt x="902" y="52"/>
                    <a:pt x="90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6916320" y="4338360"/>
              <a:ext cx="284040" cy="1905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978600" y="5363280"/>
              <a:ext cx="92160" cy="91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423040" y="5400000"/>
              <a:ext cx="1589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21440" y="5473800"/>
              <a:ext cx="0" cy="758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74440" y="4980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49920" y="5131440"/>
              <a:ext cx="725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63280" y="6349680"/>
              <a:ext cx="50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59720" y="5785560"/>
              <a:ext cx="66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99000" y="4064040"/>
              <a:ext cx="723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023240" y="6341040"/>
              <a:ext cx="10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7070400" y="6214680"/>
              <a:ext cx="142920" cy="16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642000" y="6252120"/>
              <a:ext cx="246240" cy="20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00960" y="3427560"/>
              <a:ext cx="1692000" cy="87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573" y="2968"/>
                  </a:moveTo>
                  <a:lnTo>
                    <a:pt x="25349" y="2968"/>
                  </a:lnTo>
                  <a:lnTo>
                    <a:pt x="25349" y="30627"/>
                  </a:lnTo>
                  <a:lnTo>
                    <a:pt x="7595" y="30013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nachylenie g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2665440" y="4627440"/>
            <a:ext cx="24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(36…40)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660680" y="2120760"/>
            <a:ext cx="5995800" cy="2221200"/>
          </a:xfrm>
          <a:custGeom>
            <a:avLst/>
            <a:gdLst/>
            <a:ahLst/>
            <a:rect l="l" t="t" r="r" b="b"/>
            <a:pathLst>
              <a:path w="3777" h="1399">
                <a:moveTo>
                  <a:pt x="510" y="67"/>
                </a:moveTo>
                <a:cubicBezTo>
                  <a:pt x="366" y="54"/>
                  <a:pt x="235" y="0"/>
                  <a:pt x="154" y="67"/>
                </a:cubicBezTo>
                <a:cubicBezTo>
                  <a:pt x="73" y="134"/>
                  <a:pt x="21" y="363"/>
                  <a:pt x="21" y="467"/>
                </a:cubicBezTo>
                <a:cubicBezTo>
                  <a:pt x="21" y="571"/>
                  <a:pt x="0" y="634"/>
                  <a:pt x="154" y="689"/>
                </a:cubicBezTo>
                <a:cubicBezTo>
                  <a:pt x="308" y="744"/>
                  <a:pt x="710" y="770"/>
                  <a:pt x="943" y="800"/>
                </a:cubicBezTo>
                <a:cubicBezTo>
                  <a:pt x="1176" y="830"/>
                  <a:pt x="1312" y="797"/>
                  <a:pt x="1554" y="867"/>
                </a:cubicBezTo>
                <a:cubicBezTo>
                  <a:pt x="1796" y="937"/>
                  <a:pt x="2125" y="1141"/>
                  <a:pt x="2399" y="1222"/>
                </a:cubicBezTo>
                <a:cubicBezTo>
                  <a:pt x="2673" y="1303"/>
                  <a:pt x="2986" y="1334"/>
                  <a:pt x="3199" y="1356"/>
                </a:cubicBezTo>
                <a:cubicBezTo>
                  <a:pt x="3412" y="1378"/>
                  <a:pt x="3583" y="1399"/>
                  <a:pt x="3677" y="1356"/>
                </a:cubicBezTo>
                <a:cubicBezTo>
                  <a:pt x="3771" y="1313"/>
                  <a:pt x="3777" y="1213"/>
                  <a:pt x="3766" y="1100"/>
                </a:cubicBezTo>
                <a:cubicBezTo>
                  <a:pt x="3755" y="987"/>
                  <a:pt x="3675" y="806"/>
                  <a:pt x="3610" y="678"/>
                </a:cubicBezTo>
                <a:cubicBezTo>
                  <a:pt x="3545" y="550"/>
                  <a:pt x="3529" y="430"/>
                  <a:pt x="3377" y="334"/>
                </a:cubicBezTo>
                <a:cubicBezTo>
                  <a:pt x="3225" y="238"/>
                  <a:pt x="2890" y="91"/>
                  <a:pt x="2699" y="100"/>
                </a:cubicBezTo>
                <a:cubicBezTo>
                  <a:pt x="2508" y="109"/>
                  <a:pt x="2443" y="346"/>
                  <a:pt x="2232" y="389"/>
                </a:cubicBezTo>
                <a:cubicBezTo>
                  <a:pt x="2021" y="432"/>
                  <a:pt x="1634" y="397"/>
                  <a:pt x="1432" y="356"/>
                </a:cubicBezTo>
                <a:cubicBezTo>
                  <a:pt x="1230" y="315"/>
                  <a:pt x="1171" y="195"/>
                  <a:pt x="1021" y="145"/>
                </a:cubicBezTo>
                <a:cubicBezTo>
                  <a:pt x="871" y="95"/>
                  <a:pt x="654" y="80"/>
                  <a:pt x="510" y="67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iniowy </a:t>
            </a: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wielkosygnałowy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model 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65240" y="151776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65240" y="167004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97000" y="1506600"/>
            <a:ext cx="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0800000">
            <a:off x="1992240" y="250812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967040" y="2736720"/>
            <a:ext cx="258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6064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68560" y="20829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5740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9700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97000" y="31179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90880" y="273672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9700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57400" y="30542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3824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265400" y="1441440"/>
                <a:ext cx="64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210816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41440" y="121608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47920" y="2127240"/>
            <a:ext cx="392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720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122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86000" y="266076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10816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424240" y="12128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347920" y="311796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57200" y="21272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97240" y="26337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60800" y="209232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75480" y="151776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775480" y="167004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07240" y="1506600"/>
            <a:ext cx="14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97052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78440" y="20829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6764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90724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907240" y="408780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0724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48560" y="40244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4812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5075280" y="1441440"/>
                <a:ext cx="647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591804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386400" y="136512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3744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92208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13520" y="380700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1804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6233760" y="12128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67440" y="212724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97600" y="22035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23000" y="2505240"/>
            <a:ext cx="176040" cy="529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35800" y="3297240"/>
            <a:ext cx="563400" cy="58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929200" y="337356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5929200" y="3862080"/>
            <a:ext cx="0" cy="23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5910120" y="303336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265800" y="3398760"/>
            <a:ext cx="71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33680" y="260028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668760" y="442260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3700440" y="5484960"/>
                <a:ext cx="1768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7" name=""/>
          <p:cNvSpPr/>
          <p:nvPr/>
        </p:nvSpPr>
        <p:spPr>
          <a:xfrm flipV="1">
            <a:off x="617400" y="3244680"/>
            <a:ext cx="0" cy="254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17400" y="5802480"/>
            <a:ext cx="261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2440" y="3343320"/>
            <a:ext cx="1616040" cy="2454120"/>
          </a:xfrm>
          <a:custGeom>
            <a:avLst/>
            <a:gdLst/>
            <a:ahLst/>
            <a:rect l="l" t="t" r="r" b="b"/>
            <a:pathLst>
              <a:path w="1018" h="1546">
                <a:moveTo>
                  <a:pt x="0" y="1546"/>
                </a:moveTo>
                <a:cubicBezTo>
                  <a:pt x="33" y="1544"/>
                  <a:pt x="118" y="1541"/>
                  <a:pt x="196" y="1538"/>
                </a:cubicBezTo>
                <a:cubicBezTo>
                  <a:pt x="274" y="1535"/>
                  <a:pt x="375" y="1537"/>
                  <a:pt x="468" y="1530"/>
                </a:cubicBezTo>
                <a:cubicBezTo>
                  <a:pt x="561" y="1523"/>
                  <a:pt x="684" y="1509"/>
                  <a:pt x="752" y="1494"/>
                </a:cubicBezTo>
                <a:cubicBezTo>
                  <a:pt x="820" y="1479"/>
                  <a:pt x="842" y="1500"/>
                  <a:pt x="876" y="1438"/>
                </a:cubicBezTo>
                <a:cubicBezTo>
                  <a:pt x="910" y="1376"/>
                  <a:pt x="932" y="1362"/>
                  <a:pt x="956" y="1122"/>
                </a:cubicBezTo>
                <a:cubicBezTo>
                  <a:pt x="980" y="882"/>
                  <a:pt x="1005" y="234"/>
                  <a:pt x="1018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2055600" y="3333600"/>
            <a:ext cx="331560" cy="2460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609120" y="5194440"/>
            <a:ext cx="15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139840" y="5194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14440" y="5856120"/>
            <a:ext cx="66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51720" y="5850000"/>
            <a:ext cx="62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02480" y="486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45560" y="314640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84240" y="527220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1714680" y="5810040"/>
            <a:ext cx="33336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162160" y="5838840"/>
            <a:ext cx="8568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9760" y="477504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22600" y="790560"/>
            <a:ext cx="1182600" cy="88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86080" y="3011400"/>
            <a:ext cx="2349360" cy="3682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inearyzacja złącza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78400" y="828720"/>
            <a:ext cx="3662280" cy="3786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 flipV="1">
            <a:off x="650880" y="1242720"/>
            <a:ext cx="0" cy="390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5172120"/>
            <a:ext cx="489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55560" y="1395360"/>
            <a:ext cx="2673360" cy="3764160"/>
          </a:xfrm>
          <a:custGeom>
            <a:avLst/>
            <a:gdLst/>
            <a:ahLst/>
            <a:rect l="l" t="t" r="r" b="b"/>
            <a:pathLst>
              <a:path w="1684" h="2371">
                <a:moveTo>
                  <a:pt x="0" y="2371"/>
                </a:moveTo>
                <a:cubicBezTo>
                  <a:pt x="30" y="2368"/>
                  <a:pt x="78" y="2361"/>
                  <a:pt x="179" y="2355"/>
                </a:cubicBezTo>
                <a:cubicBezTo>
                  <a:pt x="280" y="2349"/>
                  <a:pt x="458" y="2342"/>
                  <a:pt x="608" y="2332"/>
                </a:cubicBezTo>
                <a:cubicBezTo>
                  <a:pt x="758" y="2322"/>
                  <a:pt x="953" y="2315"/>
                  <a:pt x="1078" y="2295"/>
                </a:cubicBezTo>
                <a:cubicBezTo>
                  <a:pt x="1203" y="2275"/>
                  <a:pt x="1283" y="2304"/>
                  <a:pt x="1361" y="2209"/>
                </a:cubicBezTo>
                <a:cubicBezTo>
                  <a:pt x="1438" y="2114"/>
                  <a:pt x="1488" y="2092"/>
                  <a:pt x="1543" y="1724"/>
                </a:cubicBezTo>
                <a:cubicBezTo>
                  <a:pt x="1597" y="1355"/>
                  <a:pt x="1654" y="359"/>
                  <a:pt x="1684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630360" y="4238640"/>
            <a:ext cx="293184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70080" y="4238640"/>
            <a:ext cx="0" cy="138276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14040" y="540540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10080" y="55656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0120" y="114156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46760" y="468144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398680" y="5218200"/>
            <a:ext cx="644400" cy="371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9680" y="3927600"/>
            <a:ext cx="57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789280" y="5659560"/>
            <a:ext cx="789120" cy="839520"/>
            <a:chOff x="2789280" y="5659560"/>
            <a:chExt cx="789120" cy="839520"/>
          </a:xfrm>
        </p:grpSpPr>
        <p:sp>
          <p:nvSpPr>
            <p:cNvPr id="546" name=""/>
            <p:cNvSpPr/>
            <p:nvPr/>
          </p:nvSpPr>
          <p:spPr>
            <a:xfrm>
              <a:off x="3076200" y="5659560"/>
              <a:ext cx="0" cy="839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89280" y="5757840"/>
              <a:ext cx="7891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16200000">
              <a:off x="2775960" y="5942160"/>
              <a:ext cx="586800" cy="24552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190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3498840" y="4227480"/>
            <a:ext cx="11365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3597120" y="2703240"/>
            <a:ext cx="0" cy="2174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611520" y="3387600"/>
            <a:ext cx="649440" cy="1333800"/>
          </a:xfrm>
          <a:custGeom>
            <a:avLst/>
            <a:gdLst/>
            <a:ahLst/>
            <a:rect l="l" t="t" r="r" b="b"/>
            <a:pathLst>
              <a:path w="409" h="840">
                <a:moveTo>
                  <a:pt x="409" y="413"/>
                </a:moveTo>
                <a:cubicBezTo>
                  <a:pt x="394" y="531"/>
                  <a:pt x="378" y="649"/>
                  <a:pt x="362" y="720"/>
                </a:cubicBezTo>
                <a:cubicBezTo>
                  <a:pt x="346" y="791"/>
                  <a:pt x="333" y="840"/>
                  <a:pt x="316" y="840"/>
                </a:cubicBezTo>
                <a:cubicBezTo>
                  <a:pt x="298" y="840"/>
                  <a:pt x="273" y="790"/>
                  <a:pt x="257" y="720"/>
                </a:cubicBezTo>
                <a:cubicBezTo>
                  <a:pt x="241" y="650"/>
                  <a:pt x="231" y="516"/>
                  <a:pt x="219" y="421"/>
                </a:cubicBezTo>
                <a:cubicBezTo>
                  <a:pt x="206" y="325"/>
                  <a:pt x="197" y="214"/>
                  <a:pt x="180" y="144"/>
                </a:cubicBezTo>
                <a:cubicBezTo>
                  <a:pt x="163" y="73"/>
                  <a:pt x="135" y="3"/>
                  <a:pt x="118" y="1"/>
                </a:cubicBezTo>
                <a:cubicBezTo>
                  <a:pt x="100" y="0"/>
                  <a:pt x="95" y="48"/>
                  <a:pt x="75" y="136"/>
                </a:cubicBezTo>
                <a:cubicBezTo>
                  <a:pt x="55" y="224"/>
                  <a:pt x="16" y="449"/>
                  <a:pt x="0" y="531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719520" y="268776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192480" y="3423960"/>
            <a:ext cx="0" cy="249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943360" y="4738320"/>
            <a:ext cx="0" cy="14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968560" y="4726080"/>
            <a:ext cx="107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78080" y="340200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89240" y="62262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27440" y="4040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66920" y="2900520"/>
            <a:ext cx="768240" cy="1303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95080" y="163440"/>
            <a:ext cx="67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jęcie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ygnał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 liniowym układzie elektronicz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10800000">
            <a:off x="8226360" y="201456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8201160" y="2243160"/>
            <a:ext cx="25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394400" y="1633680"/>
            <a:ext cx="959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394400" y="2624040"/>
            <a:ext cx="925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325000" y="224316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272360" y="15876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853240" y="1951200"/>
            <a:ext cx="156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29680" y="1633680"/>
            <a:ext cx="0" cy="388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591320" y="1633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86760" y="2562120"/>
            <a:ext cx="10764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318440" y="17856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500880" y="110016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69800" y="33717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4008600" y="3624120"/>
            <a:ext cx="939600" cy="1368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41800" y="59371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obu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 flipV="1">
            <a:off x="3352680" y="6037200"/>
            <a:ext cx="766800" cy="98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57000" y="247500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tyczny punkt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78720" y="4327560"/>
            <a:ext cx="193680" cy="58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247240" y="5384880"/>
            <a:ext cx="63468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8566200" y="543852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8566200" y="489240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8583480" y="4061880"/>
            <a:ext cx="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566200" y="59500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384680" y="435456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19440" y="5483160"/>
            <a:ext cx="10263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172280" y="408456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7126200" y="629748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00800" y="4084560"/>
            <a:ext cx="811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031160" y="416844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686560" y="4379760"/>
            <a:ext cx="14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8771040" y="4230720"/>
            <a:ext cx="0" cy="7048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02560" y="363996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43080" y="4206960"/>
            <a:ext cx="74880" cy="74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47840" y="3344760"/>
            <a:ext cx="74880" cy="748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898720" y="4730760"/>
            <a:ext cx="74520" cy="74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94520" y="42768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zmiany p. p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370240" y="4385880"/>
            <a:ext cx="476280" cy="73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95760" y="3395520"/>
            <a:ext cx="223560" cy="1357560"/>
          </a:xfrm>
          <a:custGeom>
            <a:avLst/>
            <a:gdLst/>
            <a:ahLst/>
            <a:rect l="l" t="t" r="r" b="b"/>
            <a:pathLst>
              <a:path w="141" h="729">
                <a:moveTo>
                  <a:pt x="141" y="0"/>
                </a:moveTo>
                <a:cubicBezTo>
                  <a:pt x="130" y="96"/>
                  <a:pt x="119" y="192"/>
                  <a:pt x="102" y="291"/>
                </a:cubicBezTo>
                <a:cubicBezTo>
                  <a:pt x="85" y="390"/>
                  <a:pt x="53" y="521"/>
                  <a:pt x="36" y="594"/>
                </a:cubicBezTo>
                <a:cubicBezTo>
                  <a:pt x="19" y="667"/>
                  <a:pt x="9" y="698"/>
                  <a:pt x="0" y="729"/>
                </a:cubicBezTo>
              </a:path>
            </a:pathLst>
          </a:custGeom>
          <a:noFill/>
          <a:ln w="9360">
            <a:solidFill>
              <a:srgbClr val="008000"/>
            </a:solidFill>
            <a:round/>
            <a:headEnd len="lg" type="arrow" w="med"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33840" y="5554800"/>
            <a:ext cx="21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179520" y="556740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790640" y="2517840"/>
            <a:ext cx="56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gnał jest to zmiana punktu pra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ówimy o chwilowym punkcie p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27920" y="2297160"/>
            <a:ext cx="771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gzamin pisem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arunkiem przystąpienia jest zaliczony projekt U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81160" y="1089000"/>
            <a:ext cx="8570880" cy="448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żeli amplitudy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 wszystkich złączach pn nie przekraczają wartości 25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ówczas nieliniowe charakterystyki złą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gą być zastąpione odcinkami linii prost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ca układu w takich warunkach nazywa si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ac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nalizę układu, pracującego w takich warunkach nazyw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aliz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del małosygnałowy „hybryd - pi” tranzystora bipolarnego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usunięte źródła stało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24200" y="1595520"/>
            <a:ext cx="39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7120" y="236052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7120" y="2513160"/>
            <a:ext cx="266760" cy="266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658880" y="2349360"/>
            <a:ext cx="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22160" y="2970360"/>
            <a:ext cx="959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30440" y="292572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19280" y="20001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658880" y="20559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58880" y="43131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658880" y="2055960"/>
            <a:ext cx="0" cy="304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00200" y="42498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0120" y="293688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942840" y="2254320"/>
                <a:ext cx="520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8" name=""/>
          <p:cNvSpPr/>
          <p:nvPr/>
        </p:nvSpPr>
        <p:spPr>
          <a:xfrm>
            <a:off x="1670040" y="297036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89080" y="312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09000" y="1820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78040" y="40687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70040" y="268920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1986120" y="205596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19080" y="297036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49240" y="3046320"/>
            <a:ext cx="3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574640" y="3348000"/>
            <a:ext cx="176400" cy="53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1644480" y="4087440"/>
            <a:ext cx="0" cy="23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1662120" y="3876840"/>
            <a:ext cx="0" cy="28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46240" y="3344760"/>
            <a:ext cx="49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729720" y="3214800"/>
            <a:ext cx="141480" cy="11462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2400" y="3597120"/>
            <a:ext cx="52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0099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3375360" y="1773360"/>
            <a:ext cx="5511240" cy="3308400"/>
            <a:chOff x="3375360" y="1773360"/>
            <a:chExt cx="5511240" cy="3308400"/>
          </a:xfrm>
        </p:grpSpPr>
        <p:sp>
          <p:nvSpPr>
            <p:cNvPr id="633" name=""/>
            <p:cNvSpPr/>
            <p:nvPr/>
          </p:nvSpPr>
          <p:spPr>
            <a:xfrm>
              <a:off x="6073560" y="177336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37200" y="329400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6200000">
              <a:off x="4309200" y="279936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7008840" y="3195720"/>
              <a:ext cx="417600" cy="717480"/>
              <a:chOff x="7008840" y="3195720"/>
              <a:chExt cx="417600" cy="717480"/>
            </a:xfrm>
          </p:grpSpPr>
          <p:sp>
            <p:nvSpPr>
              <p:cNvPr id="637" name=""/>
              <p:cNvSpPr/>
              <p:nvPr/>
            </p:nvSpPr>
            <p:spPr>
              <a:xfrm>
                <a:off x="7008840" y="3195720"/>
                <a:ext cx="406440" cy="458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020000" y="3454200"/>
                <a:ext cx="406440" cy="459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239240" y="337176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5470560" y="3441600"/>
              <a:ext cx="324000" cy="81000"/>
              <a:chOff x="5470560" y="3441600"/>
              <a:chExt cx="324000" cy="81000"/>
            </a:xfrm>
          </p:grpSpPr>
          <p:sp>
            <p:nvSpPr>
              <p:cNvPr id="641" name=""/>
              <p:cNvSpPr/>
              <p:nvPr/>
            </p:nvSpPr>
            <p:spPr>
              <a:xfrm>
                <a:off x="5477040" y="3441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470560" y="3522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6078600" y="2927520"/>
              <a:ext cx="81000" cy="323280"/>
              <a:chOff x="6078600" y="2927520"/>
              <a:chExt cx="81000" cy="323280"/>
            </a:xfrm>
          </p:grpSpPr>
          <p:sp>
            <p:nvSpPr>
              <p:cNvPr id="644" name=""/>
              <p:cNvSpPr/>
              <p:nvPr/>
            </p:nvSpPr>
            <p:spPr>
              <a:xfrm flipV="1">
                <a:off x="6078600" y="292752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6159600" y="293364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3800520" y="307008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64160" y="3087720"/>
              <a:ext cx="13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5229360" y="30877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5635800" y="308736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29360" y="382896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653080" y="3529080"/>
              <a:ext cx="0" cy="66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29360" y="4164120"/>
              <a:ext cx="28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164280" y="31050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40680" y="31050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2340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75360" y="2854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503200" y="2813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067960" y="3948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753680" y="339408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840800" y="3104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85844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132440" y="246528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68680" y="3382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789880" y="3365640"/>
              <a:ext cx="70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56640" y="24480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080200" y="329580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3835080" y="3211560"/>
              <a:ext cx="141480" cy="1146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07760" y="3594240"/>
              <a:ext cx="52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99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981680" y="3317760"/>
              <a:ext cx="0" cy="811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09320" y="2465280"/>
              <a:ext cx="58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13480" y="4125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166160" y="40971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823520" y="41068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85080" y="3030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04320" y="307800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813800" y="3059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6230520" y="206424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5635800" y="229356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35800" y="231156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240680" y="2311560"/>
              <a:ext cx="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6588000" y="231156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89720" y="30607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4575240" y="4151160"/>
                  <a:ext cx="1126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4" name=""/>
                <p:cNvSpPr txBox="1"/>
                <p:nvPr/>
              </p:nvSpPr>
              <p:spPr>
                <a:xfrm>
                  <a:off x="4481640" y="4537080"/>
                  <a:ext cx="414324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ź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5" name=""/>
            <p:cNvSpPr/>
            <p:nvPr/>
          </p:nvSpPr>
          <p:spPr>
            <a:xfrm>
              <a:off x="3818160" y="307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716640" y="251928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5442120" y="3789360"/>
              <a:ext cx="1608120" cy="71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8028000" y="3105000"/>
              <a:ext cx="53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046000" y="252900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małosygnałowe modelu hybryd-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284040" y="90792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168120" y="3067200"/>
                <a:ext cx="27799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95400" y="2043000"/>
                <a:ext cx="474804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284040" y="4086360"/>
                <a:ext cx="1765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84040" y="4869000"/>
                <a:ext cx="17622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142920" y="5543640"/>
                <a:ext cx="36878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6274080" y="2254320"/>
            <a:ext cx="220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enie 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89840" y="2892600"/>
            <a:ext cx="2187360" cy="987120"/>
          </a:xfrm>
          <a:prstGeom prst="wedgeRoundRectCallout">
            <a:avLst>
              <a:gd name="adj1" fmla="val 1449"/>
              <a:gd name="adj2" fmla="val 151930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7851600" y="2930400"/>
                <a:ext cx="4366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00" name=""/>
          <p:cNvGrpSpPr/>
          <p:nvPr/>
        </p:nvGrpSpPr>
        <p:grpSpPr>
          <a:xfrm>
            <a:off x="4246200" y="4368960"/>
            <a:ext cx="4120200" cy="2034000"/>
            <a:chOff x="4246200" y="4368960"/>
            <a:chExt cx="4120200" cy="2034000"/>
          </a:xfrm>
        </p:grpSpPr>
        <p:grpSp>
          <p:nvGrpSpPr>
            <p:cNvPr id="701" name=""/>
            <p:cNvGrpSpPr/>
            <p:nvPr/>
          </p:nvGrpSpPr>
          <p:grpSpPr>
            <a:xfrm>
              <a:off x="4246200" y="4368960"/>
              <a:ext cx="4120200" cy="2034000"/>
              <a:chOff x="4246200" y="4368960"/>
              <a:chExt cx="4120200" cy="2034000"/>
            </a:xfrm>
          </p:grpSpPr>
          <p:sp>
            <p:nvSpPr>
              <p:cNvPr id="702" name=""/>
              <p:cNvSpPr/>
              <p:nvPr/>
            </p:nvSpPr>
            <p:spPr>
              <a:xfrm flipV="1">
                <a:off x="6321600" y="4410000"/>
                <a:ext cx="0" cy="146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314960" y="58482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6361200" y="4906440"/>
                <a:ext cx="47520" cy="91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4456080" y="4646520"/>
                <a:ext cx="3691080" cy="1201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6423120" y="4410000"/>
                <a:ext cx="1565280" cy="54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402240" y="5037120"/>
                <a:ext cx="1644840" cy="41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6402240" y="5403600"/>
                <a:ext cx="1644840" cy="26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46200" y="5892840"/>
                <a:ext cx="2684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   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napięcie Earleg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740360" y="589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71240" y="4368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 flipV="1">
              <a:off x="4498920" y="5749560"/>
              <a:ext cx="0" cy="17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4022640" y="1604880"/>
            <a:ext cx="370080" cy="776520"/>
          </a:xfrm>
          <a:custGeom>
            <a:avLst/>
            <a:gdLst/>
            <a:ahLst/>
            <a:rect l="l" t="t" r="r" b="b"/>
            <a:pathLst>
              <a:path w="233" h="489">
                <a:moveTo>
                  <a:pt x="200" y="489"/>
                </a:moveTo>
                <a:cubicBezTo>
                  <a:pt x="216" y="385"/>
                  <a:pt x="233" y="281"/>
                  <a:pt x="200" y="200"/>
                </a:cubicBezTo>
                <a:cubicBezTo>
                  <a:pt x="167" y="119"/>
                  <a:pt x="83" y="59"/>
                  <a:pt x="0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232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zwarciowe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spółczynnika wzmocnienia prądowego od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587600" y="1170000"/>
            <a:ext cx="0" cy="3240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17760" y="4444920"/>
            <a:ext cx="4375080" cy="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04880" y="2274840"/>
            <a:ext cx="155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174840" y="2274840"/>
            <a:ext cx="1887840" cy="217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009120" y="41832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832640" y="449892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8840" y="4462560"/>
            <a:ext cx="48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624320" y="11793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174840" y="2309760"/>
            <a:ext cx="0" cy="2135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600200" y="2271600"/>
            <a:ext cx="4013280" cy="2211480"/>
          </a:xfrm>
          <a:custGeom>
            <a:avLst/>
            <a:gdLst/>
            <a:ahLst/>
            <a:rect l="l" t="t" r="r" b="b"/>
            <a:pathLst>
              <a:path w="2528" h="1393">
                <a:moveTo>
                  <a:pt x="0" y="9"/>
                </a:moveTo>
                <a:cubicBezTo>
                  <a:pt x="255" y="4"/>
                  <a:pt x="511" y="0"/>
                  <a:pt x="656" y="9"/>
                </a:cubicBezTo>
                <a:cubicBezTo>
                  <a:pt x="801" y="18"/>
                  <a:pt x="792" y="26"/>
                  <a:pt x="872" y="65"/>
                </a:cubicBezTo>
                <a:cubicBezTo>
                  <a:pt x="952" y="104"/>
                  <a:pt x="957" y="70"/>
                  <a:pt x="1136" y="241"/>
                </a:cubicBezTo>
                <a:cubicBezTo>
                  <a:pt x="1315" y="412"/>
                  <a:pt x="1761" y="905"/>
                  <a:pt x="1944" y="1089"/>
                </a:cubicBezTo>
                <a:cubicBezTo>
                  <a:pt x="2127" y="1273"/>
                  <a:pt x="2135" y="1297"/>
                  <a:pt x="2232" y="1345"/>
                </a:cubicBezTo>
                <a:cubicBezTo>
                  <a:pt x="2329" y="1393"/>
                  <a:pt x="2479" y="1373"/>
                  <a:pt x="2528" y="137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55640" y="1828800"/>
            <a:ext cx="99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C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24520" y="1603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3174840" y="2476080"/>
            <a:ext cx="0" cy="800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74840" y="1498680"/>
            <a:ext cx="0" cy="799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173920" y="3743280"/>
            <a:ext cx="119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395280" y="4905360"/>
                <a:ext cx="3308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412920" y="6041880"/>
                <a:ext cx="2111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2" name=""/>
          <p:cNvSpPr/>
          <p:nvPr/>
        </p:nvSpPr>
        <p:spPr>
          <a:xfrm>
            <a:off x="2947320" y="6111720"/>
            <a:ext cx="2614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e wzmocnien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14280" y="4175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60680" y="16495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Times New Roman"/>
              </a:rPr>
              <a:t>[d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00800" y="421020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skala logarytmiczna 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06360" y="1492200"/>
            <a:ext cx="50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liczamy przy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ZWARCIU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lektora i emi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5568840" y="1907640"/>
            <a:ext cx="2970360" cy="1005120"/>
            <a:chOff x="5568840" y="1907640"/>
            <a:chExt cx="2970360" cy="1005120"/>
          </a:xfrm>
        </p:grpSpPr>
        <p:sp>
          <p:nvSpPr>
            <p:cNvPr id="738" name=""/>
            <p:cNvSpPr/>
            <p:nvPr/>
          </p:nvSpPr>
          <p:spPr>
            <a:xfrm>
              <a:off x="6405480" y="2406240"/>
              <a:ext cx="109440" cy="25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6200000">
              <a:off x="5900400" y="2131560"/>
              <a:ext cx="84240" cy="331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7575480" y="2358720"/>
              <a:ext cx="260280" cy="339840"/>
              <a:chOff x="7575480" y="2358720"/>
              <a:chExt cx="260280" cy="339840"/>
            </a:xfrm>
          </p:grpSpPr>
          <p:sp>
            <p:nvSpPr>
              <p:cNvPr id="741" name=""/>
              <p:cNvSpPr/>
              <p:nvPr/>
            </p:nvSpPr>
            <p:spPr>
              <a:xfrm>
                <a:off x="7575480" y="2358720"/>
                <a:ext cx="253440" cy="217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582320" y="2481120"/>
                <a:ext cx="253440" cy="217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719120" y="2441880"/>
                <a:ext cx="0" cy="19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6613560" y="2476080"/>
              <a:ext cx="201600" cy="38160"/>
              <a:chOff x="6613560" y="2476080"/>
              <a:chExt cx="201600" cy="38160"/>
            </a:xfrm>
          </p:grpSpPr>
          <p:sp>
            <p:nvSpPr>
              <p:cNvPr id="745" name=""/>
              <p:cNvSpPr/>
              <p:nvPr/>
            </p:nvSpPr>
            <p:spPr>
              <a:xfrm>
                <a:off x="6617520" y="2476080"/>
                <a:ext cx="19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613560" y="2514240"/>
                <a:ext cx="19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6993000" y="2233080"/>
              <a:ext cx="50760" cy="152280"/>
              <a:chOff x="6993000" y="2233080"/>
              <a:chExt cx="50760" cy="152280"/>
            </a:xfrm>
          </p:grpSpPr>
          <p:sp>
            <p:nvSpPr>
              <p:cNvPr id="748" name=""/>
              <p:cNvSpPr/>
              <p:nvPr/>
            </p:nvSpPr>
            <p:spPr>
              <a:xfrm flipV="1">
                <a:off x="6993000" y="2233080"/>
                <a:ext cx="0" cy="14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7043760" y="2235960"/>
                <a:ext cx="0" cy="14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5568840" y="230004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108480" y="2307960"/>
              <a:ext cx="87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6462720" y="2307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6716520" y="2307600"/>
              <a:ext cx="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462720" y="265860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727680" y="251748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605200" y="2817360"/>
              <a:ext cx="26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047000" y="2317320"/>
              <a:ext cx="123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719840" y="23173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08680" y="270000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040600" y="2454120"/>
              <a:ext cx="109440" cy="24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8094600" y="231696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105760" y="270000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02480" y="2798280"/>
              <a:ext cx="45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672320" y="2785680"/>
              <a:ext cx="4752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083440" y="2790360"/>
              <a:ext cx="4752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33920" y="2280960"/>
              <a:ext cx="4788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96080" y="2303280"/>
              <a:ext cx="475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78760" y="2295360"/>
              <a:ext cx="4608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6200000">
              <a:off x="7100640" y="1783440"/>
              <a:ext cx="83880" cy="33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6716520" y="193284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716520" y="194112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7719840" y="194076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7311960" y="1941120"/>
              <a:ext cx="4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688080" y="2295360"/>
              <a:ext cx="4608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6053040" y="2811240"/>
                  <a:ext cx="71280" cy="1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8227800" y="2323800"/>
              <a:ext cx="311400" cy="501480"/>
            </a:xfrm>
            <a:custGeom>
              <a:avLst/>
              <a:gdLst/>
              <a:ahLst/>
              <a:rect l="l" t="t" r="r" b="b"/>
              <a:pathLst>
                <a:path w="196" h="316">
                  <a:moveTo>
                    <a:pt x="24" y="0"/>
                  </a:moveTo>
                  <a:lnTo>
                    <a:pt x="196" y="0"/>
                  </a:lnTo>
                  <a:lnTo>
                    <a:pt x="196" y="316"/>
                  </a:lnTo>
                  <a:lnTo>
                    <a:pt x="0" y="3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3460680" y="2286000"/>
            <a:ext cx="1623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)=0,707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Times New Roman"/>
              </a:rPr>
              <a:t>A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33480" y="2278080"/>
            <a:ext cx="896760" cy="370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1620360" y="2486160"/>
            <a:ext cx="154620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pola wzmocnieni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prądu emitera i napięcia kolektor-em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617400" y="1717560"/>
            <a:ext cx="7128360" cy="3948840"/>
            <a:chOff x="617400" y="1717560"/>
            <a:chExt cx="7128360" cy="3948840"/>
          </a:xfrm>
        </p:grpSpPr>
        <p:sp>
          <p:nvSpPr>
            <p:cNvPr id="782" name=""/>
            <p:cNvSpPr/>
            <p:nvPr/>
          </p:nvSpPr>
          <p:spPr>
            <a:xfrm flipV="1">
              <a:off x="723960" y="1991880"/>
              <a:ext cx="0" cy="29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17400" y="4921200"/>
              <a:ext cx="28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905040" y="1717560"/>
              <a:ext cx="49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047400" y="511020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ff6600"/>
                  </a:solidFill>
                  <a:latin typeface="Times New Roman"/>
                </a:rPr>
                <a:t>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17640" y="2727360"/>
              <a:ext cx="2311200" cy="852480"/>
            </a:xfrm>
            <a:custGeom>
              <a:avLst/>
              <a:gdLst/>
              <a:ahLst/>
              <a:rect l="l" t="t" r="r" b="b"/>
              <a:pathLst>
                <a:path w="1456" h="537">
                  <a:moveTo>
                    <a:pt x="0" y="537"/>
                  </a:moveTo>
                  <a:cubicBezTo>
                    <a:pt x="83" y="454"/>
                    <a:pt x="166" y="371"/>
                    <a:pt x="244" y="304"/>
                  </a:cubicBezTo>
                  <a:cubicBezTo>
                    <a:pt x="322" y="237"/>
                    <a:pt x="387" y="185"/>
                    <a:pt x="467" y="137"/>
                  </a:cubicBezTo>
                  <a:cubicBezTo>
                    <a:pt x="547" y="89"/>
                    <a:pt x="631" y="30"/>
                    <a:pt x="722" y="15"/>
                  </a:cubicBezTo>
                  <a:cubicBezTo>
                    <a:pt x="813" y="0"/>
                    <a:pt x="918" y="10"/>
                    <a:pt x="1011" y="49"/>
                  </a:cubicBezTo>
                  <a:cubicBezTo>
                    <a:pt x="1104" y="88"/>
                    <a:pt x="1204" y="202"/>
                    <a:pt x="1278" y="248"/>
                  </a:cubicBezTo>
                  <a:cubicBezTo>
                    <a:pt x="1352" y="294"/>
                    <a:pt x="1404" y="310"/>
                    <a:pt x="1456" y="32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4773600" y="2037960"/>
              <a:ext cx="0" cy="29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667400" y="4967280"/>
              <a:ext cx="28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954680" y="1763640"/>
              <a:ext cx="49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99920" y="5156280"/>
              <a:ext cx="64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10120" y="2857680"/>
              <a:ext cx="2452680" cy="863280"/>
            </a:xfrm>
            <a:custGeom>
              <a:avLst/>
              <a:gdLst/>
              <a:ahLst/>
              <a:rect l="l" t="t" r="r" b="b"/>
              <a:pathLst>
                <a:path w="1545" h="544">
                  <a:moveTo>
                    <a:pt x="0" y="544"/>
                  </a:moveTo>
                  <a:cubicBezTo>
                    <a:pt x="50" y="464"/>
                    <a:pt x="100" y="385"/>
                    <a:pt x="167" y="344"/>
                  </a:cubicBezTo>
                  <a:cubicBezTo>
                    <a:pt x="234" y="303"/>
                    <a:pt x="319" y="309"/>
                    <a:pt x="400" y="300"/>
                  </a:cubicBezTo>
                  <a:cubicBezTo>
                    <a:pt x="481" y="291"/>
                    <a:pt x="543" y="302"/>
                    <a:pt x="656" y="289"/>
                  </a:cubicBezTo>
                  <a:cubicBezTo>
                    <a:pt x="769" y="276"/>
                    <a:pt x="961" y="239"/>
                    <a:pt x="1078" y="222"/>
                  </a:cubicBezTo>
                  <a:cubicBezTo>
                    <a:pt x="1195" y="205"/>
                    <a:pt x="1278" y="226"/>
                    <a:pt x="1356" y="189"/>
                  </a:cubicBezTo>
                  <a:cubicBezTo>
                    <a:pt x="1434" y="152"/>
                    <a:pt x="1489" y="76"/>
                    <a:pt x="1545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720" y="507348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ff6600"/>
                  </a:solidFill>
                  <a:latin typeface="Times New Roman"/>
                </a:rPr>
                <a:t>Eo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2176560" y="2795760"/>
              <a:ext cx="0" cy="2041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zystora polowego, złącz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543480" y="2882880"/>
            <a:ext cx="36324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30480" y="134604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666960" y="1706400"/>
            <a:ext cx="1731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741840" y="17413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666960" y="2454120"/>
            <a:ext cx="21276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763800" y="2489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3875040" y="1927080"/>
            <a:ext cx="800280" cy="3056040"/>
            <a:chOff x="3875040" y="1927080"/>
            <a:chExt cx="800280" cy="3056040"/>
          </a:xfrm>
        </p:grpSpPr>
        <p:sp>
          <p:nvSpPr>
            <p:cNvPr id="802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  <a:lnTo>
                    <a:pt x="504" y="192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3817800" y="1347840"/>
            <a:ext cx="93960" cy="3635280"/>
            <a:chOff x="3817800" y="1347840"/>
            <a:chExt cx="93960" cy="3635280"/>
          </a:xfrm>
        </p:grpSpPr>
        <p:sp>
          <p:nvSpPr>
            <p:cNvPr id="805" name=""/>
            <p:cNvSpPr/>
            <p:nvPr/>
          </p:nvSpPr>
          <p:spPr>
            <a:xfrm>
              <a:off x="3862440" y="1432080"/>
              <a:ext cx="1440" cy="35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817800" y="1347840"/>
              <a:ext cx="9396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59"/>
                  </a:moveTo>
                  <a:lnTo>
                    <a:pt x="28" y="0"/>
                  </a:lnTo>
                  <a:lnTo>
                    <a:pt x="0" y="59"/>
                  </a:lnTo>
                  <a:lnTo>
                    <a:pt x="5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452600" y="4938840"/>
            <a:ext cx="6238800" cy="96840"/>
            <a:chOff x="1452600" y="4938840"/>
            <a:chExt cx="6238800" cy="96840"/>
          </a:xfrm>
        </p:grpSpPr>
        <p:sp>
          <p:nvSpPr>
            <p:cNvPr id="808" name=""/>
            <p:cNvSpPr/>
            <p:nvPr/>
          </p:nvSpPr>
          <p:spPr>
            <a:xfrm flipH="1">
              <a:off x="1536840" y="4987800"/>
              <a:ext cx="6070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599240" y="49435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58" y="28"/>
                  </a:lnTo>
                  <a:lnTo>
                    <a:pt x="0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452600" y="49388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0" y="31"/>
                  </a:lnTo>
                  <a:lnTo>
                    <a:pt x="58" y="5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3106800" y="4889520"/>
            <a:ext cx="324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34936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75040" y="256392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5040" y="177804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862440" y="3363840"/>
            <a:ext cx="96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875040" y="4208400"/>
            <a:ext cx="98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44040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583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737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4689360" y="1829880"/>
            <a:ext cx="2144880" cy="96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875040" y="3197160"/>
            <a:ext cx="800280" cy="1754280"/>
            <a:chOff x="3875040" y="3197160"/>
            <a:chExt cx="800280" cy="1754280"/>
          </a:xfrm>
        </p:grpSpPr>
        <p:sp>
          <p:nvSpPr>
            <p:cNvPr id="822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  <a:lnTo>
                    <a:pt x="504" y="110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 flipV="1">
            <a:off x="4689360" y="3046320"/>
            <a:ext cx="214488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3875040" y="4302000"/>
            <a:ext cx="376200" cy="636840"/>
            <a:chOff x="3875040" y="4302000"/>
            <a:chExt cx="376200" cy="636840"/>
          </a:xfrm>
        </p:grpSpPr>
        <p:sp>
          <p:nvSpPr>
            <p:cNvPr id="826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  <a:lnTo>
                    <a:pt x="237" y="401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 flipV="1">
            <a:off x="4246560" y="4151160"/>
            <a:ext cx="2573280" cy="168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3889440" y="4775040"/>
            <a:ext cx="207720" cy="123840"/>
            <a:chOff x="3889440" y="4775040"/>
            <a:chExt cx="207720" cy="123840"/>
          </a:xfrm>
        </p:grpSpPr>
        <p:sp>
          <p:nvSpPr>
            <p:cNvPr id="830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  <a:lnTo>
                    <a:pt x="131" y="78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 flipV="1">
            <a:off x="4083120" y="4651200"/>
            <a:ext cx="2736720" cy="123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581120" y="5022720"/>
            <a:ext cx="3920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253880" y="4714920"/>
            <a:ext cx="272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473280" y="1305000"/>
            <a:ext cx="3542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610800" y="134460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668400" y="1432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59040" y="2201760"/>
            <a:ext cx="861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71000" y="22417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02760" y="23302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255760" y="224172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5062680"/>
            <a:ext cx="393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337520" y="51022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506720" y="51912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1320" y="2771640"/>
            <a:ext cx="103824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668200" y="28083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800320" y="28954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951160" y="2808360"/>
            <a:ext cx="5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-0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697360" y="1538280"/>
            <a:ext cx="6019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784120" y="15778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914440" y="16668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067080" y="15778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989680" y="4332240"/>
            <a:ext cx="55728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097320" y="4368960"/>
            <a:ext cx="4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086520" y="3859200"/>
            <a:ext cx="349200" cy="2840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162480" y="389880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7828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06756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190600" y="50101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28024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626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540760" y="50450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57520" y="326700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679920" y="33019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557520" y="40813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79920" y="41212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61016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732200" y="5045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321600" y="5022720"/>
            <a:ext cx="2696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395040" y="50576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751200" y="50227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73600" y="50576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9054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708680" y="50925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8912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705400" y="5045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871640" y="2519280"/>
            <a:ext cx="836640" cy="2844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001960" y="2568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92320" y="26575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135880" y="25686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477160" y="255096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520720" y="256860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142920" y="5468760"/>
                <a:ext cx="313848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S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3452760" y="5549760"/>
                <a:ext cx="54802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85" name=""/>
          <p:cNvSpPr/>
          <p:nvPr/>
        </p:nvSpPr>
        <p:spPr>
          <a:xfrm>
            <a:off x="2057400" y="1771560"/>
            <a:ext cx="1790640" cy="3214800"/>
          </a:xfrm>
          <a:custGeom>
            <a:avLst/>
            <a:gdLst/>
            <a:ahLst/>
            <a:rect l="l" t="t" r="r" b="b"/>
            <a:pathLst>
              <a:path w="1128" h="2025">
                <a:moveTo>
                  <a:pt x="0" y="2025"/>
                </a:moveTo>
                <a:cubicBezTo>
                  <a:pt x="50" y="2012"/>
                  <a:pt x="211" y="1992"/>
                  <a:pt x="303" y="1944"/>
                </a:cubicBezTo>
                <a:cubicBezTo>
                  <a:pt x="395" y="1896"/>
                  <a:pt x="488" y="1806"/>
                  <a:pt x="552" y="1734"/>
                </a:cubicBezTo>
                <a:cubicBezTo>
                  <a:pt x="616" y="1662"/>
                  <a:pt x="641" y="1595"/>
                  <a:pt x="684" y="1509"/>
                </a:cubicBezTo>
                <a:cubicBezTo>
                  <a:pt x="727" y="1423"/>
                  <a:pt x="754" y="1378"/>
                  <a:pt x="810" y="1218"/>
                </a:cubicBezTo>
                <a:cubicBezTo>
                  <a:pt x="866" y="1058"/>
                  <a:pt x="967" y="749"/>
                  <a:pt x="1020" y="546"/>
                </a:cubicBezTo>
                <a:cubicBezTo>
                  <a:pt x="1073" y="343"/>
                  <a:pt x="1106" y="114"/>
                  <a:pt x="112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23920" y="2162160"/>
            <a:ext cx="1843200" cy="2814480"/>
          </a:xfrm>
          <a:custGeom>
            <a:avLst/>
            <a:gdLst/>
            <a:ahLst/>
            <a:rect l="l" t="t" r="r" b="b"/>
            <a:pathLst>
              <a:path w="1161" h="1773">
                <a:moveTo>
                  <a:pt x="0" y="1773"/>
                </a:moveTo>
                <a:cubicBezTo>
                  <a:pt x="13" y="1771"/>
                  <a:pt x="43" y="1770"/>
                  <a:pt x="81" y="1758"/>
                </a:cubicBezTo>
                <a:cubicBezTo>
                  <a:pt x="119" y="1746"/>
                  <a:pt x="187" y="1717"/>
                  <a:pt x="231" y="1698"/>
                </a:cubicBezTo>
                <a:cubicBezTo>
                  <a:pt x="275" y="1679"/>
                  <a:pt x="304" y="1670"/>
                  <a:pt x="348" y="1641"/>
                </a:cubicBezTo>
                <a:cubicBezTo>
                  <a:pt x="392" y="1612"/>
                  <a:pt x="439" y="1582"/>
                  <a:pt x="495" y="1524"/>
                </a:cubicBezTo>
                <a:cubicBezTo>
                  <a:pt x="551" y="1466"/>
                  <a:pt x="617" y="1393"/>
                  <a:pt x="681" y="1296"/>
                </a:cubicBezTo>
                <a:cubicBezTo>
                  <a:pt x="745" y="1199"/>
                  <a:pt x="829" y="1047"/>
                  <a:pt x="879" y="942"/>
                </a:cubicBezTo>
                <a:cubicBezTo>
                  <a:pt x="929" y="837"/>
                  <a:pt x="950" y="756"/>
                  <a:pt x="981" y="666"/>
                </a:cubicBezTo>
                <a:cubicBezTo>
                  <a:pt x="1012" y="576"/>
                  <a:pt x="1035" y="513"/>
                  <a:pt x="1065" y="402"/>
                </a:cubicBezTo>
                <a:cubicBezTo>
                  <a:pt x="1095" y="291"/>
                  <a:pt x="1141" y="84"/>
                  <a:pt x="1161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81400" y="2085840"/>
            <a:ext cx="2676600" cy="476280"/>
          </a:xfrm>
          <a:custGeom>
            <a:avLst/>
            <a:gdLst/>
            <a:ahLst/>
            <a:rect l="l" t="t" r="r" b="b"/>
            <a:pathLst>
              <a:path w="1686" h="300">
                <a:moveTo>
                  <a:pt x="0" y="300"/>
                </a:moveTo>
                <a:cubicBezTo>
                  <a:pt x="22" y="247"/>
                  <a:pt x="44" y="194"/>
                  <a:pt x="96" y="156"/>
                </a:cubicBezTo>
                <a:cubicBezTo>
                  <a:pt x="148" y="118"/>
                  <a:pt x="47" y="98"/>
                  <a:pt x="312" y="72"/>
                </a:cubicBezTo>
                <a:cubicBezTo>
                  <a:pt x="577" y="46"/>
                  <a:pt x="1131" y="23"/>
                  <a:pt x="168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086360" y="3143160"/>
            <a:ext cx="3079440" cy="609840"/>
          </a:xfrm>
          <a:custGeom>
            <a:avLst/>
            <a:gdLst/>
            <a:ahLst/>
            <a:rect l="l" t="t" r="r" b="b"/>
            <a:pathLst>
              <a:path w="1940" h="384">
                <a:moveTo>
                  <a:pt x="0" y="384"/>
                </a:moveTo>
                <a:cubicBezTo>
                  <a:pt x="27" y="334"/>
                  <a:pt x="55" y="284"/>
                  <a:pt x="96" y="240"/>
                </a:cubicBezTo>
                <a:cubicBezTo>
                  <a:pt x="137" y="196"/>
                  <a:pt x="173" y="148"/>
                  <a:pt x="246" y="120"/>
                </a:cubicBezTo>
                <a:cubicBezTo>
                  <a:pt x="319" y="92"/>
                  <a:pt x="287" y="90"/>
                  <a:pt x="534" y="72"/>
                </a:cubicBezTo>
                <a:cubicBezTo>
                  <a:pt x="781" y="54"/>
                  <a:pt x="1516" y="24"/>
                  <a:pt x="1728" y="12"/>
                </a:cubicBezTo>
                <a:cubicBezTo>
                  <a:pt x="1940" y="0"/>
                  <a:pt x="1873" y="0"/>
                  <a:pt x="180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971880" y="4095720"/>
            <a:ext cx="2828880" cy="409680"/>
          </a:xfrm>
          <a:custGeom>
            <a:avLst/>
            <a:gdLst/>
            <a:ahLst/>
            <a:rect l="l" t="t" r="r" b="b"/>
            <a:pathLst>
              <a:path w="1782" h="258">
                <a:moveTo>
                  <a:pt x="0" y="258"/>
                </a:moveTo>
                <a:cubicBezTo>
                  <a:pt x="23" y="236"/>
                  <a:pt x="6" y="151"/>
                  <a:pt x="138" y="120"/>
                </a:cubicBezTo>
                <a:cubicBezTo>
                  <a:pt x="270" y="89"/>
                  <a:pt x="518" y="92"/>
                  <a:pt x="792" y="72"/>
                </a:cubicBezTo>
                <a:cubicBezTo>
                  <a:pt x="1066" y="52"/>
                  <a:pt x="1426" y="25"/>
                  <a:pt x="178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02040" y="4562640"/>
            <a:ext cx="2889360" cy="295200"/>
          </a:xfrm>
          <a:custGeom>
            <a:avLst/>
            <a:gdLst/>
            <a:ahLst/>
            <a:rect l="l" t="t" r="r" b="b"/>
            <a:pathLst>
              <a:path w="1820" h="186">
                <a:moveTo>
                  <a:pt x="2" y="186"/>
                </a:moveTo>
                <a:cubicBezTo>
                  <a:pt x="1" y="155"/>
                  <a:pt x="0" y="124"/>
                  <a:pt x="68" y="102"/>
                </a:cubicBezTo>
                <a:cubicBezTo>
                  <a:pt x="136" y="80"/>
                  <a:pt x="118" y="71"/>
                  <a:pt x="410" y="54"/>
                </a:cubicBezTo>
                <a:cubicBezTo>
                  <a:pt x="702" y="37"/>
                  <a:pt x="1584" y="9"/>
                  <a:pt x="182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305160" y="3114720"/>
            <a:ext cx="447840" cy="523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71520" y="303228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zrost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 flipV="1">
            <a:off x="2533320" y="4362120"/>
            <a:ext cx="523800" cy="447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846080" y="501156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076480" y="48672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84160" y="364176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utokompensa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635200" y="3921120"/>
            <a:ext cx="48276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-19440" y="-8280"/>
            <a:ext cx="906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małosygnałowy tranzystora pol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6062760" y="2862360"/>
                <a:ext cx="25700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243240" y="4352760"/>
                <a:ext cx="2122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Q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01" name=""/>
          <p:cNvGrpSpPr/>
          <p:nvPr/>
        </p:nvGrpSpPr>
        <p:grpSpPr>
          <a:xfrm>
            <a:off x="1679400" y="1954080"/>
            <a:ext cx="4669920" cy="2211480"/>
            <a:chOff x="1679400" y="1954080"/>
            <a:chExt cx="4669920" cy="2211480"/>
          </a:xfrm>
        </p:grpSpPr>
        <p:sp>
          <p:nvSpPr>
            <p:cNvPr id="902" name=""/>
            <p:cNvSpPr/>
            <p:nvPr/>
          </p:nvSpPr>
          <p:spPr>
            <a:xfrm>
              <a:off x="4761000" y="2744640"/>
              <a:ext cx="0" cy="12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3" name=""/>
            <p:cNvGrpSpPr/>
            <p:nvPr/>
          </p:nvGrpSpPr>
          <p:grpSpPr>
            <a:xfrm>
              <a:off x="4511520" y="2852640"/>
              <a:ext cx="485640" cy="826920"/>
              <a:chOff x="4511520" y="2852640"/>
              <a:chExt cx="485640" cy="826920"/>
            </a:xfrm>
          </p:grpSpPr>
          <p:sp>
            <p:nvSpPr>
              <p:cNvPr id="904" name=""/>
              <p:cNvSpPr/>
              <p:nvPr/>
            </p:nvSpPr>
            <p:spPr>
              <a:xfrm>
                <a:off x="4511520" y="2852640"/>
                <a:ext cx="472680" cy="52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524480" y="3150360"/>
                <a:ext cx="472680" cy="52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779360" y="3055320"/>
                <a:ext cx="0" cy="486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2720880" y="3100320"/>
              <a:ext cx="377280" cy="93240"/>
              <a:chOff x="2720880" y="3100320"/>
              <a:chExt cx="377280" cy="93240"/>
            </a:xfrm>
          </p:grpSpPr>
          <p:sp>
            <p:nvSpPr>
              <p:cNvPr id="908" name=""/>
              <p:cNvSpPr/>
              <p:nvPr/>
            </p:nvSpPr>
            <p:spPr>
              <a:xfrm>
                <a:off x="2728080" y="3100320"/>
                <a:ext cx="37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720880" y="3193560"/>
                <a:ext cx="37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3429000" y="2507040"/>
              <a:ext cx="93240" cy="372600"/>
              <a:chOff x="3429000" y="2507040"/>
              <a:chExt cx="93240" cy="372600"/>
            </a:xfrm>
          </p:grpSpPr>
          <p:sp>
            <p:nvSpPr>
              <p:cNvPr id="911" name=""/>
              <p:cNvSpPr/>
              <p:nvPr/>
            </p:nvSpPr>
            <p:spPr>
              <a:xfrm flipV="1">
                <a:off x="3429000" y="250704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V="1">
                <a:off x="3522240" y="251424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>
              <a:off x="2378160" y="2692440"/>
              <a:ext cx="10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2913120" y="269208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933640" y="3200400"/>
              <a:ext cx="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440080" y="3933720"/>
              <a:ext cx="332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529080" y="2711520"/>
              <a:ext cx="23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781520" y="271152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61120" y="2382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49000" y="240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43800" y="36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92400" y="3013200"/>
              <a:ext cx="81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396600" y="1954080"/>
              <a:ext cx="56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2583000" y="2793960"/>
              <a:ext cx="0" cy="93672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773000" y="297036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887560" y="3889440"/>
              <a:ext cx="874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694400" y="3855960"/>
              <a:ext cx="8712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738680" y="2681280"/>
              <a:ext cx="874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860560" y="2660760"/>
              <a:ext cx="856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0" name=""/>
                <p:cNvSpPr txBox="1"/>
                <p:nvPr/>
              </p:nvSpPr>
              <p:spPr>
                <a:xfrm>
                  <a:off x="1679400" y="3917880"/>
                  <a:ext cx="13176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931" name=""/>
            <p:cNvSpPr/>
            <p:nvPr/>
          </p:nvSpPr>
          <p:spPr>
            <a:xfrm flipH="1">
              <a:off x="5178240" y="3187800"/>
              <a:ext cx="680760" cy="12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5293800" y="2709720"/>
              <a:ext cx="39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259240" y="209880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prosta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5664240" y="2433600"/>
                <a:ext cx="24321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36" name=""/>
          <p:cNvGrpSpPr/>
          <p:nvPr/>
        </p:nvGrpSpPr>
        <p:grpSpPr>
          <a:xfrm>
            <a:off x="255600" y="1454040"/>
            <a:ext cx="4482720" cy="3106440"/>
            <a:chOff x="255600" y="1454040"/>
            <a:chExt cx="4482720" cy="3106440"/>
          </a:xfrm>
        </p:grpSpPr>
        <p:sp>
          <p:nvSpPr>
            <p:cNvPr id="937" name=""/>
            <p:cNvSpPr/>
            <p:nvPr/>
          </p:nvSpPr>
          <p:spPr>
            <a:xfrm rot="10800000">
              <a:off x="1684440" y="1622880"/>
              <a:ext cx="261720" cy="75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1639800" y="3856320"/>
              <a:ext cx="374040" cy="387360"/>
              <a:chOff x="1639800" y="3856320"/>
              <a:chExt cx="374040" cy="387360"/>
            </a:xfrm>
          </p:grpSpPr>
          <p:sp>
            <p:nvSpPr>
              <p:cNvPr id="939" name=""/>
              <p:cNvSpPr/>
              <p:nvPr/>
            </p:nvSpPr>
            <p:spPr>
              <a:xfrm>
                <a:off x="1833480" y="385632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639800" y="4207680"/>
                <a:ext cx="37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337200" y="2839680"/>
              <a:ext cx="1070640" cy="911520"/>
              <a:chOff x="3337200" y="2839680"/>
              <a:chExt cx="1070640" cy="911520"/>
            </a:xfrm>
          </p:grpSpPr>
          <p:grpSp>
            <p:nvGrpSpPr>
              <p:cNvPr id="942" name=""/>
              <p:cNvGrpSpPr/>
              <p:nvPr/>
            </p:nvGrpSpPr>
            <p:grpSpPr>
              <a:xfrm>
                <a:off x="3658320" y="3232800"/>
                <a:ext cx="749520" cy="130680"/>
                <a:chOff x="3658320" y="3232800"/>
                <a:chExt cx="749520" cy="13068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3658320" y="3232800"/>
                  <a:ext cx="749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907800" y="3363480"/>
                  <a:ext cx="24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5" name=""/>
              <p:cNvSpPr/>
              <p:nvPr/>
            </p:nvSpPr>
            <p:spPr>
              <a:xfrm>
                <a:off x="4033440" y="336384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337200" y="2839680"/>
                <a:ext cx="34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4137120" y="26013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087560" y="1715400"/>
              <a:ext cx="562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2390400" y="2784240"/>
              <a:ext cx="0" cy="94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557800" y="2915280"/>
              <a:ext cx="95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114360" y="1979640"/>
              <a:ext cx="59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649440" y="2907000"/>
              <a:ext cx="1171440" cy="906840"/>
              <a:chOff x="649440" y="2907000"/>
              <a:chExt cx="1171440" cy="906840"/>
            </a:xfrm>
          </p:grpSpPr>
          <p:sp>
            <p:nvSpPr>
              <p:cNvPr id="953" name=""/>
              <p:cNvSpPr/>
              <p:nvPr/>
            </p:nvSpPr>
            <p:spPr>
              <a:xfrm>
                <a:off x="1446480" y="3088080"/>
                <a:ext cx="0" cy="64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446480" y="3553920"/>
                <a:ext cx="374400" cy="25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V="1">
                <a:off x="1446480" y="2907000"/>
                <a:ext cx="374400" cy="38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>
                <a:off x="649440" y="34228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7" name=""/>
            <p:cNvSpPr/>
            <p:nvPr/>
          </p:nvSpPr>
          <p:spPr>
            <a:xfrm flipV="1">
              <a:off x="1803960" y="2390760"/>
              <a:ext cx="0" cy="51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1826280" y="1454040"/>
              <a:ext cx="0" cy="15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826280" y="1454040"/>
              <a:ext cx="22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4042800" y="1454040"/>
              <a:ext cx="0" cy="177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3851640" y="3769920"/>
              <a:ext cx="372600" cy="387360"/>
              <a:chOff x="3851640" y="3769920"/>
              <a:chExt cx="372600" cy="387360"/>
            </a:xfrm>
          </p:grpSpPr>
          <p:sp>
            <p:nvSpPr>
              <p:cNvPr id="962" name=""/>
              <p:cNvSpPr/>
              <p:nvPr/>
            </p:nvSpPr>
            <p:spPr>
              <a:xfrm>
                <a:off x="4044600" y="376992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851640" y="4121280"/>
                <a:ext cx="372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4" name=""/>
            <p:cNvSpPr/>
            <p:nvPr/>
          </p:nvSpPr>
          <p:spPr>
            <a:xfrm>
              <a:off x="255600" y="3134880"/>
              <a:ext cx="858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109240" y="1727640"/>
              <a:ext cx="1647360" cy="2832840"/>
            </a:xfrm>
            <a:custGeom>
              <a:avLst/>
              <a:gdLst/>
              <a:ahLst/>
              <a:rect l="l" t="t" r="r" b="b"/>
              <a:pathLst>
                <a:path w="907" h="1376">
                  <a:moveTo>
                    <a:pt x="907" y="384"/>
                  </a:moveTo>
                  <a:cubicBezTo>
                    <a:pt x="871" y="231"/>
                    <a:pt x="835" y="78"/>
                    <a:pt x="730" y="39"/>
                  </a:cubicBezTo>
                  <a:cubicBezTo>
                    <a:pt x="625" y="0"/>
                    <a:pt x="393" y="37"/>
                    <a:pt x="274" y="150"/>
                  </a:cubicBezTo>
                  <a:cubicBezTo>
                    <a:pt x="155" y="263"/>
                    <a:pt x="36" y="536"/>
                    <a:pt x="18" y="717"/>
                  </a:cubicBezTo>
                  <a:cubicBezTo>
                    <a:pt x="0" y="898"/>
                    <a:pt x="54" y="1135"/>
                    <a:pt x="163" y="1239"/>
                  </a:cubicBezTo>
                  <a:cubicBezTo>
                    <a:pt x="272" y="1343"/>
                    <a:pt x="552" y="1376"/>
                    <a:pt x="674" y="1339"/>
                  </a:cubicBezTo>
                  <a:cubicBezTo>
                    <a:pt x="796" y="1302"/>
                    <a:pt x="846" y="1159"/>
                    <a:pt x="896" y="1017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5479920" y="2387520"/>
            <a:ext cx="2857680" cy="11383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5518080" y="2417760"/>
                <a:ext cx="27241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prosta pracy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unkt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rot="10800000">
            <a:off x="1684080" y="1623600"/>
            <a:ext cx="261720" cy="75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639800" y="3855960"/>
            <a:ext cx="374400" cy="387000"/>
            <a:chOff x="1639800" y="3855960"/>
            <a:chExt cx="374400" cy="387000"/>
          </a:xfrm>
        </p:grpSpPr>
        <p:sp>
          <p:nvSpPr>
            <p:cNvPr id="972" name=""/>
            <p:cNvSpPr/>
            <p:nvPr/>
          </p:nvSpPr>
          <p:spPr>
            <a:xfrm>
              <a:off x="1833840" y="385596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639800" y="4206960"/>
              <a:ext cx="37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3336840" y="2840040"/>
            <a:ext cx="1070640" cy="910800"/>
            <a:chOff x="3336840" y="2840040"/>
            <a:chExt cx="1070640" cy="910800"/>
          </a:xfrm>
        </p:grpSpPr>
        <p:grpSp>
          <p:nvGrpSpPr>
            <p:cNvPr id="975" name=""/>
            <p:cNvGrpSpPr/>
            <p:nvPr/>
          </p:nvGrpSpPr>
          <p:grpSpPr>
            <a:xfrm>
              <a:off x="3657960" y="3232800"/>
              <a:ext cx="749520" cy="130320"/>
              <a:chOff x="3657960" y="3232800"/>
              <a:chExt cx="749520" cy="130320"/>
            </a:xfrm>
          </p:grpSpPr>
          <p:sp>
            <p:nvSpPr>
              <p:cNvPr id="976" name=""/>
              <p:cNvSpPr/>
              <p:nvPr/>
            </p:nvSpPr>
            <p:spPr>
              <a:xfrm>
                <a:off x="3657960" y="3232800"/>
                <a:ext cx="749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907440" y="3363120"/>
                <a:ext cx="24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4033440" y="336384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36840" y="2840040"/>
              <a:ext cx="34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4137120" y="26020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087560" y="171612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2390760" y="2784240"/>
            <a:ext cx="0" cy="94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57440" y="2914560"/>
            <a:ext cx="9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114720" y="1979640"/>
            <a:ext cx="59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C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649080" y="2908080"/>
            <a:ext cx="1172880" cy="906120"/>
            <a:chOff x="649080" y="2908080"/>
            <a:chExt cx="1172880" cy="906120"/>
          </a:xfrm>
        </p:grpSpPr>
        <p:sp>
          <p:nvSpPr>
            <p:cNvPr id="986" name=""/>
            <p:cNvSpPr/>
            <p:nvPr/>
          </p:nvSpPr>
          <p:spPr>
            <a:xfrm>
              <a:off x="1447200" y="3089520"/>
              <a:ext cx="0" cy="64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447200" y="3554640"/>
              <a:ext cx="374760" cy="25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1447200" y="2908080"/>
              <a:ext cx="374760" cy="38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649080" y="3423960"/>
              <a:ext cx="74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 flipV="1">
            <a:off x="1803240" y="2390760"/>
            <a:ext cx="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1827360" y="1454040"/>
            <a:ext cx="0" cy="1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827360" y="1454040"/>
            <a:ext cx="221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4043520" y="1454040"/>
            <a:ext cx="0" cy="177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3851280" y="3770280"/>
            <a:ext cx="372600" cy="387000"/>
            <a:chOff x="3851280" y="3770280"/>
            <a:chExt cx="372600" cy="387000"/>
          </a:xfrm>
        </p:grpSpPr>
        <p:sp>
          <p:nvSpPr>
            <p:cNvPr id="995" name=""/>
            <p:cNvSpPr/>
            <p:nvPr/>
          </p:nvSpPr>
          <p:spPr>
            <a:xfrm>
              <a:off x="4044240" y="377028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851280" y="4121280"/>
              <a:ext cx="37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287280" y="2949480"/>
            <a:ext cx="85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109960" y="1727280"/>
            <a:ext cx="1647720" cy="2833560"/>
          </a:xfrm>
          <a:custGeom>
            <a:avLst/>
            <a:gdLst/>
            <a:ahLst/>
            <a:rect l="l" t="t" r="r" b="b"/>
            <a:pathLst>
              <a:path w="907" h="1376">
                <a:moveTo>
                  <a:pt x="907" y="384"/>
                </a:moveTo>
                <a:cubicBezTo>
                  <a:pt x="871" y="231"/>
                  <a:pt x="835" y="78"/>
                  <a:pt x="730" y="39"/>
                </a:cubicBezTo>
                <a:cubicBezTo>
                  <a:pt x="625" y="0"/>
                  <a:pt x="393" y="37"/>
                  <a:pt x="274" y="150"/>
                </a:cubicBezTo>
                <a:cubicBezTo>
                  <a:pt x="155" y="263"/>
                  <a:pt x="36" y="536"/>
                  <a:pt x="18" y="717"/>
                </a:cubicBezTo>
                <a:cubicBezTo>
                  <a:pt x="0" y="898"/>
                  <a:pt x="54" y="1135"/>
                  <a:pt x="163" y="1239"/>
                </a:cubicBezTo>
                <a:cubicBezTo>
                  <a:pt x="272" y="1343"/>
                  <a:pt x="552" y="1376"/>
                  <a:pt x="674" y="1339"/>
                </a:cubicBezTo>
                <a:cubicBezTo>
                  <a:pt x="796" y="1302"/>
                  <a:pt x="846" y="1159"/>
                  <a:pt x="896" y="1017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800320" y="4626000"/>
            <a:ext cx="1995840" cy="5796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996160" y="40165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unkt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07080" y="379728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+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flipV="1">
            <a:off x="1063440" y="4341600"/>
            <a:ext cx="680760" cy="80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900080" y="491796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bu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 flipV="1">
            <a:off x="1800360" y="15681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93800" y="41083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1817640" y="2009520"/>
            <a:ext cx="193680" cy="20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2028960" y="1585800"/>
            <a:ext cx="284004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2006640" y="1990800"/>
            <a:ext cx="28573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1976400" y="2414160"/>
            <a:ext cx="292896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1941480" y="2908440"/>
            <a:ext cx="290988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1881360" y="3352680"/>
            <a:ext cx="298116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889280" y="3736800"/>
            <a:ext cx="294624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798800" y="36100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046960" y="13636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817640" y="2114640"/>
            <a:ext cx="2840040" cy="1976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584440" y="397512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49240" y="262728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817640" y="308628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193920" y="306720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838600" y="3154320"/>
            <a:ext cx="34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710160" y="892080"/>
            <a:ext cx="2635200" cy="680040"/>
          </a:xfrm>
          <a:noFill/>
          <a:ln w="93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tatyczna prosta pracy: nachylenie  -1/R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ta pracy, punkt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08520" y="26067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209760" y="4251240"/>
            <a:ext cx="0" cy="23986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668760" y="306864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5856120" y="1622520"/>
            <a:ext cx="0" cy="2487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891040" y="2627280"/>
            <a:ext cx="1676520" cy="79704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19200" y="138924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887480" y="453240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45600" y="456264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58600" y="28526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342240" y="6145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6297480" y="2680920"/>
            <a:ext cx="0" cy="369720"/>
          </a:xfrm>
          <a:prstGeom prst="line">
            <a:avLst/>
          </a:prstGeom>
          <a:ln w="93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698560" y="5837400"/>
            <a:ext cx="42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154200" y="21463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949760" y="560556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6327720" y="4282920"/>
                <a:ext cx="16430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9" name=""/>
          <p:cNvSpPr/>
          <p:nvPr/>
        </p:nvSpPr>
        <p:spPr>
          <a:xfrm flipV="1">
            <a:off x="3740040" y="343836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759120" y="3457440"/>
            <a:ext cx="3359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 flipV="1">
            <a:off x="4532400" y="2485440"/>
            <a:ext cx="128520" cy="8542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 flipV="1">
            <a:off x="2803320" y="2662200"/>
            <a:ext cx="936360" cy="65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174840" y="30322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16200000">
            <a:off x="2339640" y="4844520"/>
            <a:ext cx="167652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88480" y="3730680"/>
            <a:ext cx="177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584400" y="20718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odpowiedź prąd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692520" y="547848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powiedź napięci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235680" y="1924200"/>
            <a:ext cx="247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budzenie prądem b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2623680" y="2633760"/>
            <a:ext cx="3705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597040" y="2636280"/>
            <a:ext cx="0" cy="31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6600" y="1298520"/>
            <a:ext cx="80262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Usprawiedliwianie nieobecności na egzamini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Zwolnienie i wpis do książeczki zdrowia dostarcz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Z pierwszego terminu egzamin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1 tydzień lub następny termin egzaminu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(co wcześniej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Z drugiego  terminu egzamin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3 dn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ładowa stała i 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738360" y="3952800"/>
                <a:ext cx="28000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84080" y="968400"/>
                <a:ext cx="1554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4" name=""/>
          <p:cNvSpPr/>
          <p:nvPr/>
        </p:nvSpPr>
        <p:spPr>
          <a:xfrm>
            <a:off x="7292880" y="104292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79360" y="2211480"/>
                <a:ext cx="47847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I rSub { size 8{ ital </m:t>
                        </m:r>
                        <m:r>
                          <m:t xml:space="preserve">CQ</m:t>
                        </m:r>
                        <m:r>
                          <m:rPr>
                            <m:lit/>
                            <m:nor/>
                          </m:rPr>
                          <m:t xml:space="preserve">} } +ΔI rSub { size 8{C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56" name=""/>
          <p:cNvSpPr/>
          <p:nvPr/>
        </p:nvSpPr>
        <p:spPr>
          <a:xfrm rot="10800000">
            <a:off x="5694120" y="206676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7742160" y="3181320"/>
            <a:ext cx="1120320" cy="1530360"/>
            <a:chOff x="7742160" y="3181320"/>
            <a:chExt cx="1120320" cy="1530360"/>
          </a:xfrm>
        </p:grpSpPr>
        <p:grpSp>
          <p:nvGrpSpPr>
            <p:cNvPr id="1058" name=""/>
            <p:cNvGrpSpPr/>
            <p:nvPr/>
          </p:nvGrpSpPr>
          <p:grpSpPr>
            <a:xfrm>
              <a:off x="7777080" y="3728880"/>
              <a:ext cx="790200" cy="134640"/>
              <a:chOff x="7777080" y="3728880"/>
              <a:chExt cx="790200" cy="134640"/>
            </a:xfrm>
          </p:grpSpPr>
          <p:sp>
            <p:nvSpPr>
              <p:cNvPr id="1059" name=""/>
              <p:cNvSpPr/>
              <p:nvPr/>
            </p:nvSpPr>
            <p:spPr>
              <a:xfrm>
                <a:off x="7777080" y="3728880"/>
                <a:ext cx="79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040240" y="3863520"/>
                <a:ext cx="26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8172360" y="3863880"/>
              <a:ext cx="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742160" y="341784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261280" y="318132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6013440" y="2236680"/>
            <a:ext cx="8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6245280" y="3406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573880" y="3576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4602240" y="3392280"/>
            <a:ext cx="1236240" cy="936360"/>
            <a:chOff x="4602240" y="3392280"/>
            <a:chExt cx="1236240" cy="936360"/>
          </a:xfrm>
        </p:grpSpPr>
        <p:sp>
          <p:nvSpPr>
            <p:cNvPr id="1068" name=""/>
            <p:cNvSpPr/>
            <p:nvPr/>
          </p:nvSpPr>
          <p:spPr>
            <a:xfrm>
              <a:off x="5443560" y="3579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443560" y="4060440"/>
              <a:ext cx="39492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5443560" y="3392280"/>
              <a:ext cx="39492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4602240" y="3925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"/>
          <p:cNvSpPr/>
          <p:nvPr/>
        </p:nvSpPr>
        <p:spPr>
          <a:xfrm flipV="1">
            <a:off x="5819760" y="2859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5843520" y="1891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843520" y="1892160"/>
            <a:ext cx="23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8182080" y="1891800"/>
            <a:ext cx="0" cy="18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186080" y="3625920"/>
            <a:ext cx="90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062840" y="371952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611760" y="2970360"/>
            <a:ext cx="100080" cy="447480"/>
            <a:chOff x="6611760" y="2970360"/>
            <a:chExt cx="100080" cy="447480"/>
          </a:xfrm>
        </p:grpSpPr>
        <p:sp>
          <p:nvSpPr>
            <p:cNvPr id="1079" name=""/>
            <p:cNvSpPr/>
            <p:nvPr/>
          </p:nvSpPr>
          <p:spPr>
            <a:xfrm>
              <a:off x="6611760" y="297648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711840" y="297036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 flipH="1">
            <a:off x="5783040" y="3171960"/>
            <a:ext cx="8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735600" y="318924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211880" y="3189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6985080" y="4489560"/>
            <a:ext cx="393480" cy="399960"/>
            <a:chOff x="6985080" y="4489560"/>
            <a:chExt cx="393480" cy="399960"/>
          </a:xfrm>
        </p:grpSpPr>
        <p:sp>
          <p:nvSpPr>
            <p:cNvPr id="1085" name=""/>
            <p:cNvSpPr/>
            <p:nvPr/>
          </p:nvSpPr>
          <p:spPr>
            <a:xfrm>
              <a:off x="7189560" y="448956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985080" y="48625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6589800" y="39369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420600" y="3397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769000" y="3130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7966080" y="4518000"/>
            <a:ext cx="393840" cy="399960"/>
            <a:chOff x="7966080" y="4518000"/>
            <a:chExt cx="393840" cy="399960"/>
          </a:xfrm>
        </p:grpSpPr>
        <p:sp>
          <p:nvSpPr>
            <p:cNvPr id="1091" name=""/>
            <p:cNvSpPr/>
            <p:nvPr/>
          </p:nvSpPr>
          <p:spPr>
            <a:xfrm>
              <a:off x="8170920" y="4518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966080" y="48909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5603760" y="4470480"/>
            <a:ext cx="393840" cy="399960"/>
            <a:chOff x="5603760" y="4470480"/>
            <a:chExt cx="393840" cy="399960"/>
          </a:xfrm>
        </p:grpSpPr>
        <p:sp>
          <p:nvSpPr>
            <p:cNvPr id="1094" name=""/>
            <p:cNvSpPr/>
            <p:nvPr/>
          </p:nvSpPr>
          <p:spPr>
            <a:xfrm>
              <a:off x="5808600" y="4470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603760" y="4843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 flipV="1">
            <a:off x="5807160" y="4304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840280" y="2882880"/>
            <a:ext cx="1890720" cy="1647720"/>
          </a:xfrm>
          <a:custGeom>
            <a:avLst/>
            <a:gdLst/>
            <a:ahLst/>
            <a:rect l="l" t="t" r="r" b="b"/>
            <a:pathLst>
              <a:path w="1191" h="1038">
                <a:moveTo>
                  <a:pt x="1131" y="1038"/>
                </a:moveTo>
                <a:cubicBezTo>
                  <a:pt x="1096" y="1005"/>
                  <a:pt x="1062" y="973"/>
                  <a:pt x="1064" y="938"/>
                </a:cubicBezTo>
                <a:cubicBezTo>
                  <a:pt x="1066" y="903"/>
                  <a:pt x="1142" y="874"/>
                  <a:pt x="1142" y="826"/>
                </a:cubicBezTo>
                <a:cubicBezTo>
                  <a:pt x="1142" y="778"/>
                  <a:pt x="1057" y="699"/>
                  <a:pt x="1064" y="649"/>
                </a:cubicBezTo>
                <a:cubicBezTo>
                  <a:pt x="1071" y="599"/>
                  <a:pt x="1191" y="563"/>
                  <a:pt x="1186" y="526"/>
                </a:cubicBezTo>
                <a:cubicBezTo>
                  <a:pt x="1181" y="489"/>
                  <a:pt x="1042" y="465"/>
                  <a:pt x="1031" y="426"/>
                </a:cubicBezTo>
                <a:cubicBezTo>
                  <a:pt x="1020" y="387"/>
                  <a:pt x="1124" y="328"/>
                  <a:pt x="1120" y="293"/>
                </a:cubicBezTo>
                <a:cubicBezTo>
                  <a:pt x="1116" y="258"/>
                  <a:pt x="1036" y="246"/>
                  <a:pt x="1008" y="215"/>
                </a:cubicBezTo>
                <a:cubicBezTo>
                  <a:pt x="980" y="184"/>
                  <a:pt x="984" y="111"/>
                  <a:pt x="953" y="104"/>
                </a:cubicBezTo>
                <a:cubicBezTo>
                  <a:pt x="922" y="97"/>
                  <a:pt x="854" y="180"/>
                  <a:pt x="819" y="171"/>
                </a:cubicBezTo>
                <a:cubicBezTo>
                  <a:pt x="784" y="162"/>
                  <a:pt x="771" y="49"/>
                  <a:pt x="742" y="49"/>
                </a:cubicBezTo>
                <a:cubicBezTo>
                  <a:pt x="713" y="49"/>
                  <a:pt x="673" y="178"/>
                  <a:pt x="642" y="171"/>
                </a:cubicBezTo>
                <a:cubicBezTo>
                  <a:pt x="611" y="164"/>
                  <a:pt x="594" y="8"/>
                  <a:pt x="553" y="4"/>
                </a:cubicBezTo>
                <a:cubicBezTo>
                  <a:pt x="512" y="0"/>
                  <a:pt x="438" y="138"/>
                  <a:pt x="397" y="149"/>
                </a:cubicBezTo>
                <a:cubicBezTo>
                  <a:pt x="356" y="160"/>
                  <a:pt x="339" y="73"/>
                  <a:pt x="308" y="71"/>
                </a:cubicBezTo>
                <a:cubicBezTo>
                  <a:pt x="277" y="69"/>
                  <a:pt x="243" y="136"/>
                  <a:pt x="208" y="138"/>
                </a:cubicBezTo>
                <a:cubicBezTo>
                  <a:pt x="173" y="140"/>
                  <a:pt x="128" y="62"/>
                  <a:pt x="97" y="82"/>
                </a:cubicBezTo>
                <a:cubicBezTo>
                  <a:pt x="66" y="102"/>
                  <a:pt x="39" y="204"/>
                  <a:pt x="23" y="256"/>
                </a:cubicBezTo>
                <a:cubicBezTo>
                  <a:pt x="7" y="308"/>
                  <a:pt x="5" y="368"/>
                  <a:pt x="0" y="39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599600" y="3073320"/>
            <a:ext cx="4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’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068000" y="413064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810400" y="1913040"/>
            <a:ext cx="2288880" cy="1143000"/>
          </a:xfrm>
          <a:custGeom>
            <a:avLst/>
            <a:gdLst/>
            <a:ahLst/>
            <a:rect l="l" t="t" r="r" b="b"/>
            <a:pathLst>
              <a:path w="1442" h="720">
                <a:moveTo>
                  <a:pt x="1358" y="720"/>
                </a:moveTo>
                <a:cubicBezTo>
                  <a:pt x="1400" y="657"/>
                  <a:pt x="1442" y="595"/>
                  <a:pt x="1429" y="556"/>
                </a:cubicBezTo>
                <a:cubicBezTo>
                  <a:pt x="1416" y="517"/>
                  <a:pt x="1288" y="525"/>
                  <a:pt x="1280" y="486"/>
                </a:cubicBezTo>
                <a:cubicBezTo>
                  <a:pt x="1272" y="447"/>
                  <a:pt x="1395" y="360"/>
                  <a:pt x="1382" y="322"/>
                </a:cubicBezTo>
                <a:cubicBezTo>
                  <a:pt x="1369" y="284"/>
                  <a:pt x="1224" y="299"/>
                  <a:pt x="1203" y="260"/>
                </a:cubicBezTo>
                <a:cubicBezTo>
                  <a:pt x="1182" y="221"/>
                  <a:pt x="1276" y="117"/>
                  <a:pt x="1257" y="89"/>
                </a:cubicBezTo>
                <a:cubicBezTo>
                  <a:pt x="1238" y="61"/>
                  <a:pt x="1132" y="101"/>
                  <a:pt x="1086" y="89"/>
                </a:cubicBezTo>
                <a:cubicBezTo>
                  <a:pt x="1040" y="77"/>
                  <a:pt x="1019" y="13"/>
                  <a:pt x="977" y="19"/>
                </a:cubicBezTo>
                <a:cubicBezTo>
                  <a:pt x="935" y="25"/>
                  <a:pt x="874" y="131"/>
                  <a:pt x="836" y="128"/>
                </a:cubicBezTo>
                <a:cubicBezTo>
                  <a:pt x="798" y="125"/>
                  <a:pt x="781" y="6"/>
                  <a:pt x="751" y="3"/>
                </a:cubicBezTo>
                <a:cubicBezTo>
                  <a:pt x="721" y="0"/>
                  <a:pt x="687" y="112"/>
                  <a:pt x="657" y="112"/>
                </a:cubicBezTo>
                <a:cubicBezTo>
                  <a:pt x="627" y="112"/>
                  <a:pt x="598" y="0"/>
                  <a:pt x="571" y="3"/>
                </a:cubicBezTo>
                <a:cubicBezTo>
                  <a:pt x="544" y="6"/>
                  <a:pt x="528" y="123"/>
                  <a:pt x="493" y="128"/>
                </a:cubicBezTo>
                <a:cubicBezTo>
                  <a:pt x="458" y="133"/>
                  <a:pt x="393" y="29"/>
                  <a:pt x="361" y="34"/>
                </a:cubicBezTo>
                <a:cubicBezTo>
                  <a:pt x="329" y="39"/>
                  <a:pt x="295" y="123"/>
                  <a:pt x="299" y="159"/>
                </a:cubicBezTo>
                <a:cubicBezTo>
                  <a:pt x="303" y="195"/>
                  <a:pt x="398" y="226"/>
                  <a:pt x="384" y="252"/>
                </a:cubicBezTo>
                <a:cubicBezTo>
                  <a:pt x="370" y="278"/>
                  <a:pt x="230" y="283"/>
                  <a:pt x="213" y="315"/>
                </a:cubicBezTo>
                <a:cubicBezTo>
                  <a:pt x="196" y="347"/>
                  <a:pt x="312" y="389"/>
                  <a:pt x="283" y="447"/>
                </a:cubicBezTo>
                <a:cubicBezTo>
                  <a:pt x="254" y="505"/>
                  <a:pt x="82" y="620"/>
                  <a:pt x="41" y="665"/>
                </a:cubicBezTo>
                <a:cubicBezTo>
                  <a:pt x="0" y="710"/>
                  <a:pt x="17" y="715"/>
                  <a:pt x="34" y="72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492880" y="1558800"/>
            <a:ext cx="3092400" cy="1595520"/>
          </a:xfrm>
          <a:custGeom>
            <a:avLst/>
            <a:gdLst/>
            <a:ahLst/>
            <a:rect l="l" t="t" r="r" b="b"/>
            <a:pathLst>
              <a:path w="1948" h="1005">
                <a:moveTo>
                  <a:pt x="1948" y="1005"/>
                </a:moveTo>
                <a:lnTo>
                  <a:pt x="1948" y="0"/>
                </a:lnTo>
                <a:lnTo>
                  <a:pt x="0" y="0"/>
                </a:lnTo>
                <a:lnTo>
                  <a:pt x="0" y="873"/>
                </a:lnTo>
              </a:path>
            </a:pathLst>
          </a:custGeom>
          <a:noFill/>
          <a:ln w="1260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10920" y="2136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965160" y="2257560"/>
                <a:ext cx="3413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5" name=""/>
          <p:cNvSpPr/>
          <p:nvPr/>
        </p:nvSpPr>
        <p:spPr>
          <a:xfrm>
            <a:off x="1047960" y="5191200"/>
            <a:ext cx="722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la składowej zmiennej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i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ą połączone równole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10800000">
            <a:off x="5694120" y="206676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013440" y="2236680"/>
            <a:ext cx="8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4602240" y="3392280"/>
            <a:ext cx="1236240" cy="936360"/>
            <a:chOff x="4602240" y="3392280"/>
            <a:chExt cx="1236240" cy="936360"/>
          </a:xfrm>
        </p:grpSpPr>
        <p:sp>
          <p:nvSpPr>
            <p:cNvPr id="1109" name=""/>
            <p:cNvSpPr/>
            <p:nvPr/>
          </p:nvSpPr>
          <p:spPr>
            <a:xfrm>
              <a:off x="5443560" y="3579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43560" y="4060440"/>
              <a:ext cx="39492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5443560" y="3392280"/>
              <a:ext cx="39492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4602240" y="3925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3" name=""/>
          <p:cNvSpPr/>
          <p:nvPr/>
        </p:nvSpPr>
        <p:spPr>
          <a:xfrm flipV="1">
            <a:off x="5819760" y="2859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5843520" y="1891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43520" y="1892160"/>
            <a:ext cx="23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8182080" y="1892160"/>
            <a:ext cx="0" cy="267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062840" y="371952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5783040" y="3171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211880" y="3189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6985080" y="4489560"/>
            <a:ext cx="393480" cy="399960"/>
            <a:chOff x="6985080" y="4489560"/>
            <a:chExt cx="393480" cy="399960"/>
          </a:xfrm>
        </p:grpSpPr>
        <p:sp>
          <p:nvSpPr>
            <p:cNvPr id="1121" name=""/>
            <p:cNvSpPr/>
            <p:nvPr/>
          </p:nvSpPr>
          <p:spPr>
            <a:xfrm>
              <a:off x="7189560" y="448956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985080" y="48625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6589800" y="39369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420600" y="3397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69000" y="3130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7966080" y="4518000"/>
            <a:ext cx="393840" cy="399960"/>
            <a:chOff x="7966080" y="4518000"/>
            <a:chExt cx="393840" cy="399960"/>
          </a:xfrm>
        </p:grpSpPr>
        <p:sp>
          <p:nvSpPr>
            <p:cNvPr id="1127" name=""/>
            <p:cNvSpPr/>
            <p:nvPr/>
          </p:nvSpPr>
          <p:spPr>
            <a:xfrm>
              <a:off x="8170920" y="4518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966080" y="48909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5603760" y="4470480"/>
            <a:ext cx="393840" cy="399960"/>
            <a:chOff x="5603760" y="4470480"/>
            <a:chExt cx="393840" cy="399960"/>
          </a:xfrm>
        </p:grpSpPr>
        <p:sp>
          <p:nvSpPr>
            <p:cNvPr id="1130" name=""/>
            <p:cNvSpPr/>
            <p:nvPr/>
          </p:nvSpPr>
          <p:spPr>
            <a:xfrm>
              <a:off x="5808600" y="4470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03760" y="4843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 flipV="1">
            <a:off x="5807160" y="4304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840280" y="2882880"/>
            <a:ext cx="1890720" cy="1647720"/>
          </a:xfrm>
          <a:custGeom>
            <a:avLst/>
            <a:gdLst/>
            <a:ahLst/>
            <a:rect l="l" t="t" r="r" b="b"/>
            <a:pathLst>
              <a:path w="1191" h="1038">
                <a:moveTo>
                  <a:pt x="1131" y="1038"/>
                </a:moveTo>
                <a:cubicBezTo>
                  <a:pt x="1096" y="1005"/>
                  <a:pt x="1062" y="973"/>
                  <a:pt x="1064" y="938"/>
                </a:cubicBezTo>
                <a:cubicBezTo>
                  <a:pt x="1066" y="903"/>
                  <a:pt x="1142" y="874"/>
                  <a:pt x="1142" y="826"/>
                </a:cubicBezTo>
                <a:cubicBezTo>
                  <a:pt x="1142" y="778"/>
                  <a:pt x="1057" y="699"/>
                  <a:pt x="1064" y="649"/>
                </a:cubicBezTo>
                <a:cubicBezTo>
                  <a:pt x="1071" y="599"/>
                  <a:pt x="1191" y="563"/>
                  <a:pt x="1186" y="526"/>
                </a:cubicBezTo>
                <a:cubicBezTo>
                  <a:pt x="1181" y="489"/>
                  <a:pt x="1042" y="465"/>
                  <a:pt x="1031" y="426"/>
                </a:cubicBezTo>
                <a:cubicBezTo>
                  <a:pt x="1020" y="387"/>
                  <a:pt x="1124" y="328"/>
                  <a:pt x="1120" y="293"/>
                </a:cubicBezTo>
                <a:cubicBezTo>
                  <a:pt x="1116" y="258"/>
                  <a:pt x="1036" y="246"/>
                  <a:pt x="1008" y="215"/>
                </a:cubicBezTo>
                <a:cubicBezTo>
                  <a:pt x="980" y="184"/>
                  <a:pt x="984" y="111"/>
                  <a:pt x="953" y="104"/>
                </a:cubicBezTo>
                <a:cubicBezTo>
                  <a:pt x="922" y="97"/>
                  <a:pt x="854" y="180"/>
                  <a:pt x="819" y="171"/>
                </a:cubicBezTo>
                <a:cubicBezTo>
                  <a:pt x="784" y="162"/>
                  <a:pt x="771" y="49"/>
                  <a:pt x="742" y="49"/>
                </a:cubicBezTo>
                <a:cubicBezTo>
                  <a:pt x="713" y="49"/>
                  <a:pt x="673" y="178"/>
                  <a:pt x="642" y="171"/>
                </a:cubicBezTo>
                <a:cubicBezTo>
                  <a:pt x="611" y="164"/>
                  <a:pt x="594" y="8"/>
                  <a:pt x="553" y="4"/>
                </a:cubicBezTo>
                <a:cubicBezTo>
                  <a:pt x="512" y="0"/>
                  <a:pt x="438" y="138"/>
                  <a:pt x="397" y="149"/>
                </a:cubicBezTo>
                <a:cubicBezTo>
                  <a:pt x="356" y="160"/>
                  <a:pt x="339" y="73"/>
                  <a:pt x="308" y="71"/>
                </a:cubicBezTo>
                <a:cubicBezTo>
                  <a:pt x="277" y="69"/>
                  <a:pt x="243" y="136"/>
                  <a:pt x="208" y="138"/>
                </a:cubicBezTo>
                <a:cubicBezTo>
                  <a:pt x="173" y="140"/>
                  <a:pt x="128" y="62"/>
                  <a:pt x="97" y="82"/>
                </a:cubicBezTo>
                <a:cubicBezTo>
                  <a:pt x="66" y="102"/>
                  <a:pt x="39" y="204"/>
                  <a:pt x="23" y="256"/>
                </a:cubicBezTo>
                <a:cubicBezTo>
                  <a:pt x="7" y="308"/>
                  <a:pt x="5" y="368"/>
                  <a:pt x="0" y="39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599600" y="3073320"/>
            <a:ext cx="4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’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810400" y="1913040"/>
            <a:ext cx="2288880" cy="1143000"/>
          </a:xfrm>
          <a:custGeom>
            <a:avLst/>
            <a:gdLst/>
            <a:ahLst/>
            <a:rect l="l" t="t" r="r" b="b"/>
            <a:pathLst>
              <a:path w="1442" h="720">
                <a:moveTo>
                  <a:pt x="1358" y="720"/>
                </a:moveTo>
                <a:cubicBezTo>
                  <a:pt x="1400" y="657"/>
                  <a:pt x="1442" y="595"/>
                  <a:pt x="1429" y="556"/>
                </a:cubicBezTo>
                <a:cubicBezTo>
                  <a:pt x="1416" y="517"/>
                  <a:pt x="1288" y="525"/>
                  <a:pt x="1280" y="486"/>
                </a:cubicBezTo>
                <a:cubicBezTo>
                  <a:pt x="1272" y="447"/>
                  <a:pt x="1395" y="360"/>
                  <a:pt x="1382" y="322"/>
                </a:cubicBezTo>
                <a:cubicBezTo>
                  <a:pt x="1369" y="284"/>
                  <a:pt x="1224" y="299"/>
                  <a:pt x="1203" y="260"/>
                </a:cubicBezTo>
                <a:cubicBezTo>
                  <a:pt x="1182" y="221"/>
                  <a:pt x="1276" y="117"/>
                  <a:pt x="1257" y="89"/>
                </a:cubicBezTo>
                <a:cubicBezTo>
                  <a:pt x="1238" y="61"/>
                  <a:pt x="1132" y="101"/>
                  <a:pt x="1086" y="89"/>
                </a:cubicBezTo>
                <a:cubicBezTo>
                  <a:pt x="1040" y="77"/>
                  <a:pt x="1019" y="13"/>
                  <a:pt x="977" y="19"/>
                </a:cubicBezTo>
                <a:cubicBezTo>
                  <a:pt x="935" y="25"/>
                  <a:pt x="874" y="131"/>
                  <a:pt x="836" y="128"/>
                </a:cubicBezTo>
                <a:cubicBezTo>
                  <a:pt x="798" y="125"/>
                  <a:pt x="781" y="6"/>
                  <a:pt x="751" y="3"/>
                </a:cubicBezTo>
                <a:cubicBezTo>
                  <a:pt x="721" y="0"/>
                  <a:pt x="687" y="112"/>
                  <a:pt x="657" y="112"/>
                </a:cubicBezTo>
                <a:cubicBezTo>
                  <a:pt x="627" y="112"/>
                  <a:pt x="598" y="0"/>
                  <a:pt x="571" y="3"/>
                </a:cubicBezTo>
                <a:cubicBezTo>
                  <a:pt x="544" y="6"/>
                  <a:pt x="528" y="123"/>
                  <a:pt x="493" y="128"/>
                </a:cubicBezTo>
                <a:cubicBezTo>
                  <a:pt x="458" y="133"/>
                  <a:pt x="393" y="29"/>
                  <a:pt x="361" y="34"/>
                </a:cubicBezTo>
                <a:cubicBezTo>
                  <a:pt x="329" y="39"/>
                  <a:pt x="295" y="123"/>
                  <a:pt x="299" y="159"/>
                </a:cubicBezTo>
                <a:cubicBezTo>
                  <a:pt x="303" y="195"/>
                  <a:pt x="398" y="226"/>
                  <a:pt x="384" y="252"/>
                </a:cubicBezTo>
                <a:cubicBezTo>
                  <a:pt x="370" y="278"/>
                  <a:pt x="230" y="283"/>
                  <a:pt x="213" y="315"/>
                </a:cubicBezTo>
                <a:cubicBezTo>
                  <a:pt x="196" y="347"/>
                  <a:pt x="312" y="389"/>
                  <a:pt x="283" y="447"/>
                </a:cubicBezTo>
                <a:cubicBezTo>
                  <a:pt x="254" y="505"/>
                  <a:pt x="82" y="620"/>
                  <a:pt x="41" y="665"/>
                </a:cubicBezTo>
                <a:cubicBezTo>
                  <a:pt x="0" y="710"/>
                  <a:pt x="17" y="715"/>
                  <a:pt x="34" y="72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910920" y="2136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6245280" y="3406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573880" y="3576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021120" y="3652920"/>
            <a:ext cx="16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= 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3408480" y="5770440"/>
                <a:ext cx="220824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-7920" y="-360"/>
            <a:ext cx="911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i dynamiczna prosta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1800360" y="1864800"/>
            <a:ext cx="0" cy="24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693800" y="42559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1817640" y="2280960"/>
            <a:ext cx="193680" cy="19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028960" y="1881000"/>
            <a:ext cx="284004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1994040" y="2379240"/>
            <a:ext cx="285732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1976400" y="2777760"/>
            <a:ext cx="292896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1941480" y="3125880"/>
            <a:ext cx="2909880" cy="25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1870200" y="3476520"/>
            <a:ext cx="29811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1852560" y="3823920"/>
            <a:ext cx="29466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03560" y="37702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046960" y="167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817640" y="2379600"/>
            <a:ext cx="2840040" cy="1860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603520" y="414828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849240" y="286236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817640" y="329400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193920" y="3276720"/>
            <a:ext cx="0" cy="101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191400" y="2822400"/>
            <a:ext cx="400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211560" y="1243080"/>
            <a:ext cx="1954080" cy="745560"/>
          </a:xfrm>
          <a:noFill/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achyl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/(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||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02120" y="28749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209760" y="4390920"/>
            <a:ext cx="0" cy="22590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668760" y="327816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5856120" y="1916280"/>
            <a:ext cx="0" cy="23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873760" y="2463840"/>
            <a:ext cx="1676520" cy="166212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019200" y="169560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rot="16200000">
            <a:off x="2388240" y="4917240"/>
            <a:ext cx="157968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887480" y="465624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845600" y="468468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058600" y="3075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342240" y="6175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6297480" y="2530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2716200" y="5869080"/>
            <a:ext cx="45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509160" y="220968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429920" y="56340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6031080" y="4324320"/>
                <a:ext cx="22078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6" name=""/>
          <p:cNvSpPr/>
          <p:nvPr/>
        </p:nvSpPr>
        <p:spPr>
          <a:xfrm>
            <a:off x="2401920" y="2081160"/>
            <a:ext cx="1373040" cy="207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139920" y="3228840"/>
            <a:ext cx="74880" cy="6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3757680" y="4141800"/>
            <a:ext cx="0" cy="9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91040" y="2862360"/>
            <a:ext cx="1676520" cy="75096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825440" y="124308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ynamiczna prosta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6064200" y="5410080"/>
                <a:ext cx="17287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806480" y="4095720"/>
            <a:ext cx="299412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1185" name=""/>
            <p:cNvGrpSpPr/>
            <p:nvPr/>
          </p:nvGrpSpPr>
          <p:grpSpPr>
            <a:xfrm>
              <a:off x="2666880" y="2133720"/>
              <a:ext cx="1090800" cy="1869840"/>
              <a:chOff x="2666880" y="2133720"/>
              <a:chExt cx="1090800" cy="1869840"/>
            </a:xfrm>
          </p:grpSpPr>
          <p:sp>
            <p:nvSpPr>
              <p:cNvPr id="1186" name=""/>
              <p:cNvSpPr/>
              <p:nvPr/>
            </p:nvSpPr>
            <p:spPr>
              <a:xfrm>
                <a:off x="2679840" y="2133720"/>
                <a:ext cx="1060200" cy="1869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666880" y="2133720"/>
                <a:ext cx="1090800" cy="186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8" name=""/>
            <p:cNvSpPr/>
            <p:nvPr/>
          </p:nvSpPr>
          <p:spPr>
            <a:xfrm flipV="1">
              <a:off x="1800360" y="1568160"/>
              <a:ext cx="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693800" y="410832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817640" y="2009520"/>
              <a:ext cx="193680" cy="20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2028960" y="1585800"/>
              <a:ext cx="284004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>
              <a:off x="1994040" y="2114640"/>
              <a:ext cx="28573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1976400" y="2538000"/>
              <a:ext cx="292896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1941480" y="2908440"/>
              <a:ext cx="290988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1870200" y="3279240"/>
              <a:ext cx="298116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1852560" y="3649680"/>
              <a:ext cx="294660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903560" y="359244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46960" y="1363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462040" y="402912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49240" y="262728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817640" y="30862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193920" y="306720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893120" y="2641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209760" y="4251240"/>
              <a:ext cx="0" cy="23986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668760" y="3068640"/>
              <a:ext cx="421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5856120" y="1622520"/>
              <a:ext cx="0" cy="248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873760" y="2205000"/>
              <a:ext cx="1676520" cy="17654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19200" y="138924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16200000">
              <a:off x="2339640" y="4844520"/>
              <a:ext cx="1676520" cy="113040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887480" y="4532400"/>
              <a:ext cx="363384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845600" y="4562640"/>
              <a:ext cx="50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cc33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33cc33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058600" y="28526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342240" y="61452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6297480" y="2274840"/>
              <a:ext cx="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2716200" y="581976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09160" y="19350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030040" y="5589720"/>
              <a:ext cx="65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139920" y="30160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3757680" y="398628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91040" y="2627280"/>
              <a:ext cx="1676520" cy="7970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817640" y="2114640"/>
              <a:ext cx="2840040" cy="1976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5786280" y="4535640"/>
                <a:ext cx="22831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5973840" y="5783400"/>
                <a:ext cx="26686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⋯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4" name=""/>
          <p:cNvSpPr/>
          <p:nvPr/>
        </p:nvSpPr>
        <p:spPr>
          <a:xfrm>
            <a:off x="4002480" y="580716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żna przyjąć,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1039680" y="1363680"/>
            <a:ext cx="7725600" cy="5214960"/>
            <a:chOff x="1039680" y="1363680"/>
            <a:chExt cx="7725600" cy="5214960"/>
          </a:xfrm>
        </p:grpSpPr>
        <p:grpSp>
          <p:nvGrpSpPr>
            <p:cNvPr id="1227" name=""/>
            <p:cNvGrpSpPr/>
            <p:nvPr/>
          </p:nvGrpSpPr>
          <p:grpSpPr>
            <a:xfrm>
              <a:off x="1039680" y="1363680"/>
              <a:ext cx="7725600" cy="5214960"/>
              <a:chOff x="1039680" y="1363680"/>
              <a:chExt cx="7725600" cy="5214960"/>
            </a:xfrm>
          </p:grpSpPr>
          <p:grpSp>
            <p:nvGrpSpPr>
              <p:cNvPr id="1228" name=""/>
              <p:cNvGrpSpPr/>
              <p:nvPr/>
            </p:nvGrpSpPr>
            <p:grpSpPr>
              <a:xfrm>
                <a:off x="1908000" y="1587600"/>
                <a:ext cx="1090800" cy="1869840"/>
                <a:chOff x="1908000" y="1587600"/>
                <a:chExt cx="1090800" cy="186984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1920960" y="1587600"/>
                  <a:ext cx="106020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908000" y="1587600"/>
                  <a:ext cx="109080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1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039680" y="4054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1817640" y="1391760"/>
                <a:ext cx="300240" cy="27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790640" y="3975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079640" y="2363760"/>
                <a:ext cx="826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442880" y="2579760"/>
                <a:ext cx="100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484360" y="2602080"/>
                <a:ext cx="0" cy="151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432160" y="417996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703680" y="254016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908680" y="1884240"/>
                <a:ext cx="1676520" cy="1557360"/>
              </a:xfrm>
              <a:custGeom>
                <a:avLst/>
                <a:gdLst/>
                <a:ahLst/>
                <a:rect l="l" t="t" r="r" b="b"/>
                <a:pathLst>
                  <a:path w="1056" h="981">
                    <a:moveTo>
                      <a:pt x="0" y="434"/>
                    </a:moveTo>
                    <a:cubicBezTo>
                      <a:pt x="19" y="373"/>
                      <a:pt x="68" y="136"/>
                      <a:pt x="112" y="68"/>
                    </a:cubicBezTo>
                    <a:cubicBezTo>
                      <a:pt x="156" y="0"/>
                      <a:pt x="213" y="22"/>
                      <a:pt x="267" y="24"/>
                    </a:cubicBezTo>
                    <a:cubicBezTo>
                      <a:pt x="321" y="26"/>
                      <a:pt x="388" y="13"/>
                      <a:pt x="434" y="80"/>
                    </a:cubicBezTo>
                    <a:cubicBezTo>
                      <a:pt x="480" y="147"/>
                      <a:pt x="508" y="306"/>
                      <a:pt x="545" y="424"/>
                    </a:cubicBezTo>
                    <a:cubicBezTo>
                      <a:pt x="582" y="542"/>
                      <a:pt x="608" y="698"/>
                      <a:pt x="656" y="791"/>
                    </a:cubicBezTo>
                    <a:cubicBezTo>
                      <a:pt x="704" y="884"/>
                      <a:pt x="784" y="977"/>
                      <a:pt x="834" y="979"/>
                    </a:cubicBezTo>
                    <a:cubicBezTo>
                      <a:pt x="884" y="981"/>
                      <a:pt x="919" y="892"/>
                      <a:pt x="956" y="801"/>
                    </a:cubicBezTo>
                    <a:cubicBezTo>
                      <a:pt x="993" y="710"/>
                      <a:pt x="1035" y="511"/>
                      <a:pt x="1056" y="43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038320" y="4498920"/>
                <a:ext cx="925560" cy="1676520"/>
              </a:xfrm>
              <a:custGeom>
                <a:avLst/>
                <a:gdLst/>
                <a:ahLst/>
                <a:rect l="l" t="t" r="r" b="b"/>
                <a:pathLst>
                  <a:path w="583" h="1056">
                    <a:moveTo>
                      <a:pt x="233" y="1056"/>
                    </a:moveTo>
                    <a:cubicBezTo>
                      <a:pt x="201" y="1039"/>
                      <a:pt x="76" y="1002"/>
                      <a:pt x="38" y="955"/>
                    </a:cubicBezTo>
                    <a:cubicBezTo>
                      <a:pt x="0" y="908"/>
                      <a:pt x="3" y="836"/>
                      <a:pt x="5" y="777"/>
                    </a:cubicBezTo>
                    <a:cubicBezTo>
                      <a:pt x="7" y="718"/>
                      <a:pt x="13" y="643"/>
                      <a:pt x="50" y="599"/>
                    </a:cubicBezTo>
                    <a:cubicBezTo>
                      <a:pt x="87" y="555"/>
                      <a:pt x="158" y="544"/>
                      <a:pt x="226" y="511"/>
                    </a:cubicBezTo>
                    <a:cubicBezTo>
                      <a:pt x="294" y="478"/>
                      <a:pt x="402" y="448"/>
                      <a:pt x="461" y="400"/>
                    </a:cubicBezTo>
                    <a:cubicBezTo>
                      <a:pt x="521" y="352"/>
                      <a:pt x="581" y="272"/>
                      <a:pt x="582" y="222"/>
                    </a:cubicBezTo>
                    <a:cubicBezTo>
                      <a:pt x="583" y="172"/>
                      <a:pt x="526" y="137"/>
                      <a:pt x="468" y="100"/>
                    </a:cubicBezTo>
                    <a:cubicBezTo>
                      <a:pt x="409" y="63"/>
                      <a:pt x="282" y="21"/>
                      <a:pt x="23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109520" y="4460760"/>
                <a:ext cx="36338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067640" y="449100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2564280" y="60739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2459160" y="2544840"/>
                <a:ext cx="74520" cy="74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rot="1200">
                <a:off x="1914480" y="1587600"/>
                <a:ext cx="166680" cy="1685880"/>
              </a:xfrm>
              <a:custGeom>
                <a:avLst/>
                <a:gdLst/>
                <a:ahLst/>
                <a:rect l="l" t="t" r="r" b="b"/>
                <a:pathLst>
                  <a:path w="126" h="1062">
                    <a:moveTo>
                      <a:pt x="0" y="0"/>
                    </a:moveTo>
                    <a:lnTo>
                      <a:pt x="126" y="0"/>
                    </a:lnTo>
                    <a:lnTo>
                      <a:pt x="6" y="10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076480" y="1581120"/>
                <a:ext cx="901800" cy="29196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1" name=""/>
            <p:cNvSpPr/>
            <p:nvPr/>
          </p:nvSpPr>
          <p:spPr>
            <a:xfrm>
              <a:off x="1806480" y="40291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1264" name=""/>
            <p:cNvGrpSpPr/>
            <p:nvPr/>
          </p:nvGrpSpPr>
          <p:grpSpPr>
            <a:xfrm>
              <a:off x="849240" y="1363680"/>
              <a:ext cx="7916040" cy="5286240"/>
              <a:chOff x="849240" y="1363680"/>
              <a:chExt cx="7916040" cy="5286240"/>
            </a:xfrm>
          </p:grpSpPr>
          <p:grpSp>
            <p:nvGrpSpPr>
              <p:cNvPr id="1265" name=""/>
              <p:cNvGrpSpPr/>
              <p:nvPr/>
            </p:nvGrpSpPr>
            <p:grpSpPr>
              <a:xfrm>
                <a:off x="3249720" y="2416320"/>
                <a:ext cx="1090440" cy="1869840"/>
                <a:chOff x="3249720" y="2416320"/>
                <a:chExt cx="1090440" cy="186984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3262320" y="2416320"/>
                  <a:ext cx="105984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3249720" y="2416320"/>
                  <a:ext cx="109044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8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693800" y="4108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1817640" y="2009520"/>
                <a:ext cx="193680" cy="20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49240" y="336708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676520" y="3597120"/>
                <a:ext cx="229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935520" y="3578400"/>
                <a:ext cx="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51360" y="425124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668760" y="359892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873760" y="2681280"/>
                <a:ext cx="1676520" cy="1424160"/>
              </a:xfrm>
              <a:custGeom>
                <a:avLst/>
                <a:gdLst/>
                <a:ahLst/>
                <a:rect l="l" t="t" r="r" b="b"/>
                <a:pathLst>
                  <a:path w="1056" h="897">
                    <a:moveTo>
                      <a:pt x="0" y="565"/>
                    </a:moveTo>
                    <a:cubicBezTo>
                      <a:pt x="44" y="409"/>
                      <a:pt x="89" y="253"/>
                      <a:pt x="134" y="159"/>
                    </a:cubicBezTo>
                    <a:cubicBezTo>
                      <a:pt x="179" y="64"/>
                      <a:pt x="217" y="0"/>
                      <a:pt x="267" y="0"/>
                    </a:cubicBezTo>
                    <a:cubicBezTo>
                      <a:pt x="317" y="0"/>
                      <a:pt x="388" y="66"/>
                      <a:pt x="434" y="159"/>
                    </a:cubicBezTo>
                    <a:cubicBezTo>
                      <a:pt x="480" y="252"/>
                      <a:pt x="506" y="441"/>
                      <a:pt x="545" y="555"/>
                    </a:cubicBezTo>
                    <a:cubicBezTo>
                      <a:pt x="584" y="669"/>
                      <a:pt x="618" y="791"/>
                      <a:pt x="667" y="844"/>
                    </a:cubicBezTo>
                    <a:cubicBezTo>
                      <a:pt x="716" y="897"/>
                      <a:pt x="788" y="871"/>
                      <a:pt x="836" y="871"/>
                    </a:cubicBezTo>
                    <a:cubicBezTo>
                      <a:pt x="884" y="871"/>
                      <a:pt x="919" y="895"/>
                      <a:pt x="956" y="844"/>
                    </a:cubicBezTo>
                    <a:cubicBezTo>
                      <a:pt x="993" y="793"/>
                      <a:pt x="1035" y="623"/>
                      <a:pt x="1056" y="565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352680" y="4570560"/>
                <a:ext cx="857520" cy="1676160"/>
              </a:xfrm>
              <a:custGeom>
                <a:avLst/>
                <a:gdLst/>
                <a:ahLst/>
                <a:rect l="l" t="t" r="r" b="b"/>
                <a:pathLst>
                  <a:path w="540" h="1056">
                    <a:moveTo>
                      <a:pt x="362" y="1056"/>
                    </a:moveTo>
                    <a:cubicBezTo>
                      <a:pt x="262" y="1012"/>
                      <a:pt x="162" y="967"/>
                      <a:pt x="102" y="922"/>
                    </a:cubicBezTo>
                    <a:cubicBezTo>
                      <a:pt x="41" y="877"/>
                      <a:pt x="0" y="839"/>
                      <a:pt x="0" y="789"/>
                    </a:cubicBezTo>
                    <a:cubicBezTo>
                      <a:pt x="0" y="739"/>
                      <a:pt x="42" y="668"/>
                      <a:pt x="102" y="622"/>
                    </a:cubicBezTo>
                    <a:cubicBezTo>
                      <a:pt x="161" y="576"/>
                      <a:pt x="288" y="545"/>
                      <a:pt x="355" y="511"/>
                    </a:cubicBezTo>
                    <a:cubicBezTo>
                      <a:pt x="422" y="477"/>
                      <a:pt x="475" y="463"/>
                      <a:pt x="504" y="417"/>
                    </a:cubicBezTo>
                    <a:cubicBezTo>
                      <a:pt x="533" y="371"/>
                      <a:pt x="527" y="285"/>
                      <a:pt x="528" y="233"/>
                    </a:cubicBezTo>
                    <a:cubicBezTo>
                      <a:pt x="529" y="181"/>
                      <a:pt x="540" y="144"/>
                      <a:pt x="512" y="105"/>
                    </a:cubicBezTo>
                    <a:cubicBezTo>
                      <a:pt x="484" y="66"/>
                      <a:pt x="393" y="22"/>
                      <a:pt x="3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629080" y="4532400"/>
                <a:ext cx="363348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586840" y="456264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083840" y="61452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902040" y="3554280"/>
                <a:ext cx="74520" cy="74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257640" y="4105440"/>
                <a:ext cx="1076400" cy="19980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290760" y="4029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210200" y="2419200"/>
                <a:ext cx="120600" cy="187344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8" name=""/>
            <p:cNvSpPr/>
            <p:nvPr/>
          </p:nvSpPr>
          <p:spPr>
            <a:xfrm>
              <a:off x="1806480" y="40957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ŁADY ZASILANIA TRANZYSTOR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1066680" y="5486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49400" y="923760"/>
            <a:ext cx="8781840" cy="5779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bór właściwego punktu pracy jest w istotny sposób uzależniony od przeznaczenia i założonych warunków pracy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ważniejsze czynniki, które trzeba uwzględnić przy doborze optymalnego punktu prac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kość wzmocnienia: 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40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 dla 1mA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40mS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mocy wydzielanej w tranzystorach, stabilność termicz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y napięć i prądów na wyjściu 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częstotliwo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iekształcenia nielin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szu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impedancji wejściowej i wyjś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ki zasilania - stabilizowane, niestabilizowane, 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1307" name="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9" name="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1310" name="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1313" name="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1355" name="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373" name="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441" name="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1519" name="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1" name="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1583" name="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5" name="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1656" name="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8" name="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1729" name="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1802" name="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4" name="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1875" name="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7" name="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1948" name="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0" name="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9" name=""/>
          <p:cNvGraphicFramePr/>
          <p:nvPr/>
        </p:nvGraphicFramePr>
        <p:xfrm>
          <a:off x="228600" y="1471680"/>
          <a:ext cx="8915400" cy="44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71680"/>
                    <a:ext cx="89154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 ze względu na zastos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76280" y="2913120"/>
            <a:ext cx="23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rowadz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napięcia kolektor-emiter lub dren-źródł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względu na stabilność termiczną tranzy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470400" y="5792760"/>
                <a:ext cx="2288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Q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4" name=""/>
          <p:cNvSpPr/>
          <p:nvPr/>
        </p:nvSpPr>
        <p:spPr>
          <a:xfrm>
            <a:off x="4240080" y="1930320"/>
            <a:ext cx="1690920" cy="3106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5389560" y="2436840"/>
            <a:ext cx="3449520" cy="1233360"/>
          </a:xfrm>
          <a:prstGeom prst="wedgeRoundRectCallout">
            <a:avLst>
              <a:gd name="adj1" fmla="val -64402"/>
              <a:gd name="adj2" fmla="val 92222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roś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554200" y="1932120"/>
            <a:ext cx="1690920" cy="310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149640" y="1843200"/>
            <a:ext cx="3681360" cy="296856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616120" y="1504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328520" y="462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561920" y="1138320"/>
            <a:ext cx="431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hiperbola mocy admisyjnej 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571840" y="2330280"/>
            <a:ext cx="3149640" cy="27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457440" y="1776240"/>
            <a:ext cx="3434040" cy="277020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875040" y="1716120"/>
            <a:ext cx="3299040" cy="267984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020760" y="1152360"/>
            <a:ext cx="158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5554800" y="50832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760920" y="3375000"/>
            <a:ext cx="117360" cy="92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067360" y="4487760"/>
            <a:ext cx="11592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 flipH="1" flipV="1">
            <a:off x="3260880" y="2925360"/>
            <a:ext cx="490320" cy="415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094200" y="2795760"/>
            <a:ext cx="115560" cy="91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4625640" y="4095720"/>
            <a:ext cx="415800" cy="36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500720" y="3992400"/>
            <a:ext cx="11556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flipV="1">
            <a:off x="4246560" y="1949400"/>
            <a:ext cx="0" cy="3106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3" name=""/>
              <p:cNvSpPr txBox="1"/>
              <p:nvPr/>
            </p:nvSpPr>
            <p:spPr>
              <a:xfrm>
                <a:off x="4030560" y="5054760"/>
                <a:ext cx="7002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4" name=""/>
          <p:cNvSpPr/>
          <p:nvPr/>
        </p:nvSpPr>
        <p:spPr>
          <a:xfrm>
            <a:off x="3696120" y="2843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239440" y="4275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 flipV="1">
            <a:off x="2554200" y="1750680"/>
            <a:ext cx="0" cy="328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03440" y="5040360"/>
            <a:ext cx="5091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flipV="1">
            <a:off x="2570040" y="2376360"/>
            <a:ext cx="381240" cy="266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flipV="1">
            <a:off x="2968560" y="2041560"/>
            <a:ext cx="3614760" cy="334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 flipV="1">
            <a:off x="2884320" y="2452680"/>
            <a:ext cx="3683160" cy="379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 flipV="1">
            <a:off x="2784600" y="3517920"/>
            <a:ext cx="3633840" cy="395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 flipV="1">
            <a:off x="2685960" y="4021200"/>
            <a:ext cx="3614760" cy="350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V="1">
            <a:off x="2801880" y="2970360"/>
            <a:ext cx="3583080" cy="411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7647120" y="314640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5" name=""/>
          <p:cNvSpPr/>
          <p:nvPr/>
        </p:nvSpPr>
        <p:spPr>
          <a:xfrm>
            <a:off x="530280" y="4592520"/>
            <a:ext cx="3449520" cy="1233720"/>
          </a:xfrm>
          <a:prstGeom prst="wedgeRoundRectCallout">
            <a:avLst>
              <a:gd name="adj1" fmla="val 36851"/>
              <a:gd name="adj2" fmla="val -165666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mal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2854440" y="535464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7" name=""/>
          <p:cNvSpPr/>
          <p:nvPr/>
        </p:nvSpPr>
        <p:spPr>
          <a:xfrm>
            <a:off x="2084400" y="6081840"/>
            <a:ext cx="12808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ogólnego, dwubateryjnego układu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9" name=""/>
          <p:cNvGrpSpPr/>
          <p:nvPr/>
        </p:nvGrpSpPr>
        <p:grpSpPr>
          <a:xfrm>
            <a:off x="1476360" y="1684440"/>
            <a:ext cx="5647680" cy="3987360"/>
            <a:chOff x="1476360" y="1684440"/>
            <a:chExt cx="5647680" cy="3987360"/>
          </a:xfrm>
        </p:grpSpPr>
        <p:sp>
          <p:nvSpPr>
            <p:cNvPr id="2070" name=""/>
            <p:cNvSpPr/>
            <p:nvPr/>
          </p:nvSpPr>
          <p:spPr>
            <a:xfrm>
              <a:off x="3987000" y="232668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987000" y="2853720"/>
              <a:ext cx="365040" cy="29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621600" y="2707560"/>
              <a:ext cx="365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4352400" y="3147120"/>
              <a:ext cx="0" cy="58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V="1">
              <a:off x="3987000" y="2121840"/>
              <a:ext cx="36504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10800000">
              <a:off x="5815440" y="241524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rot="10800000">
              <a:off x="2523240" y="3167280"/>
              <a:ext cx="254520" cy="856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7" name=""/>
            <p:cNvGrpSpPr/>
            <p:nvPr/>
          </p:nvGrpSpPr>
          <p:grpSpPr>
            <a:xfrm>
              <a:off x="5572440" y="4753800"/>
              <a:ext cx="730440" cy="147240"/>
              <a:chOff x="5572440" y="4753800"/>
              <a:chExt cx="730440" cy="147240"/>
            </a:xfrm>
          </p:grpSpPr>
          <p:sp>
            <p:nvSpPr>
              <p:cNvPr id="2078" name=""/>
              <p:cNvSpPr/>
              <p:nvPr/>
            </p:nvSpPr>
            <p:spPr>
              <a:xfrm>
                <a:off x="5572440" y="4753800"/>
                <a:ext cx="730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81544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0" name=""/>
            <p:cNvGrpSpPr/>
            <p:nvPr/>
          </p:nvGrpSpPr>
          <p:grpSpPr>
            <a:xfrm>
              <a:off x="2280960" y="4753800"/>
              <a:ext cx="730080" cy="147240"/>
              <a:chOff x="2280960" y="4753800"/>
              <a:chExt cx="730080" cy="147240"/>
            </a:xfrm>
          </p:grpSpPr>
          <p:sp>
            <p:nvSpPr>
              <p:cNvPr id="2081" name=""/>
              <p:cNvSpPr/>
              <p:nvPr/>
            </p:nvSpPr>
            <p:spPr>
              <a:xfrm>
                <a:off x="2280960" y="4753800"/>
                <a:ext cx="73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52396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3" name=""/>
            <p:cNvSpPr/>
            <p:nvPr/>
          </p:nvSpPr>
          <p:spPr>
            <a:xfrm>
              <a:off x="26460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9382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646000" y="5339160"/>
              <a:ext cx="329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941800" y="3293280"/>
              <a:ext cx="0" cy="146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646000" y="4024440"/>
              <a:ext cx="0" cy="72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323960" y="4601880"/>
              <a:ext cx="0" cy="68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352400" y="16844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646000" y="2707560"/>
              <a:ext cx="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352400" y="1684440"/>
              <a:ext cx="15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646000" y="2707560"/>
              <a:ext cx="109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941800" y="168444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268880" y="5252400"/>
              <a:ext cx="115200" cy="135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332240" y="52340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142880" y="563112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257440" y="4309920"/>
              <a:ext cx="33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484680" y="4505040"/>
              <a:ext cx="63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006000" y="4236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476360" y="4407480"/>
              <a:ext cx="675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367320" y="2418120"/>
              <a:ext cx="55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872360" y="30985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924280" y="2709720"/>
              <a:ext cx="56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>
              <a:off x="4774680" y="1684440"/>
              <a:ext cx="40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4774680" y="2267640"/>
              <a:ext cx="0" cy="106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 flipV="1">
              <a:off x="3567960" y="3045960"/>
              <a:ext cx="482400" cy="68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937400" y="2559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185280" y="333792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175920" y="187920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rot="10800000">
              <a:off x="4211280" y="372636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614120" y="3921480"/>
              <a:ext cx="539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2" name=""/>
          <p:cNvSpPr/>
          <p:nvPr/>
        </p:nvSpPr>
        <p:spPr>
          <a:xfrm>
            <a:off x="4876920" y="1143000"/>
            <a:ext cx="42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/>
          <p:nvPr/>
        </p:nvSpPr>
        <p:spPr>
          <a:xfrm>
            <a:off x="811800" y="498600"/>
            <a:ext cx="801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tępujemy tranzystor uproszczonym modelem Ebersa - Mo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2033640" y="2325600"/>
            <a:ext cx="7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2014560" y="232560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rot="10800000">
            <a:off x="1888920" y="2947680"/>
            <a:ext cx="253800" cy="78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6578640" y="4414680"/>
            <a:ext cx="728280" cy="136440"/>
            <a:chOff x="6578640" y="4414680"/>
            <a:chExt cx="728280" cy="136440"/>
          </a:xfrm>
        </p:grpSpPr>
        <p:sp>
          <p:nvSpPr>
            <p:cNvPr id="2118" name=""/>
            <p:cNvSpPr/>
            <p:nvPr/>
          </p:nvSpPr>
          <p:spPr>
            <a:xfrm>
              <a:off x="6578640" y="4414680"/>
              <a:ext cx="72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820920" y="4551120"/>
              <a:ext cx="2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1604880" y="4414680"/>
            <a:ext cx="728280" cy="136440"/>
            <a:chOff x="1604880" y="4414680"/>
            <a:chExt cx="728280" cy="136440"/>
          </a:xfrm>
        </p:grpSpPr>
        <p:sp>
          <p:nvSpPr>
            <p:cNvPr id="2121" name=""/>
            <p:cNvSpPr/>
            <p:nvPr/>
          </p:nvSpPr>
          <p:spPr>
            <a:xfrm>
              <a:off x="1604880" y="4414680"/>
              <a:ext cx="72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847160" y="4551120"/>
              <a:ext cx="2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3" name=""/>
          <p:cNvSpPr/>
          <p:nvPr/>
        </p:nvSpPr>
        <p:spPr>
          <a:xfrm>
            <a:off x="1969920" y="4551480"/>
            <a:ext cx="0" cy="9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6943680" y="4551480"/>
            <a:ext cx="0" cy="9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1969920" y="5530680"/>
            <a:ext cx="497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998720" y="3749760"/>
            <a:ext cx="0" cy="66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257720" y="3483000"/>
            <a:ext cx="0" cy="39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257720" y="5151600"/>
            <a:ext cx="0" cy="37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272120" y="5530680"/>
            <a:ext cx="0" cy="40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4071960" y="5894280"/>
            <a:ext cx="36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407960" y="401652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443720" y="41940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7265880" y="4021200"/>
            <a:ext cx="3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685800" y="4105440"/>
            <a:ext cx="67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7343640" y="303696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177560" y="29480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rot="10800000">
            <a:off x="4135320" y="4390920"/>
            <a:ext cx="254160" cy="78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37080" y="4462560"/>
            <a:ext cx="53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 rot="10800000">
            <a:off x="3808440" y="2769840"/>
            <a:ext cx="203040" cy="2271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3781440" y="3036960"/>
            <a:ext cx="271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2932200" y="2325600"/>
            <a:ext cx="1009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6060960" y="2251080"/>
            <a:ext cx="112680" cy="1252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599000" y="2314440"/>
            <a:ext cx="1461960" cy="11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894120" y="3483000"/>
            <a:ext cx="7221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3911760" y="3036960"/>
            <a:ext cx="0" cy="446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4456080" y="2770200"/>
            <a:ext cx="281160" cy="311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56080" y="2948040"/>
            <a:ext cx="28116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4594320" y="2757600"/>
            <a:ext cx="144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4214880" y="3416400"/>
            <a:ext cx="7596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4586400" y="2305080"/>
            <a:ext cx="0" cy="461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206960" y="3838680"/>
            <a:ext cx="114120" cy="126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2803680" y="2271600"/>
            <a:ext cx="112680" cy="12564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5156280" y="3483000"/>
                <a:ext cx="1528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4" name=""/>
          <p:cNvSpPr/>
          <p:nvPr/>
        </p:nvSpPr>
        <p:spPr>
          <a:xfrm>
            <a:off x="4937040" y="1701720"/>
            <a:ext cx="41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2771640" y="2859120"/>
            <a:ext cx="72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453040" y="152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742360" y="1612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456080" y="36608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3916440" y="2325600"/>
            <a:ext cx="0" cy="453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 flipH="1">
            <a:off x="4936680" y="2305080"/>
            <a:ext cx="320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38480" y="2325600"/>
            <a:ext cx="40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357520" y="27129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333600" y="1701720"/>
            <a:ext cx="41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4594320" y="3036960"/>
            <a:ext cx="0" cy="455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214880" y="5460840"/>
            <a:ext cx="7596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V="1">
            <a:off x="5097600" y="250308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V="1">
            <a:off x="3573360" y="268092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4254480" y="3957480"/>
            <a:ext cx="0" cy="41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6975360" y="232560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rot="10800000">
            <a:off x="6850080" y="2947680"/>
            <a:ext cx="254160" cy="78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6959520" y="3749760"/>
            <a:ext cx="0" cy="66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186600" y="2325600"/>
            <a:ext cx="75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flipH="1" flipV="1">
            <a:off x="4776840" y="3215880"/>
            <a:ext cx="401760" cy="444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4245120" y="348300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3742920" y="342576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611440" y="3878280"/>
            <a:ext cx="932040" cy="102852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093840" y="4551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 flipH="1">
            <a:off x="5308560" y="3927600"/>
            <a:ext cx="992160" cy="103032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5500080" y="45514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"/>
          <p:cNvSpPr/>
          <p:nvPr/>
        </p:nvSpPr>
        <p:spPr>
          <a:xfrm>
            <a:off x="987120" y="380880"/>
            <a:ext cx="55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oczka wejściowego (I) ma posta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993600" y="907920"/>
            <a:ext cx="733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965160" y="17683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korzystując zależnoś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2714760" y="2427120"/>
                <a:ext cx="34653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4" name=""/>
          <p:cNvSpPr/>
          <p:nvPr/>
        </p:nvSpPr>
        <p:spPr>
          <a:xfrm>
            <a:off x="1077120" y="363996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yskuje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577800" y="4708440"/>
                <a:ext cx="73566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"/>
          <p:cNvSpPr/>
          <p:nvPr/>
        </p:nvSpPr>
        <p:spPr>
          <a:xfrm>
            <a:off x="757080" y="450720"/>
            <a:ext cx="750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zyskamy z równania oczka wyjściowego 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67720" y="1473120"/>
            <a:ext cx="782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30280" y="3051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podstawieniu zależności i przekształceniu równ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587520" y="4276800"/>
                <a:ext cx="754200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"/>
          <p:cNvSpPr/>
          <p:nvPr/>
        </p:nvSpPr>
        <p:spPr>
          <a:xfrm>
            <a:off x="955800" y="7891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żeli spełnione są warunki (zwykle są 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708120" y="1622520"/>
                <a:ext cx="76183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2" name=""/>
          <p:cNvSpPr/>
          <p:nvPr/>
        </p:nvSpPr>
        <p:spPr>
          <a:xfrm>
            <a:off x="686880" y="281952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452160" y="3809880"/>
            <a:ext cx="48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obnie, jeżeli spełnione są warun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477720" y="4314960"/>
                <a:ext cx="81900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5" name=""/>
          <p:cNvSpPr/>
          <p:nvPr/>
        </p:nvSpPr>
        <p:spPr>
          <a:xfrm>
            <a:off x="518760" y="583236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2232000" y="5756400"/>
                <a:ext cx="5045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7" name=""/>
              <p:cNvSpPr txBox="1"/>
              <p:nvPr/>
            </p:nvSpPr>
            <p:spPr>
              <a:xfrm>
                <a:off x="2755800" y="2652840"/>
                <a:ext cx="24116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temperatury na zmiany punktu p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półczynniki stabilizacji prą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378000" y="1308240"/>
            <a:ext cx="8442000" cy="1188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elkości 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β, 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B0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leżą od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2087640" y="2867040"/>
            <a:ext cx="505620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- c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292320" y="3816360"/>
            <a:ext cx="8645040" cy="238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c jest współczynnikiem zmian temperaturowych zmian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 ten niemal nie zależy od prądu i jest stały w szerok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ie zmian temperatu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go wartość wynosi od 1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 do 2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"/>
          <p:cNvSpPr/>
          <p:nvPr/>
        </p:nvSpPr>
        <p:spPr>
          <a:xfrm>
            <a:off x="2076480" y="907920"/>
            <a:ext cx="5168880" cy="5796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[1 + γ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80880" y="1600200"/>
            <a:ext cx="8561520" cy="1557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γ jest współczynnikiem temperaturowych zmian 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 ten niemal nie zależy od temperatu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go wartość wynosi od 5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do 10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2009880" y="3468600"/>
                <a:ext cx="53038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05" name=""/>
          <p:cNvSpPr/>
          <p:nvPr/>
        </p:nvSpPr>
        <p:spPr>
          <a:xfrm>
            <a:off x="660240" y="4648320"/>
            <a:ext cx="8001000" cy="1607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jest współczynnikiem temperaturowych zmian prądu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krzemu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1504800" y="4616280"/>
                <a:ext cx="6561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7" name=""/>
          <p:cNvSpPr/>
          <p:nvPr/>
        </p:nvSpPr>
        <p:spPr>
          <a:xfrm>
            <a:off x="898200" y="4222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2621880" y="839880"/>
            <a:ext cx="4461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 [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 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810720" y="1793880"/>
            <a:ext cx="79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ając różniczkę zupełną powyższej funkcji otrzymujem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0" name=""/>
              <p:cNvSpPr txBox="1"/>
              <p:nvPr/>
            </p:nvSpPr>
            <p:spPr>
              <a:xfrm>
                <a:off x="1387440" y="2424240"/>
                <a:ext cx="67960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d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1" name=""/>
          <p:cNvSpPr/>
          <p:nvPr/>
        </p:nvSpPr>
        <p:spPr>
          <a:xfrm>
            <a:off x="2615760" y="385128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ępując różniczki przyrosta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"/>
          <p:cNvSpPr/>
          <p:nvPr/>
        </p:nvSpPr>
        <p:spPr>
          <a:xfrm>
            <a:off x="669960" y="270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3" name=""/>
              <p:cNvSpPr txBox="1"/>
              <p:nvPr/>
            </p:nvSpPr>
            <p:spPr>
              <a:xfrm>
                <a:off x="3695760" y="1249200"/>
                <a:ext cx="226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4" name=""/>
              <p:cNvSpPr txBox="1"/>
              <p:nvPr/>
            </p:nvSpPr>
            <p:spPr>
              <a:xfrm>
                <a:off x="142920" y="2860560"/>
                <a:ext cx="891216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5" name=""/>
              <p:cNvSpPr txBox="1"/>
              <p:nvPr/>
            </p:nvSpPr>
            <p:spPr>
              <a:xfrm>
                <a:off x="139680" y="4427640"/>
                <a:ext cx="8232840" cy="20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6" name=""/>
              <p:cNvSpPr txBox="1"/>
              <p:nvPr/>
            </p:nvSpPr>
            <p:spPr>
              <a:xfrm>
                <a:off x="142920" y="907920"/>
                <a:ext cx="81612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35040" y="163440"/>
            <a:ext cx="22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kt pracy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569320" y="871560"/>
            <a:ext cx="3046680" cy="2616120"/>
            <a:chOff x="2569320" y="871560"/>
            <a:chExt cx="3046680" cy="2616120"/>
          </a:xfrm>
        </p:grpSpPr>
        <p:grpSp>
          <p:nvGrpSpPr>
            <p:cNvPr id="47" name=""/>
            <p:cNvGrpSpPr/>
            <p:nvPr/>
          </p:nvGrpSpPr>
          <p:grpSpPr>
            <a:xfrm>
              <a:off x="3005280" y="1496880"/>
              <a:ext cx="1422360" cy="1990800"/>
              <a:chOff x="3005280" y="1496880"/>
              <a:chExt cx="1422360" cy="1990800"/>
            </a:xfrm>
          </p:grpSpPr>
          <p:sp>
            <p:nvSpPr>
              <p:cNvPr id="48" name=""/>
              <p:cNvSpPr/>
              <p:nvPr/>
            </p:nvSpPr>
            <p:spPr>
              <a:xfrm>
                <a:off x="3005280" y="1496880"/>
                <a:ext cx="1287720" cy="1990800"/>
              </a:xfrm>
              <a:custGeom>
                <a:avLst/>
                <a:gdLst/>
                <a:ahLst/>
                <a:rect l="l" t="t" r="r" b="b"/>
                <a:pathLst>
                  <a:path w="811" h="1254">
                    <a:moveTo>
                      <a:pt x="24" y="0"/>
                    </a:moveTo>
                    <a:lnTo>
                      <a:pt x="811" y="0"/>
                    </a:lnTo>
                    <a:lnTo>
                      <a:pt x="811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167360" y="1868400"/>
                <a:ext cx="260280" cy="96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 flipV="1">
              <a:off x="3043440" y="1892160"/>
              <a:ext cx="0" cy="1409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16600" y="1496880"/>
              <a:ext cx="4953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69320" y="2332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7320" y="871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19760" y="1817640"/>
              <a:ext cx="644400" cy="1163520"/>
            </a:xfrm>
            <a:custGeom>
              <a:avLst/>
              <a:gdLst/>
              <a:ahLst/>
              <a:rect l="l" t="t" r="r" b="b"/>
              <a:pathLst>
                <a:path w="406" h="733">
                  <a:moveTo>
                    <a:pt x="0" y="0"/>
                  </a:moveTo>
                  <a:lnTo>
                    <a:pt x="0" y="281"/>
                  </a:lnTo>
                  <a:lnTo>
                    <a:pt x="406" y="515"/>
                  </a:lnTo>
                  <a:lnTo>
                    <a:pt x="406" y="73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35000" y="181116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I=f(U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961280" y="3817800"/>
            <a:ext cx="4263840" cy="2734200"/>
            <a:chOff x="1961280" y="3817800"/>
            <a:chExt cx="4263840" cy="2734200"/>
          </a:xfrm>
        </p:grpSpPr>
        <p:grpSp>
          <p:nvGrpSpPr>
            <p:cNvPr id="57" name=""/>
            <p:cNvGrpSpPr/>
            <p:nvPr/>
          </p:nvGrpSpPr>
          <p:grpSpPr>
            <a:xfrm>
              <a:off x="1961280" y="3817800"/>
              <a:ext cx="4263840" cy="2734200"/>
              <a:chOff x="1961280" y="3817800"/>
              <a:chExt cx="4263840" cy="2734200"/>
            </a:xfrm>
          </p:grpSpPr>
          <p:sp>
            <p:nvSpPr>
              <p:cNvPr id="58" name=""/>
              <p:cNvSpPr/>
              <p:nvPr/>
            </p:nvSpPr>
            <p:spPr>
              <a:xfrm flipV="1">
                <a:off x="2523960" y="3908160"/>
                <a:ext cx="0" cy="209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523960" y="5999040"/>
                <a:ext cx="360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36560" y="3957480"/>
                <a:ext cx="2041200" cy="2063880"/>
              </a:xfrm>
              <a:custGeom>
                <a:avLst/>
                <a:gdLst/>
                <a:ahLst/>
                <a:rect l="l" t="t" r="r" b="b"/>
                <a:pathLst>
                  <a:path w="1286" h="1300">
                    <a:moveTo>
                      <a:pt x="0" y="1278"/>
                    </a:moveTo>
                    <a:cubicBezTo>
                      <a:pt x="100" y="1289"/>
                      <a:pt x="200" y="1300"/>
                      <a:pt x="319" y="1278"/>
                    </a:cubicBezTo>
                    <a:cubicBezTo>
                      <a:pt x="438" y="1256"/>
                      <a:pt x="612" y="1204"/>
                      <a:pt x="717" y="1146"/>
                    </a:cubicBezTo>
                    <a:cubicBezTo>
                      <a:pt x="822" y="1088"/>
                      <a:pt x="877" y="1020"/>
                      <a:pt x="951" y="928"/>
                    </a:cubicBezTo>
                    <a:cubicBezTo>
                      <a:pt x="1025" y="836"/>
                      <a:pt x="1113" y="697"/>
                      <a:pt x="1161" y="592"/>
                    </a:cubicBezTo>
                    <a:cubicBezTo>
                      <a:pt x="1209" y="487"/>
                      <a:pt x="1218" y="395"/>
                      <a:pt x="1239" y="296"/>
                    </a:cubicBezTo>
                    <a:cubicBezTo>
                      <a:pt x="1260" y="197"/>
                      <a:pt x="1273" y="98"/>
                      <a:pt x="1286" y="0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824800" y="5499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569320" y="38178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125600" y="6041880"/>
                <a:ext cx="52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961280" y="4707000"/>
                <a:ext cx="411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523960" y="4971960"/>
                <a:ext cx="18298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367160" y="4971960"/>
                <a:ext cx="0" cy="10396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542480" y="4583160"/>
                <a:ext cx="1334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(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319280" y="4922640"/>
                <a:ext cx="7452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618440" y="395748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I=f(U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881240" y="111924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, I - składowe st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"/>
          <p:cNvSpPr/>
          <p:nvPr/>
        </p:nvSpPr>
        <p:spPr>
          <a:xfrm>
            <a:off x="680760" y="422280"/>
            <a:ext cx="8161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yznaczymy różniczkując wyrażenie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kolek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1832040" y="2914560"/>
                <a:ext cx="49561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9" name=""/>
              <p:cNvSpPr txBox="1"/>
              <p:nvPr/>
            </p:nvSpPr>
            <p:spPr>
              <a:xfrm>
                <a:off x="2930400" y="4683240"/>
                <a:ext cx="2757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0" name=""/>
          <p:cNvSpPr/>
          <p:nvPr/>
        </p:nvSpPr>
        <p:spPr>
          <a:xfrm>
            <a:off x="304920" y="5791320"/>
            <a:ext cx="7947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ci przybliżone obowiązują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 tak jest w większości układów praktycz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1" name=""/>
              <p:cNvSpPr txBox="1"/>
              <p:nvPr/>
            </p:nvSpPr>
            <p:spPr>
              <a:xfrm>
                <a:off x="1924200" y="1390680"/>
                <a:ext cx="476712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/>
          <p:nvPr/>
        </p:nvSpPr>
        <p:spPr>
          <a:xfrm>
            <a:off x="301320" y="304920"/>
            <a:ext cx="88480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ując wzory (2.3.10) - (2.3.12) widzimy, że w celu uzysk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najmniejszych współczynników stabilizacji należy dążyć do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większej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jak najmniejszej wartości rezys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stosować tranzystory o jak największej wartości 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uważmy, że duża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do minimali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zystkich współczynników stabilizacji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800" y="2590920"/>
            <a:ext cx="795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ę napięcia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owodowaną zmianą temperatury moż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yć z zależnośc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438280" y="3429000"/>
            <a:ext cx="4111920" cy="579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Δ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- Δ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80880" y="4191120"/>
            <a:ext cx="81471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sowanie zatem zbyt dużych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zatem z drugiej strony do wzrostu napięcia zasilania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zwiększenia zmian napięcia Δ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 temperatur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80880" y="5486400"/>
            <a:ext cx="847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zatem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zarówno od góry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od do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"/>
          <p:cNvSpPr/>
          <p:nvPr/>
        </p:nvSpPr>
        <p:spPr>
          <a:xfrm>
            <a:off x="353520" y="193680"/>
            <a:ext cx="87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góry wartość ta jest ograniczona dwoma czynnika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maksymalnym napięciem zasilania, które w może być za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8" name=""/>
              <p:cNvSpPr txBox="1"/>
              <p:nvPr/>
            </p:nvSpPr>
            <p:spPr>
              <a:xfrm>
                <a:off x="1523880" y="1981080"/>
                <a:ext cx="6039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9" name=""/>
          <p:cNvSpPr/>
          <p:nvPr/>
        </p:nvSpPr>
        <p:spPr>
          <a:xfrm>
            <a:off x="517680" y="3241800"/>
            <a:ext cx="8237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warunkami stabilizacji napięcia kolektora, które pogarszają si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ś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1" name=""/>
              <p:cNvSpPr txBox="1"/>
              <p:nvPr/>
            </p:nvSpPr>
            <p:spPr>
              <a:xfrm>
                <a:off x="1494000" y="4724280"/>
                <a:ext cx="60069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"/>
          <p:cNvSpPr/>
          <p:nvPr/>
        </p:nvSpPr>
        <p:spPr>
          <a:xfrm>
            <a:off x="380880" y="228600"/>
            <a:ext cx="83487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dołu,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warunkami stabilizacji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lektora, które pogarszają się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l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221120" y="1143000"/>
            <a:ext cx="60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ną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żna wyznaczyć jak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4" name=""/>
              <p:cNvSpPr txBox="1"/>
              <p:nvPr/>
            </p:nvSpPr>
            <p:spPr>
              <a:xfrm>
                <a:off x="1584360" y="1655640"/>
                <a:ext cx="6180120" cy="187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Δ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Δβ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5" name=""/>
          <p:cNvSpPr/>
          <p:nvPr/>
        </p:nvSpPr>
        <p:spPr>
          <a:xfrm>
            <a:off x="536400" y="3581280"/>
            <a:ext cx="827604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leży podkreślić, że we wzmacniaczy rezystancyjnym zbyt m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odują w praktyce nadmierne zmniejs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a dla składowych zmiennych, ponieważ rezystancje 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cznikują wejście i wyjście tranzys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191160" y="5157720"/>
            <a:ext cx="8967960" cy="160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 więc, przy wyborz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leży się kierować rozsąd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romisem między warunkami stabilizacji prądowej i napię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z wartością napięcia zasilania i wzmocnienia układu oraz rezystan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jściowej i wyjściowej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y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12720" y="614520"/>
            <a:ext cx="7794720" cy="3751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prócz omówionego poprzednio układu zasilania 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ipolarnego z dwu baterii stosowane są również układy zasil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b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ego ze sprzężeniem emite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y ze sprzężeniem kolekto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emi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różnic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 nieliniowymi elementami kompensującymi wpływ zmia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406440" y="4384800"/>
            <a:ext cx="8280360" cy="252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ą to układy zasilania jednobateryjne, w których bateria E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BB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stąpiona źródłem obliczanym z tw. Theven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Analiza i projektowanie tych układów odbywa się za pomoc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wzorów wyprowadzonych dla układu zasilania dwubateryjn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z tym, że obydwa układy należy sprowadzić najpierw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równoważnego układu zasilania dwubater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/>
          <p:nvPr/>
        </p:nvSpPr>
        <p:spPr>
          <a:xfrm>
            <a:off x="3352680" y="5105520"/>
            <a:ext cx="1600200" cy="1218960"/>
          </a:xfrm>
          <a:prstGeom prst="wedgeRoundRectCallout">
            <a:avLst>
              <a:gd name="adj1" fmla="val -120930"/>
              <a:gd name="adj2" fmla="val -21092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1" name=""/>
          <p:cNvGrpSpPr/>
          <p:nvPr/>
        </p:nvGrpSpPr>
        <p:grpSpPr>
          <a:xfrm>
            <a:off x="228600" y="1752480"/>
            <a:ext cx="3465000" cy="3275280"/>
            <a:chOff x="228600" y="1752480"/>
            <a:chExt cx="3465000" cy="3275280"/>
          </a:xfrm>
        </p:grpSpPr>
        <p:sp>
          <p:nvSpPr>
            <p:cNvPr id="2242" name=""/>
            <p:cNvSpPr/>
            <p:nvPr/>
          </p:nvSpPr>
          <p:spPr>
            <a:xfrm>
              <a:off x="1687320" y="3160800"/>
              <a:ext cx="0" cy="40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687320" y="3454560"/>
              <a:ext cx="214560" cy="16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473120" y="33735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1687320" y="3046320"/>
              <a:ext cx="214560" cy="24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rot="10800000">
              <a:off x="1820880" y="2022120"/>
              <a:ext cx="14904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7" name=""/>
            <p:cNvGrpSpPr/>
            <p:nvPr/>
          </p:nvGrpSpPr>
          <p:grpSpPr>
            <a:xfrm>
              <a:off x="2617560" y="3213000"/>
              <a:ext cx="428760" cy="82440"/>
              <a:chOff x="2617560" y="3213000"/>
              <a:chExt cx="428760" cy="82440"/>
            </a:xfrm>
          </p:grpSpPr>
          <p:sp>
            <p:nvSpPr>
              <p:cNvPr id="2248" name=""/>
              <p:cNvSpPr/>
              <p:nvPr/>
            </p:nvSpPr>
            <p:spPr>
              <a:xfrm>
                <a:off x="2617560" y="3213000"/>
                <a:ext cx="428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2760120" y="3295440"/>
                <a:ext cx="14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0" name=""/>
            <p:cNvSpPr/>
            <p:nvPr/>
          </p:nvSpPr>
          <p:spPr>
            <a:xfrm>
              <a:off x="2840040" y="3322800"/>
              <a:ext cx="0" cy="15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904760" y="4842000"/>
              <a:ext cx="9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890720" y="3581280"/>
              <a:ext cx="0" cy="12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>
              <a:off x="1887120" y="2479680"/>
              <a:ext cx="324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914400" y="1763640"/>
              <a:ext cx="19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900000" y="3373560"/>
              <a:ext cx="64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890720" y="1763640"/>
              <a:ext cx="144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852560" y="4794120"/>
              <a:ext cx="68040" cy="74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890720" y="47829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779480" y="5005440"/>
              <a:ext cx="21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971800" y="2921040"/>
              <a:ext cx="19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92400" y="3322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286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063440" y="33750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890720" y="27082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V="1">
              <a:off x="2149200" y="3127320"/>
              <a:ext cx="0" cy="59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H="1" flipV="1">
              <a:off x="1441080" y="3562200"/>
              <a:ext cx="28404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133360" y="3225960"/>
              <a:ext cx="727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225080" y="37242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216440" y="291132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828800" y="1752480"/>
              <a:ext cx="66600" cy="76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890720" y="27082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rot="10800000">
              <a:off x="837720" y="2057040"/>
              <a:ext cx="14940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914400" y="1752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 flipV="1">
              <a:off x="91440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819160" y="1752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0574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7" name=""/>
          <p:cNvSpPr/>
          <p:nvPr/>
        </p:nvSpPr>
        <p:spPr>
          <a:xfrm>
            <a:off x="146160" y="3049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stałym prądem b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8" name=""/>
              <p:cNvSpPr txBox="1"/>
              <p:nvPr/>
            </p:nvSpPr>
            <p:spPr>
              <a:xfrm>
                <a:off x="3176640" y="4437000"/>
                <a:ext cx="560844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9" name=""/>
          <p:cNvSpPr/>
          <p:nvPr/>
        </p:nvSpPr>
        <p:spPr>
          <a:xfrm>
            <a:off x="3425400" y="1811160"/>
            <a:ext cx="4992120" cy="875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zadko stosowany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względu na bardzo duż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1915200" y="518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282600" y="340344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"/>
          <p:cNvSpPr/>
          <p:nvPr/>
        </p:nvSpPr>
        <p:spPr>
          <a:xfrm>
            <a:off x="3809880" y="2666880"/>
            <a:ext cx="2362320" cy="12956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3" name=""/>
          <p:cNvGrpSpPr/>
          <p:nvPr/>
        </p:nvGrpSpPr>
        <p:grpSpPr>
          <a:xfrm>
            <a:off x="304920" y="1219320"/>
            <a:ext cx="3287160" cy="3096720"/>
            <a:chOff x="304920" y="1219320"/>
            <a:chExt cx="3287160" cy="3096720"/>
          </a:xfrm>
        </p:grpSpPr>
        <p:sp>
          <p:nvSpPr>
            <p:cNvPr id="2284" name=""/>
            <p:cNvSpPr/>
            <p:nvPr/>
          </p:nvSpPr>
          <p:spPr>
            <a:xfrm>
              <a:off x="2990880" y="1828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5" name=""/>
            <p:cNvGrpSpPr/>
            <p:nvPr/>
          </p:nvGrpSpPr>
          <p:grpSpPr>
            <a:xfrm>
              <a:off x="304920" y="1219320"/>
              <a:ext cx="2939400" cy="3096720"/>
              <a:chOff x="304920" y="1219320"/>
              <a:chExt cx="2939400" cy="3096720"/>
            </a:xfrm>
          </p:grpSpPr>
          <p:sp>
            <p:nvSpPr>
              <p:cNvPr id="2286" name=""/>
              <p:cNvSpPr/>
              <p:nvPr/>
            </p:nvSpPr>
            <p:spPr>
              <a:xfrm>
                <a:off x="1763640" y="2449440"/>
                <a:ext cx="0" cy="407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1763640" y="2743200"/>
                <a:ext cx="213840" cy="16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1549440" y="2662200"/>
                <a:ext cx="213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977840" y="2906640"/>
                <a:ext cx="0" cy="32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flipV="1">
                <a:off x="1763640" y="2334600"/>
                <a:ext cx="213840" cy="24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0800000">
                <a:off x="1896840" y="152388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0800000">
                <a:off x="904680" y="291924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3" name=""/>
              <p:cNvGrpSpPr/>
              <p:nvPr/>
            </p:nvGrpSpPr>
            <p:grpSpPr>
              <a:xfrm>
                <a:off x="2693880" y="2501640"/>
                <a:ext cx="428400" cy="82080"/>
                <a:chOff x="2693880" y="2501640"/>
                <a:chExt cx="428400" cy="82080"/>
              </a:xfrm>
            </p:grpSpPr>
            <p:sp>
              <p:nvSpPr>
                <p:cNvPr id="2294" name=""/>
                <p:cNvSpPr/>
                <p:nvPr/>
              </p:nvSpPr>
              <p:spPr>
                <a:xfrm>
                  <a:off x="2693880" y="2501640"/>
                  <a:ext cx="428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2836440" y="258372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6" name=""/>
              <p:cNvSpPr/>
              <p:nvPr/>
            </p:nvSpPr>
            <p:spPr>
              <a:xfrm>
                <a:off x="976320" y="3886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913120" y="2611440"/>
                <a:ext cx="0" cy="1518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976320" y="4130640"/>
                <a:ext cx="193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2913120" y="1253880"/>
                <a:ext cx="0" cy="124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976320" y="3396960"/>
                <a:ext cx="0" cy="51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1966680" y="371952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H="1">
                <a:off x="1963440" y="1981080"/>
                <a:ext cx="2520" cy="35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976320" y="2662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976320" y="1253880"/>
                <a:ext cx="1922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976320" y="2662200"/>
                <a:ext cx="64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1968480" y="1249200"/>
                <a:ext cx="0" cy="25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1928880" y="4082760"/>
                <a:ext cx="67680" cy="74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1966680" y="407196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1855800" y="4294080"/>
                <a:ext cx="213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047760" y="2209680"/>
                <a:ext cx="196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2109600" y="1579320"/>
                <a:ext cx="709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304920" y="281916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1139760" y="2663640"/>
                <a:ext cx="329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1979640" y="1979280"/>
                <a:ext cx="0" cy="26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flipV="1">
                <a:off x="2225520" y="2415600"/>
                <a:ext cx="0" cy="59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 flipV="1">
                <a:off x="1517040" y="2850480"/>
                <a:ext cx="284040" cy="379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2209680" y="2514600"/>
                <a:ext cx="726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1301040" y="301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1292400" y="2199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0800000">
                <a:off x="1895040" y="3229920"/>
                <a:ext cx="148680" cy="477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2131920" y="3340080"/>
                <a:ext cx="53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0800000">
                <a:off x="891720" y="1763640"/>
                <a:ext cx="148680" cy="50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976320" y="228600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976320" y="1253880"/>
                <a:ext cx="0" cy="488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934920" y="2619360"/>
                <a:ext cx="66240" cy="756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1941480" y="1219320"/>
                <a:ext cx="6624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465480" y="185076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1523880" y="182880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9" name=""/>
          <p:cNvSpPr/>
          <p:nvPr/>
        </p:nvSpPr>
        <p:spPr>
          <a:xfrm>
            <a:off x="305280" y="228600"/>
            <a:ext cx="84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ilanie potencjometryczne ze sprzężeniem emite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3708360" y="1922400"/>
                <a:ext cx="5303880" cy="18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1679400" y="5029200"/>
                <a:ext cx="514692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,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o</m:t>
                                  </m:r>
                                  <m:r>
                                    <m:t xml:space="preserve">0,4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- wzmacniacze napieciowe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do 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 - wzmacniacze moc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3594240" y="4013280"/>
                <a:ext cx="2009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5892840" y="3963960"/>
                <a:ext cx="2560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4" name=""/>
          <p:cNvSpPr/>
          <p:nvPr/>
        </p:nvSpPr>
        <p:spPr>
          <a:xfrm>
            <a:off x="228600" y="2664000"/>
            <a:ext cx="566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509840" y="2720880"/>
            <a:ext cx="2609640" cy="534960"/>
          </a:xfrm>
          <a:custGeom>
            <a:avLst/>
            <a:gdLst/>
            <a:ahLst/>
            <a:rect l="l" t="t" r="r" b="b"/>
            <a:pathLst>
              <a:path w="1644" h="337">
                <a:moveTo>
                  <a:pt x="1644" y="133"/>
                </a:moveTo>
                <a:cubicBezTo>
                  <a:pt x="1468" y="210"/>
                  <a:pt x="1293" y="287"/>
                  <a:pt x="1137" y="312"/>
                </a:cubicBezTo>
                <a:cubicBezTo>
                  <a:pt x="981" y="337"/>
                  <a:pt x="860" y="300"/>
                  <a:pt x="709" y="281"/>
                </a:cubicBezTo>
                <a:cubicBezTo>
                  <a:pt x="558" y="262"/>
                  <a:pt x="351" y="242"/>
                  <a:pt x="233" y="195"/>
                </a:cubicBezTo>
                <a:cubicBezTo>
                  <a:pt x="115" y="148"/>
                  <a:pt x="57" y="74"/>
                  <a:pt x="0" y="0"/>
                </a:cubicBezTo>
              </a:path>
            </a:pathLst>
          </a:custGeom>
          <a:noFill/>
          <a:ln w="38160">
            <a:solidFill>
              <a:srgbClr val="66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6" name=""/>
          <p:cNvGraphicFramePr/>
          <p:nvPr/>
        </p:nvGraphicFramePr>
        <p:xfrm>
          <a:off x="833400" y="1033560"/>
          <a:ext cx="7475400" cy="26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1033560"/>
                    <a:ext cx="7475400" cy="26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ekształcenie w układ dwubateryj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9" name=""/>
              <p:cNvSpPr txBox="1"/>
              <p:nvPr/>
            </p:nvSpPr>
            <p:spPr>
              <a:xfrm>
                <a:off x="971640" y="3944880"/>
                <a:ext cx="23162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0" name=""/>
              <p:cNvSpPr txBox="1"/>
              <p:nvPr/>
            </p:nvSpPr>
            <p:spPr>
              <a:xfrm>
                <a:off x="5162400" y="5100480"/>
                <a:ext cx="1433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1" name=""/>
              <p:cNvSpPr txBox="1"/>
              <p:nvPr/>
            </p:nvSpPr>
            <p:spPr>
              <a:xfrm>
                <a:off x="971640" y="5064120"/>
                <a:ext cx="1433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2" name=""/>
              <p:cNvSpPr txBox="1"/>
              <p:nvPr/>
            </p:nvSpPr>
            <p:spPr>
              <a:xfrm>
                <a:off x="5035680" y="3878280"/>
                <a:ext cx="29318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3" name=""/>
              <p:cNvSpPr txBox="1"/>
              <p:nvPr/>
            </p:nvSpPr>
            <p:spPr>
              <a:xfrm>
                <a:off x="971640" y="5824440"/>
                <a:ext cx="1646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44" name=""/>
          <p:cNvSpPr/>
          <p:nvPr/>
        </p:nvSpPr>
        <p:spPr>
          <a:xfrm>
            <a:off x="3429000" y="12193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10960" y="2257560"/>
            <a:ext cx="760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/>
          <p:nvPr/>
        </p:nvSpPr>
        <p:spPr>
          <a:xfrm>
            <a:off x="15228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ze sprzężeniem kolekto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7" name=""/>
          <p:cNvGrpSpPr/>
          <p:nvPr/>
        </p:nvGrpSpPr>
        <p:grpSpPr>
          <a:xfrm>
            <a:off x="282600" y="1447920"/>
            <a:ext cx="8650440" cy="3886200"/>
            <a:chOff x="282600" y="1447920"/>
            <a:chExt cx="8650440" cy="3886200"/>
          </a:xfrm>
        </p:grpSpPr>
        <p:sp>
          <p:nvSpPr>
            <p:cNvPr id="2348" name=""/>
            <p:cNvSpPr/>
            <p:nvPr/>
          </p:nvSpPr>
          <p:spPr>
            <a:xfrm>
              <a:off x="3733920" y="4038480"/>
              <a:ext cx="2057400" cy="1295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654200" y="2855880"/>
              <a:ext cx="0" cy="38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654200" y="3133800"/>
              <a:ext cx="19836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1455840" y="3057480"/>
              <a:ext cx="19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1852560" y="3289320"/>
              <a:ext cx="0" cy="11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V="1">
              <a:off x="1654200" y="2747880"/>
              <a:ext cx="19836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rot="10800000">
              <a:off x="1776240" y="1779120"/>
              <a:ext cx="138240" cy="45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5" name=""/>
            <p:cNvGrpSpPr/>
            <p:nvPr/>
          </p:nvGrpSpPr>
          <p:grpSpPr>
            <a:xfrm>
              <a:off x="2514600" y="2905200"/>
              <a:ext cx="395280" cy="78840"/>
              <a:chOff x="2514600" y="2905200"/>
              <a:chExt cx="395280" cy="78840"/>
            </a:xfrm>
          </p:grpSpPr>
          <p:sp>
            <p:nvSpPr>
              <p:cNvPr id="2356" name=""/>
              <p:cNvSpPr/>
              <p:nvPr/>
            </p:nvSpPr>
            <p:spPr>
              <a:xfrm>
                <a:off x="2514600" y="2905200"/>
                <a:ext cx="395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2646000" y="2984040"/>
                <a:ext cx="13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8" name=""/>
            <p:cNvSpPr/>
            <p:nvPr/>
          </p:nvSpPr>
          <p:spPr>
            <a:xfrm>
              <a:off x="2719440" y="3009960"/>
              <a:ext cx="0" cy="143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725560" y="1523880"/>
              <a:ext cx="0" cy="13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1837800" y="2211480"/>
              <a:ext cx="3240" cy="53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1841400" y="1535040"/>
              <a:ext cx="8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925560" y="3057480"/>
              <a:ext cx="59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841400" y="1535040"/>
              <a:ext cx="180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806480" y="4402080"/>
              <a:ext cx="63720" cy="69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841400" y="439092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1738440" y="4602240"/>
              <a:ext cx="19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840040" y="2629080"/>
              <a:ext cx="1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954520" y="30099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982880" y="1779480"/>
              <a:ext cx="655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1076400" y="3059280"/>
              <a:ext cx="30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841400" y="2428920"/>
              <a:ext cx="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2081160" y="2824200"/>
              <a:ext cx="0" cy="56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 flipV="1">
              <a:off x="1425600" y="3236400"/>
              <a:ext cx="263520" cy="3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066760" y="2917800"/>
              <a:ext cx="67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1226880" y="33894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1218240" y="26208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rot="5400000">
              <a:off x="1254240" y="2217600"/>
              <a:ext cx="141120" cy="471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925560" y="2451240"/>
              <a:ext cx="0" cy="61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1560600" y="2428920"/>
              <a:ext cx="280800" cy="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87400" y="3017880"/>
              <a:ext cx="6192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1800360" y="2386080"/>
              <a:ext cx="619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955800" y="1878120"/>
              <a:ext cx="68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841400" y="2428920"/>
              <a:ext cx="63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925560" y="2451240"/>
              <a:ext cx="15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85" name=""/>
                <p:cNvSpPr txBox="1"/>
                <p:nvPr/>
              </p:nvSpPr>
              <p:spPr>
                <a:xfrm>
                  <a:off x="3276720" y="1447920"/>
                  <a:ext cx="327636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6" name=""/>
                <p:cNvSpPr txBox="1"/>
                <p:nvPr/>
              </p:nvSpPr>
              <p:spPr>
                <a:xfrm>
                  <a:off x="3330720" y="1909800"/>
                  <a:ext cx="25700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7" name=""/>
                <p:cNvSpPr txBox="1"/>
                <p:nvPr/>
              </p:nvSpPr>
              <p:spPr>
                <a:xfrm>
                  <a:off x="3376440" y="3392640"/>
                  <a:ext cx="5556600" cy="190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β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BE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≈</m:t>
                          </m:r>
                          <m:r>
                            <m:t xml:space="preserve">≈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C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E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r>
                            <m:t xml:space="preserve">β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88" name=""/>
            <p:cNvSpPr/>
            <p:nvPr/>
          </p:nvSpPr>
          <p:spPr>
            <a:xfrm>
              <a:off x="282600" y="30510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830240" y="4441680"/>
              <a:ext cx="89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0" name=""/>
          <p:cNvSpPr/>
          <p:nvPr/>
        </p:nvSpPr>
        <p:spPr>
          <a:xfrm>
            <a:off x="917640" y="3179880"/>
            <a:ext cx="2941560" cy="1836720"/>
          </a:xfrm>
          <a:custGeom>
            <a:avLst/>
            <a:gdLst/>
            <a:ahLst/>
            <a:rect l="l" t="t" r="r" b="b"/>
            <a:pathLst>
              <a:path w="1853" h="1157">
                <a:moveTo>
                  <a:pt x="1853" y="803"/>
                </a:moveTo>
                <a:cubicBezTo>
                  <a:pt x="1423" y="937"/>
                  <a:pt x="994" y="1071"/>
                  <a:pt x="708" y="1114"/>
                </a:cubicBezTo>
                <a:cubicBezTo>
                  <a:pt x="422" y="1157"/>
                  <a:pt x="255" y="1104"/>
                  <a:pt x="139" y="1060"/>
                </a:cubicBezTo>
                <a:cubicBezTo>
                  <a:pt x="23" y="1016"/>
                  <a:pt x="28" y="988"/>
                  <a:pt x="14" y="849"/>
                </a:cubicBezTo>
                <a:cubicBezTo>
                  <a:pt x="0" y="710"/>
                  <a:pt x="27" y="367"/>
                  <a:pt x="53" y="226"/>
                </a:cubicBezTo>
                <a:cubicBezTo>
                  <a:pt x="79" y="85"/>
                  <a:pt x="124" y="42"/>
                  <a:pt x="170" y="0"/>
                </a:cubicBezTo>
              </a:path>
            </a:pathLst>
          </a:custGeom>
          <a:noFill/>
          <a:ln w="38160">
            <a:solidFill>
              <a:srgbClr val="66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gólny układ zastępczy rezystorowych obwodów polaryz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(dotyczy także tranzystorów polowy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2" name=""/>
          <p:cNvGrpSpPr/>
          <p:nvPr/>
        </p:nvGrpSpPr>
        <p:grpSpPr>
          <a:xfrm>
            <a:off x="539280" y="1436760"/>
            <a:ext cx="7885800" cy="4802040"/>
            <a:chOff x="539280" y="1436760"/>
            <a:chExt cx="7885800" cy="4802040"/>
          </a:xfrm>
        </p:grpSpPr>
        <p:sp>
          <p:nvSpPr>
            <p:cNvPr id="2393" name=""/>
            <p:cNvSpPr/>
            <p:nvPr/>
          </p:nvSpPr>
          <p:spPr>
            <a:xfrm>
              <a:off x="2612880" y="16462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928800" y="2700360"/>
              <a:ext cx="65880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1550880" y="3328920"/>
              <a:ext cx="370080" cy="325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77440" y="33336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39880" y="173844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927000" y="1566720"/>
              <a:ext cx="180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927000" y="218448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39280" y="18144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927080" y="3247920"/>
              <a:ext cx="17172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013120" y="3076560"/>
              <a:ext cx="144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013120" y="3693960"/>
              <a:ext cx="144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165040" y="33606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85960" y="2671920"/>
              <a:ext cx="712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H="1">
              <a:off x="2565360" y="3481560"/>
              <a:ext cx="30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>
              <a:off x="2565360" y="3592440"/>
              <a:ext cx="30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H="1">
              <a:off x="2712600" y="3090960"/>
              <a:ext cx="468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2712960" y="3608280"/>
              <a:ext cx="468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874600" y="317196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016080" y="32734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581120" y="2448000"/>
              <a:ext cx="517680" cy="51120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738440" y="2554200"/>
              <a:ext cx="6120" cy="28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758960" y="2507760"/>
              <a:ext cx="254160" cy="112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5" name=""/>
            <p:cNvGrpSpPr/>
            <p:nvPr/>
          </p:nvGrpSpPr>
          <p:grpSpPr>
            <a:xfrm>
              <a:off x="1758960" y="2741760"/>
              <a:ext cx="157320" cy="106200"/>
              <a:chOff x="1758960" y="2741760"/>
              <a:chExt cx="157320" cy="106200"/>
            </a:xfrm>
          </p:grpSpPr>
          <p:sp>
            <p:nvSpPr>
              <p:cNvPr id="2416" name=""/>
              <p:cNvSpPr/>
              <p:nvPr/>
            </p:nvSpPr>
            <p:spPr>
              <a:xfrm>
                <a:off x="1758960" y="2762280"/>
                <a:ext cx="15732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1789200" y="2741760"/>
                <a:ext cx="127080" cy="10620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8" name=""/>
            <p:cNvSpPr/>
            <p:nvPr/>
          </p:nvSpPr>
          <p:spPr>
            <a:xfrm>
              <a:off x="1916280" y="2843280"/>
              <a:ext cx="96840" cy="46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H="1">
              <a:off x="1581120" y="270684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V="1">
              <a:off x="2013120" y="2320920"/>
              <a:ext cx="144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V="1">
              <a:off x="2013120" y="288900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1927080" y="1698480"/>
              <a:ext cx="171720" cy="4557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013120" y="1521000"/>
              <a:ext cx="14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013120" y="2144880"/>
              <a:ext cx="1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154240" y="1793880"/>
              <a:ext cx="371520" cy="325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228400" y="18352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39880" y="3259080"/>
              <a:ext cx="172800" cy="451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927000" y="2371680"/>
              <a:ext cx="1800" cy="90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927000" y="3699000"/>
              <a:ext cx="180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V="1">
              <a:off x="879480" y="3914280"/>
              <a:ext cx="24512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022480" y="3090960"/>
              <a:ext cx="69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184560" y="2620800"/>
              <a:ext cx="314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260880" y="2681280"/>
              <a:ext cx="1774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184560" y="2468520"/>
              <a:ext cx="314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260880" y="253368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341520" y="2681280"/>
              <a:ext cx="1800" cy="12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3341520" y="1525680"/>
              <a:ext cx="180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1971720" y="1495440"/>
              <a:ext cx="666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300480" y="1495440"/>
              <a:ext cx="712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1971720" y="306072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1971720" y="3867120"/>
              <a:ext cx="6660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2682720" y="3867120"/>
              <a:ext cx="6984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300480" y="3867120"/>
              <a:ext cx="7128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634200" y="24336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767400" y="253368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406680" y="2077920"/>
              <a:ext cx="30492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482640" y="211932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392640" y="2741760"/>
              <a:ext cx="304560" cy="309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501360" y="2771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227560" y="2898720"/>
              <a:ext cx="30492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308200" y="294012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703920" y="2540160"/>
              <a:ext cx="513000" cy="515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861240" y="2651040"/>
              <a:ext cx="1440" cy="28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6877080" y="2604600"/>
              <a:ext cx="252360" cy="111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5" name=""/>
            <p:cNvGrpSpPr/>
            <p:nvPr/>
          </p:nvGrpSpPr>
          <p:grpSpPr>
            <a:xfrm>
              <a:off x="6877080" y="2838600"/>
              <a:ext cx="156960" cy="106200"/>
              <a:chOff x="6877080" y="2838600"/>
              <a:chExt cx="156960" cy="106200"/>
            </a:xfrm>
          </p:grpSpPr>
          <p:sp>
            <p:nvSpPr>
              <p:cNvPr id="2456" name=""/>
              <p:cNvSpPr/>
              <p:nvPr/>
            </p:nvSpPr>
            <p:spPr>
              <a:xfrm>
                <a:off x="6877080" y="2859120"/>
                <a:ext cx="15696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6906960" y="2838600"/>
                <a:ext cx="126720" cy="10620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8" name=""/>
            <p:cNvSpPr/>
            <p:nvPr/>
          </p:nvSpPr>
          <p:spPr>
            <a:xfrm>
              <a:off x="7034040" y="2933640"/>
              <a:ext cx="9540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flipH="1">
              <a:off x="6703560" y="280368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V="1">
              <a:off x="7129440" y="241272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7129440" y="2984400"/>
              <a:ext cx="648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043760" y="3328920"/>
              <a:ext cx="173160" cy="451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129440" y="3152880"/>
              <a:ext cx="14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7129440" y="3770280"/>
              <a:ext cx="1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408800" y="3430440"/>
              <a:ext cx="284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7115040" y="1617840"/>
              <a:ext cx="180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7115040" y="223524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635160" y="1863720"/>
              <a:ext cx="2916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7135920" y="1612800"/>
              <a:ext cx="68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651800" y="2732040"/>
              <a:ext cx="32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734240" y="2792520"/>
              <a:ext cx="171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7651800" y="2579760"/>
              <a:ext cx="32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7734240" y="2639880"/>
              <a:ext cx="171360" cy="6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808760" y="2792520"/>
              <a:ext cx="1800" cy="11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7808760" y="1612800"/>
              <a:ext cx="1800" cy="9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8041680" y="2523960"/>
              <a:ext cx="3834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875720" y="2189160"/>
              <a:ext cx="30456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7951320" y="223056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859880" y="2852640"/>
              <a:ext cx="30456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970400" y="28843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162400" y="3978360"/>
              <a:ext cx="264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162400" y="2778120"/>
              <a:ext cx="155736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005440" y="3441600"/>
              <a:ext cx="3189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086440" y="3506760"/>
              <a:ext cx="172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005440" y="3294000"/>
              <a:ext cx="318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086440" y="3354480"/>
              <a:ext cx="172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162400" y="3502080"/>
              <a:ext cx="180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162400" y="2778120"/>
              <a:ext cx="180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4604040" y="3319560"/>
              <a:ext cx="2689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213520" y="3562200"/>
              <a:ext cx="303120" cy="314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322240" y="3598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2" name=""/>
            <p:cNvGrpSpPr/>
            <p:nvPr/>
          </p:nvGrpSpPr>
          <p:grpSpPr>
            <a:xfrm>
              <a:off x="4908600" y="3157560"/>
              <a:ext cx="106200" cy="536400"/>
              <a:chOff x="4908600" y="3157560"/>
              <a:chExt cx="106200" cy="536400"/>
            </a:xfrm>
          </p:grpSpPr>
          <p:sp>
            <p:nvSpPr>
              <p:cNvPr id="2493" name=""/>
              <p:cNvSpPr/>
              <p:nvPr/>
            </p:nvSpPr>
            <p:spPr>
              <a:xfrm>
                <a:off x="4959000" y="3157560"/>
                <a:ext cx="1440" cy="53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4908600" y="31575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5" name=""/>
            <p:cNvSpPr/>
            <p:nvPr/>
          </p:nvSpPr>
          <p:spPr>
            <a:xfrm>
              <a:off x="7089840" y="3948120"/>
              <a:ext cx="712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607000" y="2290680"/>
              <a:ext cx="284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rot="5400000">
              <a:off x="1140840" y="248364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H="1">
              <a:off x="915480" y="1521000"/>
              <a:ext cx="24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rot="5400000">
              <a:off x="2588400" y="129456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306080" y="22384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018200" y="1789200"/>
              <a:ext cx="198720" cy="455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2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3" name=""/>
                <p:cNvSpPr txBox="1"/>
                <p:nvPr/>
              </p:nvSpPr>
              <p:spPr>
                <a:xfrm>
                  <a:off x="1859040" y="4282920"/>
                  <a:ext cx="2379600" cy="195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4" name=""/>
                <p:cNvSpPr txBox="1"/>
                <p:nvPr/>
              </p:nvSpPr>
              <p:spPr>
                <a:xfrm>
                  <a:off x="5124600" y="4871880"/>
                  <a:ext cx="245556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05" name=""/>
            <p:cNvSpPr/>
            <p:nvPr/>
          </p:nvSpPr>
          <p:spPr>
            <a:xfrm>
              <a:off x="4194000" y="2536920"/>
              <a:ext cx="865440" cy="183960"/>
            </a:xfrm>
            <a:prstGeom prst="rightArrow">
              <a:avLst>
                <a:gd name="adj1" fmla="val 50000"/>
                <a:gd name="adj2" fmla="val 117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486400" y="2698920"/>
              <a:ext cx="450720" cy="1713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7" name=""/>
                <p:cNvSpPr txBox="1"/>
                <p:nvPr/>
              </p:nvSpPr>
              <p:spPr>
                <a:xfrm>
                  <a:off x="5068800" y="5541840"/>
                  <a:ext cx="257652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8400" y="-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asymptotyczne BOD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39680" y="1220760"/>
                <a:ext cx="42418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5879520" y="120492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zkład zer i biegunó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98360" y="1465200"/>
            <a:ext cx="8626680" cy="5266800"/>
            <a:chOff x="198360" y="1465200"/>
            <a:chExt cx="8626680" cy="5266800"/>
          </a:xfrm>
        </p:grpSpPr>
        <p:sp>
          <p:nvSpPr>
            <p:cNvPr id="75" name=""/>
            <p:cNvSpPr/>
            <p:nvPr/>
          </p:nvSpPr>
          <p:spPr>
            <a:xfrm flipV="1">
              <a:off x="1843200" y="2709720"/>
              <a:ext cx="0" cy="163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55800" y="4343400"/>
              <a:ext cx="472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73360" y="4329000"/>
              <a:ext cx="394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z1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1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pl-PL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z2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2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3         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10s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3200" y="3587760"/>
              <a:ext cx="91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759040" y="3141360"/>
              <a:ext cx="44604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05080" y="31543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046400" y="2611440"/>
              <a:ext cx="48420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57800" y="2660760"/>
              <a:ext cx="1182600" cy="14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09720" y="4281480"/>
              <a:ext cx="98640" cy="11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86280" y="4299120"/>
              <a:ext cx="98280" cy="11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159000" y="4286160"/>
              <a:ext cx="123840" cy="123840"/>
              <a:chOff x="3159000" y="4286160"/>
              <a:chExt cx="123840" cy="123840"/>
            </a:xfrm>
          </p:grpSpPr>
          <p:sp>
            <p:nvSpPr>
              <p:cNvPr id="86" name=""/>
              <p:cNvSpPr/>
              <p:nvPr/>
            </p:nvSpPr>
            <p:spPr>
              <a:xfrm>
                <a:off x="3159000" y="4299120"/>
                <a:ext cx="12384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3168720" y="4286160"/>
                <a:ext cx="1108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4459320" y="4297320"/>
              <a:ext cx="123840" cy="123840"/>
              <a:chOff x="4459320" y="4297320"/>
              <a:chExt cx="123840" cy="123840"/>
            </a:xfrm>
          </p:grpSpPr>
          <p:sp>
            <p:nvSpPr>
              <p:cNvPr id="89" name=""/>
              <p:cNvSpPr/>
              <p:nvPr/>
            </p:nvSpPr>
            <p:spPr>
              <a:xfrm>
                <a:off x="4459320" y="4310280"/>
                <a:ext cx="12384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4469040" y="4297320"/>
                <a:ext cx="1108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641640" y="4097160"/>
              <a:ext cx="21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 skala logarytmiczn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46520" y="2548080"/>
              <a:ext cx="78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|T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95480" y="285120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[dB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47200" y="334800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64440" y="5315040"/>
              <a:ext cx="801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Arg T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39240" y="3308400"/>
              <a:ext cx="87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16560" y="2635200"/>
              <a:ext cx="71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99320" y="2854440"/>
              <a:ext cx="108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2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1760" y="3089160"/>
              <a:ext cx="87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15320" y="2664000"/>
              <a:ext cx="108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2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67960" y="2301840"/>
              <a:ext cx="87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75040" y="2900520"/>
              <a:ext cx="104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4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771640" y="3564000"/>
              <a:ext cx="0" cy="766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216240" y="3166560"/>
              <a:ext cx="0" cy="1163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044960" y="3166920"/>
              <a:ext cx="0" cy="1176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16560" y="2635200"/>
              <a:ext cx="0" cy="1708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34040" y="2647800"/>
              <a:ext cx="0" cy="1695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181480" y="4292640"/>
              <a:ext cx="123840" cy="123840"/>
              <a:chOff x="5181480" y="4292640"/>
              <a:chExt cx="123840" cy="123840"/>
            </a:xfrm>
          </p:grpSpPr>
          <p:sp>
            <p:nvSpPr>
              <p:cNvPr id="109" name=""/>
              <p:cNvSpPr/>
              <p:nvPr/>
            </p:nvSpPr>
            <p:spPr>
              <a:xfrm>
                <a:off x="5181480" y="4305600"/>
                <a:ext cx="123840" cy="11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5191200" y="4292640"/>
                <a:ext cx="110880" cy="12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868400" y="487692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81360" y="4836960"/>
              <a:ext cx="467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3960" y="552924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759040" y="508428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59040" y="507204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28840" y="508464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41800" y="5529240"/>
              <a:ext cx="87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119480" y="508428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32440" y="5084640"/>
              <a:ext cx="42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19800" y="5543640"/>
              <a:ext cx="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18000" y="63961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17880" y="510048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9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33960" y="514188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0" lang="en-US" sz="16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84760" y="57243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180</a:t>
              </a:r>
              <a:r>
                <a:rPr b="0" lang="en-US" sz="16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660760" y="5084640"/>
              <a:ext cx="0" cy="371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21000" y="5126040"/>
              <a:ext cx="0" cy="37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1800" y="5554800"/>
              <a:ext cx="0" cy="766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046400" y="5121000"/>
              <a:ext cx="0" cy="345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10080" y="515772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9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52920" y="5084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89360" y="5133960"/>
              <a:ext cx="0" cy="37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52920" y="554184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51640" y="513720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0" lang="en-US" sz="16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4702320" y="1465200"/>
              <a:ext cx="4093920" cy="746640"/>
              <a:chOff x="4702320" y="1465200"/>
              <a:chExt cx="4093920" cy="746640"/>
            </a:xfrm>
          </p:grpSpPr>
          <p:sp>
            <p:nvSpPr>
              <p:cNvPr id="135" name=""/>
              <p:cNvSpPr/>
              <p:nvPr/>
            </p:nvSpPr>
            <p:spPr>
              <a:xfrm flipH="1">
                <a:off x="4702320" y="1646280"/>
                <a:ext cx="376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049720" y="1701720"/>
                <a:ext cx="2932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z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z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127480" y="1601640"/>
                <a:ext cx="98640" cy="11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326280" y="1612800"/>
                <a:ext cx="98280" cy="11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468760" y="1584360"/>
                <a:ext cx="123840" cy="123840"/>
                <a:chOff x="5468760" y="1584360"/>
                <a:chExt cx="123840" cy="1238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468760" y="1597320"/>
                  <a:ext cx="123840" cy="11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5478480" y="1584360"/>
                  <a:ext cx="1108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834240" y="1589040"/>
                <a:ext cx="123840" cy="123840"/>
                <a:chOff x="6834240" y="1589040"/>
                <a:chExt cx="123840" cy="1238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834240" y="1602000"/>
                  <a:ext cx="123840" cy="11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6843960" y="1589040"/>
                  <a:ext cx="1108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7740720" y="1566720"/>
                <a:ext cx="123840" cy="123840"/>
                <a:chOff x="7740720" y="1566720"/>
                <a:chExt cx="123840" cy="1238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740720" y="1579680"/>
                  <a:ext cx="123840" cy="11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7750440" y="1566720"/>
                  <a:ext cx="110880" cy="123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8463240" y="146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4838760" y="3389400"/>
                  <a:ext cx="4572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198360" y="3747960"/>
                  <a:ext cx="148932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1" name=""/>
            <p:cNvSpPr/>
            <p:nvPr/>
          </p:nvSpPr>
          <p:spPr>
            <a:xfrm>
              <a:off x="1905120" y="5275440"/>
              <a:ext cx="5343480" cy="1095120"/>
            </a:xfrm>
            <a:custGeom>
              <a:avLst/>
              <a:gdLst/>
              <a:ahLst/>
              <a:rect l="l" t="t" r="r" b="b"/>
              <a:pathLst>
                <a:path w="3366" h="690">
                  <a:moveTo>
                    <a:pt x="0" y="153"/>
                  </a:moveTo>
                  <a:cubicBezTo>
                    <a:pt x="45" y="150"/>
                    <a:pt x="204" y="149"/>
                    <a:pt x="273" y="137"/>
                  </a:cubicBezTo>
                  <a:cubicBezTo>
                    <a:pt x="342" y="125"/>
                    <a:pt x="365" y="99"/>
                    <a:pt x="413" y="83"/>
                  </a:cubicBezTo>
                  <a:cubicBezTo>
                    <a:pt x="461" y="67"/>
                    <a:pt x="509" y="57"/>
                    <a:pt x="561" y="44"/>
                  </a:cubicBezTo>
                  <a:cubicBezTo>
                    <a:pt x="613" y="31"/>
                    <a:pt x="677" y="10"/>
                    <a:pt x="725" y="5"/>
                  </a:cubicBezTo>
                  <a:cubicBezTo>
                    <a:pt x="773" y="0"/>
                    <a:pt x="797" y="2"/>
                    <a:pt x="849" y="12"/>
                  </a:cubicBezTo>
                  <a:cubicBezTo>
                    <a:pt x="901" y="22"/>
                    <a:pt x="991" y="54"/>
                    <a:pt x="1036" y="67"/>
                  </a:cubicBezTo>
                  <a:cubicBezTo>
                    <a:pt x="1081" y="80"/>
                    <a:pt x="1083" y="85"/>
                    <a:pt x="1122" y="90"/>
                  </a:cubicBezTo>
                  <a:cubicBezTo>
                    <a:pt x="1161" y="95"/>
                    <a:pt x="1208" y="106"/>
                    <a:pt x="1270" y="98"/>
                  </a:cubicBezTo>
                  <a:cubicBezTo>
                    <a:pt x="1332" y="90"/>
                    <a:pt x="1430" y="52"/>
                    <a:pt x="1496" y="44"/>
                  </a:cubicBezTo>
                  <a:cubicBezTo>
                    <a:pt x="1562" y="36"/>
                    <a:pt x="1619" y="46"/>
                    <a:pt x="1668" y="51"/>
                  </a:cubicBezTo>
                  <a:cubicBezTo>
                    <a:pt x="1717" y="56"/>
                    <a:pt x="1748" y="59"/>
                    <a:pt x="1792" y="75"/>
                  </a:cubicBezTo>
                  <a:cubicBezTo>
                    <a:pt x="1836" y="91"/>
                    <a:pt x="1877" y="103"/>
                    <a:pt x="1933" y="145"/>
                  </a:cubicBezTo>
                  <a:cubicBezTo>
                    <a:pt x="1989" y="187"/>
                    <a:pt x="2057" y="263"/>
                    <a:pt x="2127" y="324"/>
                  </a:cubicBezTo>
                  <a:cubicBezTo>
                    <a:pt x="2197" y="385"/>
                    <a:pt x="2268" y="468"/>
                    <a:pt x="2353" y="511"/>
                  </a:cubicBezTo>
                  <a:cubicBezTo>
                    <a:pt x="2438" y="554"/>
                    <a:pt x="2550" y="564"/>
                    <a:pt x="2634" y="581"/>
                  </a:cubicBezTo>
                  <a:cubicBezTo>
                    <a:pt x="2718" y="598"/>
                    <a:pt x="2772" y="599"/>
                    <a:pt x="2860" y="613"/>
                  </a:cubicBezTo>
                  <a:cubicBezTo>
                    <a:pt x="2948" y="627"/>
                    <a:pt x="3080" y="654"/>
                    <a:pt x="3164" y="667"/>
                  </a:cubicBezTo>
                  <a:cubicBezTo>
                    <a:pt x="3248" y="680"/>
                    <a:pt x="3324" y="685"/>
                    <a:pt x="3366" y="690"/>
                  </a:cubicBez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2920" y="627228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Arg T(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65280" y="4510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72200" y="3797280"/>
              <a:ext cx="0" cy="544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45200" y="2647800"/>
              <a:ext cx="1509480" cy="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84800" y="3809880"/>
              <a:ext cx="668520" cy="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65920" y="2709720"/>
              <a:ext cx="0" cy="1001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61320" y="3060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40d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1677960" y="3579840"/>
            <a:ext cx="72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3506760" y="2881440"/>
            <a:ext cx="0" cy="51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506760" y="3251160"/>
            <a:ext cx="291960" cy="204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3216240" y="314964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3798720" y="345600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 flipV="1">
            <a:off x="3506760" y="2738520"/>
            <a:ext cx="291960" cy="30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 rot="10800000">
            <a:off x="3687840" y="1452240"/>
            <a:ext cx="20304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6" name=""/>
          <p:cNvGrpSpPr/>
          <p:nvPr/>
        </p:nvGrpSpPr>
        <p:grpSpPr>
          <a:xfrm>
            <a:off x="4770360" y="2948040"/>
            <a:ext cx="582480" cy="102600"/>
            <a:chOff x="4770360" y="2948040"/>
            <a:chExt cx="582480" cy="102600"/>
          </a:xfrm>
        </p:grpSpPr>
        <p:sp>
          <p:nvSpPr>
            <p:cNvPr id="2517" name=""/>
            <p:cNvSpPr/>
            <p:nvPr/>
          </p:nvSpPr>
          <p:spPr>
            <a:xfrm>
              <a:off x="4770360" y="2948040"/>
              <a:ext cx="58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4964400" y="3050640"/>
              <a:ext cx="19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9" name=""/>
          <p:cNvSpPr/>
          <p:nvPr/>
        </p:nvSpPr>
        <p:spPr>
          <a:xfrm>
            <a:off x="3824280" y="5629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3821040" y="4497480"/>
            <a:ext cx="0" cy="11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 flipH="1">
            <a:off x="3777840" y="2025720"/>
            <a:ext cx="4680" cy="7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3747960" y="1127160"/>
            <a:ext cx="130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494080" y="3149640"/>
            <a:ext cx="82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782880" y="112716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4986360" y="4792680"/>
            <a:ext cx="9360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6" name=""/>
          <p:cNvGrpSpPr/>
          <p:nvPr/>
        </p:nvGrpSpPr>
        <p:grpSpPr>
          <a:xfrm>
            <a:off x="2347920" y="4856040"/>
            <a:ext cx="291600" cy="306360"/>
            <a:chOff x="2347920" y="4856040"/>
            <a:chExt cx="291600" cy="306360"/>
          </a:xfrm>
        </p:grpSpPr>
        <p:sp>
          <p:nvSpPr>
            <p:cNvPr id="2527" name=""/>
            <p:cNvSpPr/>
            <p:nvPr/>
          </p:nvSpPr>
          <p:spPr>
            <a:xfrm>
              <a:off x="2499480" y="48560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347920" y="5133960"/>
              <a:ext cx="29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5249880" y="2581200"/>
            <a:ext cx="2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5407200" y="30862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868480" y="315108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782880" y="2313000"/>
            <a:ext cx="0" cy="3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V="1">
            <a:off x="4135320" y="2839680"/>
            <a:ext cx="0" cy="749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flipH="1" flipV="1">
            <a:off x="3173040" y="3385800"/>
            <a:ext cx="384120" cy="477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4113360" y="2963880"/>
            <a:ext cx="98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2952000" y="3548160"/>
            <a:ext cx="51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2864520" y="256860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782880" y="2313000"/>
            <a:ext cx="93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 rot="10800000">
            <a:off x="2392200" y="3436560"/>
            <a:ext cx="20160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2494080" y="3166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 flipV="1">
            <a:off x="2494080" y="4044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5043600" y="1112760"/>
            <a:ext cx="0" cy="18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4008600" y="1495440"/>
            <a:ext cx="72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2925720" y="4151160"/>
            <a:ext cx="101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1771560" y="3173400"/>
            <a:ext cx="6080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6" name=""/>
          <p:cNvGrpSpPr/>
          <p:nvPr/>
        </p:nvGrpSpPr>
        <p:grpSpPr>
          <a:xfrm>
            <a:off x="4726080" y="5305320"/>
            <a:ext cx="582120" cy="102960"/>
            <a:chOff x="4726080" y="5305320"/>
            <a:chExt cx="582120" cy="102960"/>
          </a:xfrm>
        </p:grpSpPr>
        <p:sp>
          <p:nvSpPr>
            <p:cNvPr id="2547" name=""/>
            <p:cNvSpPr/>
            <p:nvPr/>
          </p:nvSpPr>
          <p:spPr>
            <a:xfrm>
              <a:off x="4726080" y="5305320"/>
              <a:ext cx="58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919760" y="5408280"/>
              <a:ext cx="193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9" name=""/>
          <p:cNvSpPr/>
          <p:nvPr/>
        </p:nvSpPr>
        <p:spPr>
          <a:xfrm>
            <a:off x="5035680" y="3051000"/>
            <a:ext cx="0" cy="22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035680" y="541512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2495520" y="4838760"/>
            <a:ext cx="254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435400" y="4782960"/>
            <a:ext cx="93600" cy="93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5398920" y="5057640"/>
            <a:ext cx="66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807000" y="3629160"/>
            <a:ext cx="82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5" name=""/>
          <p:cNvGrpSpPr/>
          <p:nvPr/>
        </p:nvGrpSpPr>
        <p:grpSpPr>
          <a:xfrm>
            <a:off x="4473720" y="3828960"/>
            <a:ext cx="316800" cy="76320"/>
            <a:chOff x="4473720" y="3828960"/>
            <a:chExt cx="316800" cy="76320"/>
          </a:xfrm>
        </p:grpSpPr>
        <p:sp>
          <p:nvSpPr>
            <p:cNvPr id="2556" name=""/>
            <p:cNvSpPr/>
            <p:nvPr/>
          </p:nvSpPr>
          <p:spPr>
            <a:xfrm>
              <a:off x="4473720" y="3828960"/>
              <a:ext cx="30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483440" y="3905280"/>
              <a:ext cx="30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8" name=""/>
          <p:cNvSpPr/>
          <p:nvPr/>
        </p:nvSpPr>
        <p:spPr>
          <a:xfrm>
            <a:off x="4637160" y="362916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637160" y="3905280"/>
            <a:ext cx="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575240" y="4773600"/>
            <a:ext cx="9504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3746520" y="3583080"/>
            <a:ext cx="9360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096080" y="367668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846600" y="2857680"/>
            <a:ext cx="1058760" cy="1942920"/>
          </a:xfrm>
          <a:custGeom>
            <a:avLst/>
            <a:gdLst/>
            <a:ahLst/>
            <a:rect l="l" t="t" r="r" b="b"/>
            <a:pathLst>
              <a:path w="620" h="1224">
                <a:moveTo>
                  <a:pt x="55" y="0"/>
                </a:moveTo>
                <a:cubicBezTo>
                  <a:pt x="34" y="13"/>
                  <a:pt x="13" y="26"/>
                  <a:pt x="13" y="42"/>
                </a:cubicBezTo>
                <a:cubicBezTo>
                  <a:pt x="13" y="58"/>
                  <a:pt x="56" y="77"/>
                  <a:pt x="55" y="96"/>
                </a:cubicBezTo>
                <a:cubicBezTo>
                  <a:pt x="54" y="115"/>
                  <a:pt x="5" y="137"/>
                  <a:pt x="7" y="156"/>
                </a:cubicBezTo>
                <a:cubicBezTo>
                  <a:pt x="9" y="175"/>
                  <a:pt x="65" y="194"/>
                  <a:pt x="67" y="210"/>
                </a:cubicBezTo>
                <a:cubicBezTo>
                  <a:pt x="69" y="226"/>
                  <a:pt x="17" y="233"/>
                  <a:pt x="19" y="252"/>
                </a:cubicBezTo>
                <a:cubicBezTo>
                  <a:pt x="21" y="271"/>
                  <a:pt x="81" y="305"/>
                  <a:pt x="79" y="324"/>
                </a:cubicBezTo>
                <a:cubicBezTo>
                  <a:pt x="77" y="343"/>
                  <a:pt x="0" y="350"/>
                  <a:pt x="7" y="366"/>
                </a:cubicBezTo>
                <a:cubicBezTo>
                  <a:pt x="14" y="382"/>
                  <a:pt x="83" y="417"/>
                  <a:pt x="121" y="420"/>
                </a:cubicBezTo>
                <a:cubicBezTo>
                  <a:pt x="159" y="423"/>
                  <a:pt x="215" y="382"/>
                  <a:pt x="235" y="384"/>
                </a:cubicBezTo>
                <a:cubicBezTo>
                  <a:pt x="255" y="386"/>
                  <a:pt x="231" y="429"/>
                  <a:pt x="241" y="432"/>
                </a:cubicBezTo>
                <a:cubicBezTo>
                  <a:pt x="251" y="435"/>
                  <a:pt x="279" y="398"/>
                  <a:pt x="295" y="402"/>
                </a:cubicBezTo>
                <a:cubicBezTo>
                  <a:pt x="311" y="406"/>
                  <a:pt x="310" y="452"/>
                  <a:pt x="337" y="456"/>
                </a:cubicBezTo>
                <a:cubicBezTo>
                  <a:pt x="364" y="460"/>
                  <a:pt x="436" y="425"/>
                  <a:pt x="457" y="426"/>
                </a:cubicBezTo>
                <a:cubicBezTo>
                  <a:pt x="478" y="427"/>
                  <a:pt x="445" y="451"/>
                  <a:pt x="463" y="462"/>
                </a:cubicBezTo>
                <a:cubicBezTo>
                  <a:pt x="481" y="473"/>
                  <a:pt x="539" y="464"/>
                  <a:pt x="565" y="492"/>
                </a:cubicBezTo>
                <a:cubicBezTo>
                  <a:pt x="591" y="520"/>
                  <a:pt x="620" y="593"/>
                  <a:pt x="619" y="630"/>
                </a:cubicBezTo>
                <a:cubicBezTo>
                  <a:pt x="618" y="667"/>
                  <a:pt x="564" y="687"/>
                  <a:pt x="559" y="714"/>
                </a:cubicBezTo>
                <a:cubicBezTo>
                  <a:pt x="554" y="741"/>
                  <a:pt x="595" y="771"/>
                  <a:pt x="589" y="792"/>
                </a:cubicBezTo>
                <a:cubicBezTo>
                  <a:pt x="583" y="813"/>
                  <a:pt x="529" y="821"/>
                  <a:pt x="523" y="840"/>
                </a:cubicBezTo>
                <a:cubicBezTo>
                  <a:pt x="517" y="859"/>
                  <a:pt x="556" y="888"/>
                  <a:pt x="553" y="906"/>
                </a:cubicBezTo>
                <a:cubicBezTo>
                  <a:pt x="550" y="924"/>
                  <a:pt x="507" y="895"/>
                  <a:pt x="505" y="948"/>
                </a:cubicBezTo>
                <a:cubicBezTo>
                  <a:pt x="503" y="1001"/>
                  <a:pt x="534" y="1178"/>
                  <a:pt x="541" y="122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 rot="10800000">
            <a:off x="3695760" y="3909600"/>
            <a:ext cx="20160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3921120" y="4078440"/>
            <a:ext cx="72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6" name=""/>
              <p:cNvSpPr txBox="1"/>
              <p:nvPr/>
            </p:nvSpPr>
            <p:spPr>
              <a:xfrm>
                <a:off x="6210360" y="3125880"/>
                <a:ext cx="23623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67" name=""/>
          <p:cNvSpPr/>
          <p:nvPr/>
        </p:nvSpPr>
        <p:spPr>
          <a:xfrm>
            <a:off x="3836880" y="5051520"/>
            <a:ext cx="0" cy="33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3192480" y="4989600"/>
            <a:ext cx="59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0" name=""/>
          <p:cNvGrpSpPr/>
          <p:nvPr/>
        </p:nvGrpSpPr>
        <p:grpSpPr>
          <a:xfrm>
            <a:off x="1677960" y="1112760"/>
            <a:ext cx="6797880" cy="4516560"/>
            <a:chOff x="1677960" y="1112760"/>
            <a:chExt cx="6797880" cy="4516560"/>
          </a:xfrm>
        </p:grpSpPr>
        <p:sp>
          <p:nvSpPr>
            <p:cNvPr id="2571" name=""/>
            <p:cNvSpPr/>
            <p:nvPr/>
          </p:nvSpPr>
          <p:spPr>
            <a:xfrm>
              <a:off x="1677960" y="3579840"/>
              <a:ext cx="72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3506760" y="28814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3506760" y="3251160"/>
              <a:ext cx="29196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3216240" y="314964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3798720" y="3456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V="1">
              <a:off x="3506760" y="2738520"/>
              <a:ext cx="29196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rot="10800000">
              <a:off x="3687840" y="1452240"/>
              <a:ext cx="20304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8" name=""/>
            <p:cNvGrpSpPr/>
            <p:nvPr/>
          </p:nvGrpSpPr>
          <p:grpSpPr>
            <a:xfrm>
              <a:off x="4770360" y="2948040"/>
              <a:ext cx="582480" cy="102600"/>
              <a:chOff x="4770360" y="2948040"/>
              <a:chExt cx="582480" cy="102600"/>
            </a:xfrm>
          </p:grpSpPr>
          <p:sp>
            <p:nvSpPr>
              <p:cNvPr id="2579" name=""/>
              <p:cNvSpPr/>
              <p:nvPr/>
            </p:nvSpPr>
            <p:spPr>
              <a:xfrm>
                <a:off x="4770360" y="2948040"/>
                <a:ext cx="582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4964400" y="3050640"/>
                <a:ext cx="19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1" name=""/>
            <p:cNvSpPr/>
            <p:nvPr/>
          </p:nvSpPr>
          <p:spPr>
            <a:xfrm>
              <a:off x="3824280" y="5629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821040" y="4559400"/>
              <a:ext cx="0" cy="10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H="1">
              <a:off x="3777840" y="20257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3747960" y="1127160"/>
              <a:ext cx="130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494080" y="3149640"/>
              <a:ext cx="82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782880" y="11271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986360" y="4792680"/>
              <a:ext cx="9360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8" name=""/>
            <p:cNvGrpSpPr/>
            <p:nvPr/>
          </p:nvGrpSpPr>
          <p:grpSpPr>
            <a:xfrm>
              <a:off x="2347920" y="4856040"/>
              <a:ext cx="291600" cy="306360"/>
              <a:chOff x="2347920" y="4856040"/>
              <a:chExt cx="291600" cy="306360"/>
            </a:xfrm>
          </p:grpSpPr>
          <p:sp>
            <p:nvSpPr>
              <p:cNvPr id="2589" name=""/>
              <p:cNvSpPr/>
              <p:nvPr/>
            </p:nvSpPr>
            <p:spPr>
              <a:xfrm>
                <a:off x="2499480" y="48560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2347920" y="5133960"/>
                <a:ext cx="29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1" name=""/>
            <p:cNvSpPr/>
            <p:nvPr/>
          </p:nvSpPr>
          <p:spPr>
            <a:xfrm>
              <a:off x="5249880" y="2581200"/>
              <a:ext cx="26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407200" y="30862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868480" y="31510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782880" y="23130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V="1">
              <a:off x="4135320" y="28396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H="1" flipV="1">
              <a:off x="3173040" y="3385800"/>
              <a:ext cx="384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113360" y="2963880"/>
              <a:ext cx="987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952000" y="35481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864520" y="25686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782880" y="2313000"/>
              <a:ext cx="93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 rot="10800000">
              <a:off x="2392200" y="3436560"/>
              <a:ext cx="2016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494080" y="31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V="1">
              <a:off x="2494080" y="40446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043600" y="11127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008600" y="1495440"/>
              <a:ext cx="725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6" name=""/>
            <p:cNvGrpSpPr/>
            <p:nvPr/>
          </p:nvGrpSpPr>
          <p:grpSpPr>
            <a:xfrm>
              <a:off x="3575160" y="3855960"/>
              <a:ext cx="491760" cy="685800"/>
              <a:chOff x="3575160" y="3855960"/>
              <a:chExt cx="491760" cy="685800"/>
            </a:xfrm>
          </p:grpSpPr>
          <p:sp>
            <p:nvSpPr>
              <p:cNvPr id="2607" name=""/>
              <p:cNvSpPr/>
              <p:nvPr/>
            </p:nvSpPr>
            <p:spPr>
              <a:xfrm>
                <a:off x="3575160" y="3855960"/>
                <a:ext cx="49176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3575160" y="4084560"/>
                <a:ext cx="49176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3821040" y="4008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0" name=""/>
            <p:cNvSpPr/>
            <p:nvPr/>
          </p:nvSpPr>
          <p:spPr>
            <a:xfrm>
              <a:off x="2925720" y="4151160"/>
              <a:ext cx="101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6254640" y="3270240"/>
              <a:ext cx="2221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EQ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r>
                <a:rPr b="0" lang="pl-P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771560" y="3173400"/>
              <a:ext cx="608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3" name=""/>
            <p:cNvGrpSpPr/>
            <p:nvPr/>
          </p:nvGrpSpPr>
          <p:grpSpPr>
            <a:xfrm>
              <a:off x="4726080" y="5305320"/>
              <a:ext cx="582120" cy="102960"/>
              <a:chOff x="4726080" y="5305320"/>
              <a:chExt cx="582120" cy="102960"/>
            </a:xfrm>
          </p:grpSpPr>
          <p:sp>
            <p:nvSpPr>
              <p:cNvPr id="2614" name=""/>
              <p:cNvSpPr/>
              <p:nvPr/>
            </p:nvSpPr>
            <p:spPr>
              <a:xfrm>
                <a:off x="4726080" y="5305320"/>
                <a:ext cx="582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4919760" y="5408280"/>
                <a:ext cx="193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6" name=""/>
            <p:cNvSpPr/>
            <p:nvPr/>
          </p:nvSpPr>
          <p:spPr>
            <a:xfrm>
              <a:off x="5035680" y="30510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035680" y="54151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495520" y="4838760"/>
              <a:ext cx="254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435400" y="4782960"/>
              <a:ext cx="9360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398920" y="5057640"/>
              <a:ext cx="66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807000" y="3629160"/>
              <a:ext cx="82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2" name=""/>
            <p:cNvGrpSpPr/>
            <p:nvPr/>
          </p:nvGrpSpPr>
          <p:grpSpPr>
            <a:xfrm>
              <a:off x="4473720" y="3828960"/>
              <a:ext cx="316800" cy="76320"/>
              <a:chOff x="4473720" y="3828960"/>
              <a:chExt cx="316800" cy="76320"/>
            </a:xfrm>
          </p:grpSpPr>
          <p:sp>
            <p:nvSpPr>
              <p:cNvPr id="2623" name=""/>
              <p:cNvSpPr/>
              <p:nvPr/>
            </p:nvSpPr>
            <p:spPr>
              <a:xfrm>
                <a:off x="4473720" y="3828960"/>
                <a:ext cx="30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4483440" y="3905280"/>
                <a:ext cx="30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5" name=""/>
            <p:cNvSpPr/>
            <p:nvPr/>
          </p:nvSpPr>
          <p:spPr>
            <a:xfrm>
              <a:off x="4637160" y="36291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637160" y="390528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4575240" y="4773600"/>
              <a:ext cx="9504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746520" y="3583080"/>
              <a:ext cx="9360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096080" y="367668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846600" y="2857680"/>
              <a:ext cx="1058760" cy="1942920"/>
            </a:xfrm>
            <a:custGeom>
              <a:avLst/>
              <a:gdLst/>
              <a:ahLst/>
              <a:rect l="l" t="t" r="r" b="b"/>
              <a:pathLst>
                <a:path w="620" h="1224">
                  <a:moveTo>
                    <a:pt x="55" y="0"/>
                  </a:moveTo>
                  <a:cubicBezTo>
                    <a:pt x="34" y="13"/>
                    <a:pt x="13" y="26"/>
                    <a:pt x="13" y="42"/>
                  </a:cubicBezTo>
                  <a:cubicBezTo>
                    <a:pt x="13" y="58"/>
                    <a:pt x="56" y="77"/>
                    <a:pt x="55" y="96"/>
                  </a:cubicBezTo>
                  <a:cubicBezTo>
                    <a:pt x="54" y="115"/>
                    <a:pt x="5" y="137"/>
                    <a:pt x="7" y="156"/>
                  </a:cubicBezTo>
                  <a:cubicBezTo>
                    <a:pt x="9" y="175"/>
                    <a:pt x="65" y="194"/>
                    <a:pt x="67" y="210"/>
                  </a:cubicBezTo>
                  <a:cubicBezTo>
                    <a:pt x="69" y="226"/>
                    <a:pt x="17" y="233"/>
                    <a:pt x="19" y="252"/>
                  </a:cubicBezTo>
                  <a:cubicBezTo>
                    <a:pt x="21" y="271"/>
                    <a:pt x="81" y="305"/>
                    <a:pt x="79" y="324"/>
                  </a:cubicBezTo>
                  <a:cubicBezTo>
                    <a:pt x="77" y="343"/>
                    <a:pt x="0" y="350"/>
                    <a:pt x="7" y="366"/>
                  </a:cubicBezTo>
                  <a:cubicBezTo>
                    <a:pt x="14" y="382"/>
                    <a:pt x="83" y="417"/>
                    <a:pt x="121" y="420"/>
                  </a:cubicBezTo>
                  <a:cubicBezTo>
                    <a:pt x="159" y="423"/>
                    <a:pt x="215" y="382"/>
                    <a:pt x="235" y="384"/>
                  </a:cubicBezTo>
                  <a:cubicBezTo>
                    <a:pt x="255" y="386"/>
                    <a:pt x="231" y="429"/>
                    <a:pt x="241" y="432"/>
                  </a:cubicBezTo>
                  <a:cubicBezTo>
                    <a:pt x="251" y="435"/>
                    <a:pt x="279" y="398"/>
                    <a:pt x="295" y="402"/>
                  </a:cubicBezTo>
                  <a:cubicBezTo>
                    <a:pt x="311" y="406"/>
                    <a:pt x="310" y="452"/>
                    <a:pt x="337" y="456"/>
                  </a:cubicBezTo>
                  <a:cubicBezTo>
                    <a:pt x="364" y="460"/>
                    <a:pt x="436" y="425"/>
                    <a:pt x="457" y="426"/>
                  </a:cubicBezTo>
                  <a:cubicBezTo>
                    <a:pt x="478" y="427"/>
                    <a:pt x="445" y="451"/>
                    <a:pt x="463" y="462"/>
                  </a:cubicBezTo>
                  <a:cubicBezTo>
                    <a:pt x="481" y="473"/>
                    <a:pt x="539" y="464"/>
                    <a:pt x="565" y="492"/>
                  </a:cubicBezTo>
                  <a:cubicBezTo>
                    <a:pt x="591" y="520"/>
                    <a:pt x="620" y="593"/>
                    <a:pt x="619" y="630"/>
                  </a:cubicBezTo>
                  <a:cubicBezTo>
                    <a:pt x="618" y="667"/>
                    <a:pt x="564" y="687"/>
                    <a:pt x="559" y="714"/>
                  </a:cubicBezTo>
                  <a:cubicBezTo>
                    <a:pt x="554" y="741"/>
                    <a:pt x="595" y="771"/>
                    <a:pt x="589" y="792"/>
                  </a:cubicBezTo>
                  <a:cubicBezTo>
                    <a:pt x="583" y="813"/>
                    <a:pt x="529" y="821"/>
                    <a:pt x="523" y="840"/>
                  </a:cubicBezTo>
                  <a:cubicBezTo>
                    <a:pt x="517" y="859"/>
                    <a:pt x="556" y="888"/>
                    <a:pt x="553" y="906"/>
                  </a:cubicBezTo>
                  <a:cubicBezTo>
                    <a:pt x="550" y="924"/>
                    <a:pt x="507" y="895"/>
                    <a:pt x="505" y="948"/>
                  </a:cubicBezTo>
                  <a:cubicBezTo>
                    <a:pt x="503" y="1001"/>
                    <a:pt x="534" y="1178"/>
                    <a:pt x="541" y="122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bez kondensatora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różnic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3507120" y="5857920"/>
            <a:ext cx="22899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3" name=""/>
          <p:cNvGrpSpPr/>
          <p:nvPr/>
        </p:nvGrpSpPr>
        <p:grpSpPr>
          <a:xfrm>
            <a:off x="1677960" y="1089000"/>
            <a:ext cx="6624720" cy="4540320"/>
            <a:chOff x="1677960" y="1089000"/>
            <a:chExt cx="6624720" cy="4540320"/>
          </a:xfrm>
        </p:grpSpPr>
        <p:sp>
          <p:nvSpPr>
            <p:cNvPr id="2634" name=""/>
            <p:cNvSpPr/>
            <p:nvPr/>
          </p:nvSpPr>
          <p:spPr>
            <a:xfrm>
              <a:off x="1677960" y="3579840"/>
              <a:ext cx="673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649680" y="3456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 rot="10800000">
              <a:off x="3546000" y="1452240"/>
              <a:ext cx="1890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7" name=""/>
            <p:cNvGrpSpPr/>
            <p:nvPr/>
          </p:nvGrpSpPr>
          <p:grpSpPr>
            <a:xfrm>
              <a:off x="7101000" y="2948040"/>
              <a:ext cx="540720" cy="102600"/>
              <a:chOff x="7101000" y="2948040"/>
              <a:chExt cx="540720" cy="102600"/>
            </a:xfrm>
          </p:grpSpPr>
          <p:sp>
            <p:nvSpPr>
              <p:cNvPr id="2638" name=""/>
              <p:cNvSpPr/>
              <p:nvPr/>
            </p:nvSpPr>
            <p:spPr>
              <a:xfrm>
                <a:off x="7101000" y="2948040"/>
                <a:ext cx="54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281000" y="305064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0" name=""/>
            <p:cNvSpPr/>
            <p:nvPr/>
          </p:nvSpPr>
          <p:spPr>
            <a:xfrm>
              <a:off x="3673440" y="5629320"/>
              <a:ext cx="36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3670200" y="4559400"/>
              <a:ext cx="0" cy="10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H="1">
              <a:off x="3630240" y="20257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649680" y="1127160"/>
              <a:ext cx="37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436840" y="31496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635280" y="11271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300800" y="47926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7" name=""/>
            <p:cNvGrpSpPr/>
            <p:nvPr/>
          </p:nvGrpSpPr>
          <p:grpSpPr>
            <a:xfrm>
              <a:off x="2300400" y="4856040"/>
              <a:ext cx="271440" cy="306360"/>
              <a:chOff x="2300400" y="4856040"/>
              <a:chExt cx="271440" cy="306360"/>
            </a:xfrm>
          </p:grpSpPr>
          <p:sp>
            <p:nvSpPr>
              <p:cNvPr id="2648" name=""/>
              <p:cNvSpPr/>
              <p:nvPr/>
            </p:nvSpPr>
            <p:spPr>
              <a:xfrm>
                <a:off x="2441520" y="48560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2300400" y="5133960"/>
                <a:ext cx="27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0" name=""/>
            <p:cNvSpPr/>
            <p:nvPr/>
          </p:nvSpPr>
          <p:spPr>
            <a:xfrm>
              <a:off x="7547040" y="2581200"/>
              <a:ext cx="24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694640" y="30862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H="1" flipV="1">
              <a:off x="3068640" y="3385800"/>
              <a:ext cx="357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863080" y="35481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 rot="10800000">
              <a:off x="2341080" y="3436560"/>
              <a:ext cx="18756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436840" y="31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 flipV="1">
              <a:off x="2436840" y="40446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354800" y="11127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844800" y="14954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9" name=""/>
            <p:cNvGrpSpPr/>
            <p:nvPr/>
          </p:nvGrpSpPr>
          <p:grpSpPr>
            <a:xfrm>
              <a:off x="3441600" y="3855960"/>
              <a:ext cx="457200" cy="685800"/>
              <a:chOff x="3441600" y="3855960"/>
              <a:chExt cx="457200" cy="685800"/>
            </a:xfrm>
          </p:grpSpPr>
          <p:sp>
            <p:nvSpPr>
              <p:cNvPr id="2660" name=""/>
              <p:cNvSpPr/>
              <p:nvPr/>
            </p:nvSpPr>
            <p:spPr>
              <a:xfrm>
                <a:off x="3441600" y="38559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3441600" y="40845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3670200" y="4008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3" name=""/>
            <p:cNvSpPr/>
            <p:nvPr/>
          </p:nvSpPr>
          <p:spPr>
            <a:xfrm>
              <a:off x="2838600" y="4151160"/>
              <a:ext cx="944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765440" y="3173400"/>
              <a:ext cx="56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5" name=""/>
            <p:cNvGrpSpPr/>
            <p:nvPr/>
          </p:nvGrpSpPr>
          <p:grpSpPr>
            <a:xfrm>
              <a:off x="7059600" y="5305320"/>
              <a:ext cx="541080" cy="102960"/>
              <a:chOff x="7059600" y="5305320"/>
              <a:chExt cx="541080" cy="102960"/>
            </a:xfrm>
          </p:grpSpPr>
          <p:sp>
            <p:nvSpPr>
              <p:cNvPr id="2666" name=""/>
              <p:cNvSpPr/>
              <p:nvPr/>
            </p:nvSpPr>
            <p:spPr>
              <a:xfrm>
                <a:off x="7059600" y="5305320"/>
                <a:ext cx="54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239600" y="540828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8" name=""/>
            <p:cNvSpPr/>
            <p:nvPr/>
          </p:nvSpPr>
          <p:spPr>
            <a:xfrm>
              <a:off x="7346880" y="30510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7346880" y="54151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438280" y="4838760"/>
              <a:ext cx="498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381400" y="4782960"/>
              <a:ext cx="8712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7684920" y="505764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896080" y="479268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378240" y="28814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3378240" y="325116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108240" y="3149640"/>
              <a:ext cx="2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V="1">
              <a:off x="3378240" y="273852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784600" y="3151080"/>
              <a:ext cx="41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635280" y="23130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flipV="1">
              <a:off x="3962520" y="28396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941640" y="2963880"/>
              <a:ext cx="91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781720" y="25686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3635280" y="2313000"/>
              <a:ext cx="86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657600" y="3629160"/>
              <a:ext cx="14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600360" y="35830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357880" y="286380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5086440" y="324324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flipH="1">
              <a:off x="5357520" y="31417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 flipV="1">
              <a:off x="5086440" y="273060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>
              <a:off x="5533920" y="3143160"/>
              <a:ext cx="41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5100480" y="230508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V="1">
              <a:off x="4773600" y="283176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flipH="1">
              <a:off x="5553720" y="2560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flipH="1">
              <a:off x="4628520" y="2305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5048280" y="10890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 flipV="1">
              <a:off x="5067360" y="3429000"/>
              <a:ext cx="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 flipV="1">
              <a:off x="5095800" y="1133280"/>
              <a:ext cx="0" cy="16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952960" y="3143160"/>
              <a:ext cx="0" cy="16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175280" y="3662280"/>
              <a:ext cx="1203120" cy="51012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rot="10800000">
              <a:off x="5846760" y="3490560"/>
              <a:ext cx="187200" cy="6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1" name=""/>
                <p:cNvSpPr txBox="1"/>
                <p:nvPr/>
              </p:nvSpPr>
              <p:spPr>
                <a:xfrm>
                  <a:off x="5459400" y="1698480"/>
                  <a:ext cx="137952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Q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02" name=""/>
            <p:cNvSpPr/>
            <p:nvPr/>
          </p:nvSpPr>
          <p:spPr>
            <a:xfrm>
              <a:off x="6135840" y="3559320"/>
              <a:ext cx="67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e 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4" name=""/>
              <p:cNvSpPr txBox="1"/>
              <p:nvPr/>
            </p:nvSpPr>
            <p:spPr>
              <a:xfrm>
                <a:off x="3032280" y="4425840"/>
                <a:ext cx="2323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5" name=""/>
              <p:cNvSpPr txBox="1"/>
              <p:nvPr/>
            </p:nvSpPr>
            <p:spPr>
              <a:xfrm>
                <a:off x="228600" y="3048120"/>
                <a:ext cx="39322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706" name=""/>
          <p:cNvGrpSpPr/>
          <p:nvPr/>
        </p:nvGrpSpPr>
        <p:grpSpPr>
          <a:xfrm>
            <a:off x="4043520" y="1722600"/>
            <a:ext cx="596880" cy="404640"/>
            <a:chOff x="4043520" y="1722600"/>
            <a:chExt cx="596880" cy="404640"/>
          </a:xfrm>
        </p:grpSpPr>
        <p:sp>
          <p:nvSpPr>
            <p:cNvPr id="2707" name=""/>
            <p:cNvSpPr/>
            <p:nvPr/>
          </p:nvSpPr>
          <p:spPr>
            <a:xfrm>
              <a:off x="4046400" y="1725480"/>
              <a:ext cx="590760" cy="3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043520" y="172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043520" y="1743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043520" y="1758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043520" y="177624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043520" y="1792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043520" y="1809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043520" y="18255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043520" y="1843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043520" y="18590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4043520" y="187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4043520" y="18921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043520" y="1909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043520" y="19256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043520" y="1943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043520" y="1960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043520" y="1976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043520" y="1994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4043520" y="2009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4043520" y="2027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043520" y="204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043520" y="2060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043520" y="2076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043520" y="2093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043520" y="2109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0514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06728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084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10040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1180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135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1511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1688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1846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2022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2181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235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2512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2688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28472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3020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3178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3354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35132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3689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3862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4020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4197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435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4528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4686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486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50216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519440" y="211932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5356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5529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56876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586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6022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6195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632480" y="2114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632480" y="209700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632480" y="2081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632480" y="206388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632480" y="2048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632480" y="2030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632480" y="2014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632480" y="199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632480" y="1981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632480" y="1963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632480" y="1947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632480" y="193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632480" y="1914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632480" y="1897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632480" y="1881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632480" y="1863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632480" y="1846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632480" y="183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632480" y="1812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632480" y="1797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632480" y="17794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632480" y="1763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632480" y="17463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632480" y="1730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624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6069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5910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573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5576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540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5226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5068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48956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473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4560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440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42260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4067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3894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3736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3560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3401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3228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3070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2894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27212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255920" y="172260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2386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2228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20516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189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1720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1562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138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122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105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089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0719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0561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6" name=""/>
          <p:cNvGrpSpPr/>
          <p:nvPr/>
        </p:nvGrpSpPr>
        <p:grpSpPr>
          <a:xfrm>
            <a:off x="4114080" y="1695600"/>
            <a:ext cx="378000" cy="366120"/>
            <a:chOff x="4114080" y="1695600"/>
            <a:chExt cx="378000" cy="366120"/>
          </a:xfrm>
        </p:grpSpPr>
        <p:sp>
          <p:nvSpPr>
            <p:cNvPr id="2827" name=""/>
            <p:cNvSpPr/>
            <p:nvPr/>
          </p:nvSpPr>
          <p:spPr>
            <a:xfrm>
              <a:off x="4375440" y="1695600"/>
              <a:ext cx="116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114080" y="17668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257360" y="17924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0" name=""/>
          <p:cNvSpPr/>
          <p:nvPr/>
        </p:nvSpPr>
        <p:spPr>
          <a:xfrm>
            <a:off x="7432560" y="2583000"/>
            <a:ext cx="306360" cy="2714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5773680" y="2611440"/>
            <a:ext cx="30492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2" name=""/>
          <p:cNvGrpSpPr/>
          <p:nvPr/>
        </p:nvGrpSpPr>
        <p:grpSpPr>
          <a:xfrm>
            <a:off x="4435560" y="1028880"/>
            <a:ext cx="672840" cy="455400"/>
            <a:chOff x="4435560" y="1028880"/>
            <a:chExt cx="672840" cy="455400"/>
          </a:xfrm>
        </p:grpSpPr>
        <p:sp>
          <p:nvSpPr>
            <p:cNvPr id="2833" name=""/>
            <p:cNvSpPr/>
            <p:nvPr/>
          </p:nvSpPr>
          <p:spPr>
            <a:xfrm>
              <a:off x="4440240" y="1031760"/>
              <a:ext cx="66348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435560" y="10317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435560" y="1049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435560" y="10652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435560" y="1082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435560" y="10987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435560" y="1116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435560" y="1131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435560" y="1149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435560" y="1166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435560" y="118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435560" y="120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435560" y="1216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435560" y="1233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435560" y="124920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435560" y="12668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435560" y="1282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435560" y="130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435560" y="13161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435560" y="1333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435560" y="13492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435560" y="136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435560" y="13827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435560" y="1400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435560" y="14158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435560" y="1433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435560" y="1449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4435560" y="1467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444348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4460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447660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4942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511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527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4545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4560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5784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5943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611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462744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46450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466092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467820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469440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4711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472752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47451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47624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47782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7959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4811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48290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84488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862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8783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896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9118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49291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9449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962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9784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995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0133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50292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046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5062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50799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50958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100480" y="14619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5100480" y="1446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100480" y="14288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5100480" y="141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5100480" y="1395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5100480" y="1379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5100480" y="1362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5100480" y="1346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5100480" y="1328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5100480" y="1312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5100480" y="1295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5100480" y="1279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5100480" y="1262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5100480" y="124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5100480" y="1228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5100480" y="1211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5100480" y="1195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5100480" y="1177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5100480" y="1162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100480" y="11444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5100480" y="1128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5100480" y="11113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5100480" y="109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5100480" y="1077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5100480" y="1062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5100480" y="1044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5100480" y="10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508320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5067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504972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50338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5016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5000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49831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49672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4950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4933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916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8988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8830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8657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849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8322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8164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7991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782960" y="102888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7656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7498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7322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716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6990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6832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665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64832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6324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61484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599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58136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565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54824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45324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514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4498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4816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465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4481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7" name=""/>
          <p:cNvSpPr/>
          <p:nvPr/>
        </p:nvSpPr>
        <p:spPr>
          <a:xfrm>
            <a:off x="4557240" y="10620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Zak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4489560" y="125424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triodow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9" name=""/>
          <p:cNvGrpSpPr/>
          <p:nvPr/>
        </p:nvGrpSpPr>
        <p:grpSpPr>
          <a:xfrm>
            <a:off x="4749840" y="2119320"/>
            <a:ext cx="133200" cy="512640"/>
            <a:chOff x="4749840" y="2119320"/>
            <a:chExt cx="133200" cy="512640"/>
          </a:xfrm>
        </p:grpSpPr>
        <p:sp>
          <p:nvSpPr>
            <p:cNvPr id="2970" name=""/>
            <p:cNvSpPr/>
            <p:nvPr/>
          </p:nvSpPr>
          <p:spPr>
            <a:xfrm>
              <a:off x="4753080" y="2119320"/>
              <a:ext cx="125280" cy="509760"/>
            </a:xfrm>
            <a:custGeom>
              <a:avLst/>
              <a:gdLst/>
              <a:ahLst/>
              <a:rect l="l" t="t" r="r" b="b"/>
              <a:pathLst>
                <a:path w="79" h="321">
                  <a:moveTo>
                    <a:pt x="0" y="321"/>
                  </a:moveTo>
                  <a:lnTo>
                    <a:pt x="8" y="318"/>
                  </a:lnTo>
                  <a:lnTo>
                    <a:pt x="16" y="315"/>
                  </a:lnTo>
                  <a:lnTo>
                    <a:pt x="24" y="307"/>
                  </a:lnTo>
                  <a:lnTo>
                    <a:pt x="29" y="294"/>
                  </a:lnTo>
                  <a:lnTo>
                    <a:pt x="37" y="281"/>
                  </a:lnTo>
                  <a:lnTo>
                    <a:pt x="45" y="265"/>
                  </a:lnTo>
                  <a:lnTo>
                    <a:pt x="56" y="226"/>
                  </a:lnTo>
                  <a:lnTo>
                    <a:pt x="66" y="178"/>
                  </a:lnTo>
                  <a:lnTo>
                    <a:pt x="74" y="123"/>
                  </a:lnTo>
                  <a:lnTo>
                    <a:pt x="77" y="6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749840" y="2624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76568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778280" y="2606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786200" y="25956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799160" y="25830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803840" y="256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811760" y="2552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4819680" y="2536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824360" y="251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829040" y="250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832280" y="24908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836960" y="247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842000" y="2457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844880" y="244008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849920" y="2424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849920" y="2406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853160" y="23907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857840" y="2373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8578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8625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862520" y="2322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865760" y="23065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865760" y="22892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865760" y="22734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87044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870440" y="2239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4870440" y="2222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870440" y="2206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875120" y="2189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4875120" y="2173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4875120" y="215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4875120" y="213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4875120" y="2122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4" name=""/>
          <p:cNvGrpSpPr/>
          <p:nvPr/>
        </p:nvGrpSpPr>
        <p:grpSpPr>
          <a:xfrm>
            <a:off x="4414680" y="2744640"/>
            <a:ext cx="292320" cy="473400"/>
            <a:chOff x="4414680" y="2744640"/>
            <a:chExt cx="292320" cy="473400"/>
          </a:xfrm>
        </p:grpSpPr>
        <p:sp>
          <p:nvSpPr>
            <p:cNvPr id="3005" name=""/>
            <p:cNvSpPr/>
            <p:nvPr/>
          </p:nvSpPr>
          <p:spPr>
            <a:xfrm>
              <a:off x="4419720" y="2744640"/>
              <a:ext cx="284040" cy="468360"/>
            </a:xfrm>
            <a:custGeom>
              <a:avLst/>
              <a:gdLst/>
              <a:ahLst/>
              <a:rect l="l" t="t" r="r" b="b"/>
              <a:pathLst>
                <a:path w="179" h="295">
                  <a:moveTo>
                    <a:pt x="0" y="295"/>
                  </a:moveTo>
                  <a:lnTo>
                    <a:pt x="18" y="292"/>
                  </a:lnTo>
                  <a:lnTo>
                    <a:pt x="36" y="290"/>
                  </a:lnTo>
                  <a:lnTo>
                    <a:pt x="52" y="282"/>
                  </a:lnTo>
                  <a:lnTo>
                    <a:pt x="68" y="271"/>
                  </a:lnTo>
                  <a:lnTo>
                    <a:pt x="100" y="245"/>
                  </a:lnTo>
                  <a:lnTo>
                    <a:pt x="126" y="208"/>
                  </a:lnTo>
                  <a:lnTo>
                    <a:pt x="147" y="166"/>
                  </a:lnTo>
                  <a:lnTo>
                    <a:pt x="166" y="116"/>
                  </a:lnTo>
                  <a:lnTo>
                    <a:pt x="176" y="61"/>
                  </a:lnTo>
                  <a:lnTo>
                    <a:pt x="179" y="0"/>
                  </a:lnTo>
                  <a:lnTo>
                    <a:pt x="0" y="0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41468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43232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448160" y="3205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465800" y="320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481640" y="3195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494240" y="31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511520" y="3179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522680" y="317196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535640" y="3162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548240" y="31510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560840" y="3138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4573440" y="31291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581360" y="311292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594320" y="31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602240" y="3087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614840" y="3075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619520" y="305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627440" y="30463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637160" y="3029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645080" y="301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653000" y="300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657680" y="298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660920" y="29671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4665600" y="29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673520" y="2936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4678200" y="292104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4678200" y="290340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4683240" y="288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4686480" y="2870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4691160" y="285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4694400" y="28368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4694400" y="28209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4694400" y="28036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694400" y="2787480"/>
              <a:ext cx="936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699080" y="2770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4699080" y="2754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2" name=""/>
          <p:cNvSpPr/>
          <p:nvPr/>
        </p:nvSpPr>
        <p:spPr>
          <a:xfrm>
            <a:off x="1797120" y="2335320"/>
            <a:ext cx="142920" cy="3762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1865160" y="2193840"/>
            <a:ext cx="1800" cy="154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1865160" y="270360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1986120" y="2414520"/>
            <a:ext cx="304560" cy="2682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2052360" y="2448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2161440" y="25322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1305000" y="1892160"/>
            <a:ext cx="422280" cy="42732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1581120" y="1984320"/>
            <a:ext cx="1440" cy="238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1592280" y="2027160"/>
            <a:ext cx="1173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1" name=""/>
          <p:cNvGrpSpPr/>
          <p:nvPr/>
        </p:nvGrpSpPr>
        <p:grpSpPr>
          <a:xfrm>
            <a:off x="1317600" y="2135160"/>
            <a:ext cx="184320" cy="96840"/>
            <a:chOff x="1317600" y="2135160"/>
            <a:chExt cx="184320" cy="96840"/>
          </a:xfrm>
        </p:grpSpPr>
        <p:sp>
          <p:nvSpPr>
            <p:cNvPr id="3052" name=""/>
            <p:cNvSpPr/>
            <p:nvPr/>
          </p:nvSpPr>
          <p:spPr>
            <a:xfrm>
              <a:off x="1317600" y="2181240"/>
              <a:ext cx="1843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1409760" y="2135160"/>
              <a:ext cx="9216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0" y="61"/>
                  </a:moveTo>
                  <a:lnTo>
                    <a:pt x="58" y="29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1476360" y="2181240"/>
            <a:ext cx="104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 flipH="1">
            <a:off x="1592280" y="2181240"/>
            <a:ext cx="117360" cy="7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1852560" y="1528920"/>
            <a:ext cx="1800" cy="493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1166760" y="2176560"/>
            <a:ext cx="150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1722600" y="2030400"/>
            <a:ext cx="145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1735200" y="2189160"/>
            <a:ext cx="1461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1174680" y="2193840"/>
            <a:ext cx="1800" cy="693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 flipH="1">
            <a:off x="1161720" y="2887560"/>
            <a:ext cx="1476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 flipH="1" flipV="1">
            <a:off x="1855440" y="1525320"/>
            <a:ext cx="3524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3" name=""/>
          <p:cNvGrpSpPr/>
          <p:nvPr/>
        </p:nvGrpSpPr>
        <p:grpSpPr>
          <a:xfrm>
            <a:off x="2208240" y="1479600"/>
            <a:ext cx="417600" cy="87120"/>
            <a:chOff x="2208240" y="1479600"/>
            <a:chExt cx="417600" cy="87120"/>
          </a:xfrm>
        </p:grpSpPr>
        <p:sp>
          <p:nvSpPr>
            <p:cNvPr id="3064" name=""/>
            <p:cNvSpPr/>
            <p:nvPr/>
          </p:nvSpPr>
          <p:spPr>
            <a:xfrm flipH="1" flipV="1">
              <a:off x="2208240" y="1525320"/>
              <a:ext cx="417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2208240" y="1479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0"/>
                  </a:moveTo>
                  <a:lnTo>
                    <a:pt x="0" y="29"/>
                  </a:lnTo>
                  <a:lnTo>
                    <a:pt x="55" y="5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6" name=""/>
          <p:cNvGrpSpPr/>
          <p:nvPr/>
        </p:nvGrpSpPr>
        <p:grpSpPr>
          <a:xfrm>
            <a:off x="2571840" y="1699920"/>
            <a:ext cx="87120" cy="1019160"/>
            <a:chOff x="2571840" y="1699920"/>
            <a:chExt cx="87120" cy="1019160"/>
          </a:xfrm>
        </p:grpSpPr>
        <p:sp>
          <p:nvSpPr>
            <p:cNvPr id="3067" name=""/>
            <p:cNvSpPr/>
            <p:nvPr/>
          </p:nvSpPr>
          <p:spPr>
            <a:xfrm flipV="1">
              <a:off x="2608200" y="1699920"/>
              <a:ext cx="4680" cy="1019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571840" y="1700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56"/>
                  </a:moveTo>
                  <a:lnTo>
                    <a:pt x="26" y="0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9" name=""/>
          <p:cNvSpPr/>
          <p:nvPr/>
        </p:nvSpPr>
        <p:spPr>
          <a:xfrm>
            <a:off x="2687760" y="2027160"/>
            <a:ext cx="230040" cy="262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2733840" y="20559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2128680" y="1203480"/>
            <a:ext cx="225720" cy="2808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2" name=""/>
          <p:cNvGrpSpPr/>
          <p:nvPr/>
        </p:nvGrpSpPr>
        <p:grpSpPr>
          <a:xfrm>
            <a:off x="4343400" y="1031760"/>
            <a:ext cx="88920" cy="2314800"/>
            <a:chOff x="4343400" y="1031760"/>
            <a:chExt cx="88920" cy="2314800"/>
          </a:xfrm>
        </p:grpSpPr>
        <p:sp>
          <p:nvSpPr>
            <p:cNvPr id="3073" name=""/>
            <p:cNvSpPr/>
            <p:nvPr/>
          </p:nvSpPr>
          <p:spPr>
            <a:xfrm>
              <a:off x="4386240" y="1111320"/>
              <a:ext cx="3240" cy="2235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343400" y="1031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56"/>
                  </a:moveTo>
                  <a:lnTo>
                    <a:pt x="27" y="0"/>
                  </a:lnTo>
                  <a:lnTo>
                    <a:pt x="0" y="56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5" name=""/>
          <p:cNvGrpSpPr/>
          <p:nvPr/>
        </p:nvGrpSpPr>
        <p:grpSpPr>
          <a:xfrm>
            <a:off x="4250880" y="3179880"/>
            <a:ext cx="3880440" cy="87120"/>
            <a:chOff x="4250880" y="3179880"/>
            <a:chExt cx="3880440" cy="87120"/>
          </a:xfrm>
        </p:grpSpPr>
        <p:sp>
          <p:nvSpPr>
            <p:cNvPr id="3076" name=""/>
            <p:cNvSpPr/>
            <p:nvPr/>
          </p:nvSpPr>
          <p:spPr>
            <a:xfrm flipH="1">
              <a:off x="4250880" y="3220920"/>
              <a:ext cx="3800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043840" y="3179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55" y="26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8" name=""/>
          <p:cNvSpPr/>
          <p:nvPr/>
        </p:nvSpPr>
        <p:spPr>
          <a:xfrm flipV="1">
            <a:off x="4386240" y="1829880"/>
            <a:ext cx="287280" cy="1390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9" name=""/>
          <p:cNvGrpSpPr/>
          <p:nvPr/>
        </p:nvGrpSpPr>
        <p:grpSpPr>
          <a:xfrm>
            <a:off x="4673520" y="1312920"/>
            <a:ext cx="795240" cy="525240"/>
            <a:chOff x="4673520" y="1312920"/>
            <a:chExt cx="795240" cy="525240"/>
          </a:xfrm>
        </p:grpSpPr>
        <p:sp>
          <p:nvSpPr>
            <p:cNvPr id="3080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1" y="331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2" name=""/>
          <p:cNvSpPr/>
          <p:nvPr/>
        </p:nvSpPr>
        <p:spPr>
          <a:xfrm flipV="1">
            <a:off x="5459400" y="1208160"/>
            <a:ext cx="2023920" cy="100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3" name=""/>
          <p:cNvGrpSpPr/>
          <p:nvPr/>
        </p:nvGrpSpPr>
        <p:grpSpPr>
          <a:xfrm>
            <a:off x="4560840" y="1881360"/>
            <a:ext cx="793800" cy="525240"/>
            <a:chOff x="4560840" y="1881360"/>
            <a:chExt cx="793800" cy="525240"/>
          </a:xfrm>
        </p:grpSpPr>
        <p:sp>
          <p:nvSpPr>
            <p:cNvPr id="3084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0" y="331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6" name=""/>
          <p:cNvSpPr/>
          <p:nvPr/>
        </p:nvSpPr>
        <p:spPr>
          <a:xfrm flipV="1">
            <a:off x="5346720" y="1758960"/>
            <a:ext cx="2346480" cy="117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7" name=""/>
          <p:cNvGrpSpPr/>
          <p:nvPr/>
        </p:nvGrpSpPr>
        <p:grpSpPr>
          <a:xfrm>
            <a:off x="4443480" y="2457360"/>
            <a:ext cx="795240" cy="522360"/>
            <a:chOff x="4443480" y="2457360"/>
            <a:chExt cx="795240" cy="522360"/>
          </a:xfrm>
        </p:grpSpPr>
        <p:sp>
          <p:nvSpPr>
            <p:cNvPr id="3088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  <a:lnTo>
                    <a:pt x="501" y="329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0" name=""/>
          <p:cNvSpPr/>
          <p:nvPr/>
        </p:nvSpPr>
        <p:spPr>
          <a:xfrm flipV="1">
            <a:off x="5229360" y="2319120"/>
            <a:ext cx="2668320" cy="128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 flipH="1">
            <a:off x="4385880" y="1863720"/>
            <a:ext cx="10270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 flipH="1">
            <a:off x="4386240" y="1817640"/>
            <a:ext cx="2782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 flipV="1">
            <a:off x="6613560" y="1797120"/>
            <a:ext cx="1090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4" name=""/>
          <p:cNvGrpSpPr/>
          <p:nvPr/>
        </p:nvGrpSpPr>
        <p:grpSpPr>
          <a:xfrm>
            <a:off x="4670280" y="2590920"/>
            <a:ext cx="115920" cy="392040"/>
            <a:chOff x="4670280" y="2590920"/>
            <a:chExt cx="115920" cy="392040"/>
          </a:xfrm>
        </p:grpSpPr>
        <p:sp>
          <p:nvSpPr>
            <p:cNvPr id="3095" name=""/>
            <p:cNvSpPr/>
            <p:nvPr/>
          </p:nvSpPr>
          <p:spPr>
            <a:xfrm>
              <a:off x="4670280" y="2975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4673520" y="2957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4678200" y="294156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4683240" y="2924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4686480" y="2913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4691160" y="289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4699080" y="28782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4703760" y="2862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4707000" y="28447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4711680" y="28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716360" y="2816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4719600" y="27986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4724280" y="2782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4727520" y="276552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4732200" y="2749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737240" y="27320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4740120" y="27162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4749840" y="270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4753080" y="26859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4757760" y="267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4762440" y="26528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4765680" y="263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477036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4773600" y="26067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4778280" y="2590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0" name=""/>
          <p:cNvGrpSpPr/>
          <p:nvPr/>
        </p:nvGrpSpPr>
        <p:grpSpPr>
          <a:xfrm>
            <a:off x="4865760" y="1763640"/>
            <a:ext cx="193680" cy="617760"/>
            <a:chOff x="4865760" y="1763640"/>
            <a:chExt cx="193680" cy="617760"/>
          </a:xfrm>
        </p:grpSpPr>
        <p:sp>
          <p:nvSpPr>
            <p:cNvPr id="3121" name=""/>
            <p:cNvSpPr/>
            <p:nvPr/>
          </p:nvSpPr>
          <p:spPr>
            <a:xfrm>
              <a:off x="4865760" y="23734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48704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48751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4878360" y="23274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4888080" y="2311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4890960" y="2293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4896000" y="2278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898880" y="22604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4903920" y="2243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4908600" y="2232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911840" y="2214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921200" y="219852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924440" y="2181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4929120" y="21636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4933800" y="214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4937040" y="2135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4941720" y="211932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4944960" y="210168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954680" y="20844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957920" y="20685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962600" y="20509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967280" y="203976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970520" y="2022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975200" y="20048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983120" y="1989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987800" y="1971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991040" y="19558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995720" y="1943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5000760" y="1925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5003640" y="19098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5008680" y="18921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50166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5021280" y="18590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024520" y="18464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5029200" y="183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5033880" y="181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5037120" y="1797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5041800" y="17794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5049720" y="17636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0" name=""/>
          <p:cNvGrpSpPr/>
          <p:nvPr/>
        </p:nvGrpSpPr>
        <p:grpSpPr>
          <a:xfrm>
            <a:off x="4957920" y="1492200"/>
            <a:ext cx="125280" cy="397080"/>
            <a:chOff x="4957920" y="1492200"/>
            <a:chExt cx="125280" cy="397080"/>
          </a:xfrm>
        </p:grpSpPr>
        <p:sp>
          <p:nvSpPr>
            <p:cNvPr id="3161" name=""/>
            <p:cNvSpPr/>
            <p:nvPr/>
          </p:nvSpPr>
          <p:spPr>
            <a:xfrm>
              <a:off x="4962600" y="1492200"/>
              <a:ext cx="117360" cy="392040"/>
            </a:xfrm>
            <a:custGeom>
              <a:avLst/>
              <a:gdLst/>
              <a:ahLst/>
              <a:rect l="l" t="t" r="r" b="b"/>
              <a:pathLst>
                <a:path w="74" h="247">
                  <a:moveTo>
                    <a:pt x="0" y="247"/>
                  </a:moveTo>
                  <a:lnTo>
                    <a:pt x="8" y="247"/>
                  </a:lnTo>
                  <a:lnTo>
                    <a:pt x="16" y="242"/>
                  </a:lnTo>
                  <a:lnTo>
                    <a:pt x="29" y="229"/>
                  </a:lnTo>
                  <a:lnTo>
                    <a:pt x="42" y="205"/>
                  </a:lnTo>
                  <a:lnTo>
                    <a:pt x="53" y="173"/>
                  </a:lnTo>
                  <a:lnTo>
                    <a:pt x="61" y="137"/>
                  </a:lnTo>
                  <a:lnTo>
                    <a:pt x="68" y="95"/>
                  </a:lnTo>
                  <a:lnTo>
                    <a:pt x="71" y="5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4957920" y="1881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49752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4987800" y="1868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5000760" y="1855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5008680" y="184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5016600" y="1825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5024520" y="1812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5029200" y="1797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5037120" y="17794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5041800" y="176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5046840" y="17463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049720" y="1733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5054760" y="171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059440" y="1700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5059440" y="168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5062680" y="1666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5062680" y="165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5067360" y="16336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5067360" y="1617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070600" y="16002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5070600" y="1584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070600" y="1566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075280" y="1550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075280" y="153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5075280" y="151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5075280" y="150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8" name=""/>
          <p:cNvGrpSpPr/>
          <p:nvPr/>
        </p:nvGrpSpPr>
        <p:grpSpPr>
          <a:xfrm>
            <a:off x="5049720" y="1108080"/>
            <a:ext cx="58680" cy="371520"/>
            <a:chOff x="5049720" y="1108080"/>
            <a:chExt cx="58680" cy="371520"/>
          </a:xfrm>
        </p:grpSpPr>
        <p:sp>
          <p:nvSpPr>
            <p:cNvPr id="3189" name=""/>
            <p:cNvSpPr/>
            <p:nvPr/>
          </p:nvSpPr>
          <p:spPr>
            <a:xfrm>
              <a:off x="5054760" y="1111320"/>
              <a:ext cx="48960" cy="368280"/>
            </a:xfrm>
            <a:custGeom>
              <a:avLst/>
              <a:gdLst/>
              <a:ahLst/>
              <a:rect l="l" t="t" r="r" b="b"/>
              <a:pathLst>
                <a:path w="31" h="232">
                  <a:moveTo>
                    <a:pt x="0" y="0"/>
                  </a:moveTo>
                  <a:lnTo>
                    <a:pt x="8" y="6"/>
                  </a:lnTo>
                  <a:lnTo>
                    <a:pt x="13" y="19"/>
                  </a:lnTo>
                  <a:lnTo>
                    <a:pt x="18" y="40"/>
                  </a:lnTo>
                  <a:lnTo>
                    <a:pt x="24" y="69"/>
                  </a:lnTo>
                  <a:lnTo>
                    <a:pt x="26" y="103"/>
                  </a:lnTo>
                  <a:lnTo>
                    <a:pt x="29" y="142"/>
                  </a:lnTo>
                  <a:lnTo>
                    <a:pt x="31" y="185"/>
                  </a:lnTo>
                  <a:lnTo>
                    <a:pt x="31" y="232"/>
                  </a:lnTo>
                  <a:lnTo>
                    <a:pt x="0" y="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5049720" y="11080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062680" y="1120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070600" y="11318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075280" y="11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5079960" y="1166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079960" y="1182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083200" y="1200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2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5087880" y="1216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087880" y="1233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092560" y="1249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5092560" y="126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5092560" y="128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095800" y="13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095800" y="1316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5095800" y="133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095800" y="13492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5095800" y="1366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5100480" y="1382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5100480" y="1400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100480" y="14158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100480" y="1433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100480" y="144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100480" y="146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3" name=""/>
          <p:cNvSpPr/>
          <p:nvPr/>
        </p:nvSpPr>
        <p:spPr>
          <a:xfrm>
            <a:off x="4059360" y="995400"/>
            <a:ext cx="268200" cy="279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4117320" y="10238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4176360" y="1108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7967520" y="3274920"/>
            <a:ext cx="4352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8051760" y="3309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8176680" y="33926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7721640" y="1697040"/>
            <a:ext cx="43488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7763040" y="173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7887960" y="170964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7964280" y="18129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7237440" y="1461960"/>
            <a:ext cx="4334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7299360" y="149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7424280" y="147492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7462440" y="15796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1809720" y="2820960"/>
            <a:ext cx="8748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1888560" y="1017720"/>
            <a:ext cx="102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9" name=""/>
          <p:cNvGrpSpPr/>
          <p:nvPr/>
        </p:nvGrpSpPr>
        <p:grpSpPr>
          <a:xfrm>
            <a:off x="295200" y="3938400"/>
            <a:ext cx="2770200" cy="2636640"/>
            <a:chOff x="295200" y="3938400"/>
            <a:chExt cx="2770200" cy="2636640"/>
          </a:xfrm>
        </p:grpSpPr>
        <p:sp>
          <p:nvSpPr>
            <p:cNvPr id="3230" name=""/>
            <p:cNvSpPr/>
            <p:nvPr/>
          </p:nvSpPr>
          <p:spPr>
            <a:xfrm>
              <a:off x="2077920" y="5672160"/>
              <a:ext cx="166680" cy="43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157120" y="5505480"/>
              <a:ext cx="468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2157120" y="6102360"/>
              <a:ext cx="468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2307960" y="57355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420640" y="57751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1746000" y="5081400"/>
              <a:ext cx="498600" cy="49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1896840" y="5187960"/>
              <a:ext cx="468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 flipV="1">
              <a:off x="1917360" y="5145120"/>
              <a:ext cx="244440" cy="10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8" name=""/>
            <p:cNvGrpSpPr/>
            <p:nvPr/>
          </p:nvGrpSpPr>
          <p:grpSpPr>
            <a:xfrm>
              <a:off x="1917360" y="5364000"/>
              <a:ext cx="150840" cy="102960"/>
              <a:chOff x="1917360" y="5364000"/>
              <a:chExt cx="150840" cy="102960"/>
            </a:xfrm>
          </p:grpSpPr>
          <p:sp>
            <p:nvSpPr>
              <p:cNvPr id="3239" name=""/>
              <p:cNvSpPr/>
              <p:nvPr/>
            </p:nvSpPr>
            <p:spPr>
              <a:xfrm>
                <a:off x="1917360" y="53874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1946160" y="53640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1" name=""/>
            <p:cNvSpPr/>
            <p:nvPr/>
          </p:nvSpPr>
          <p:spPr>
            <a:xfrm>
              <a:off x="2068200" y="5462640"/>
              <a:ext cx="93600" cy="4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 flipH="1">
              <a:off x="1746000" y="5330880"/>
              <a:ext cx="155520" cy="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 flipV="1">
              <a:off x="2161800" y="4425840"/>
              <a:ext cx="1800" cy="70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4" name=""/>
            <p:cNvGrpSpPr/>
            <p:nvPr/>
          </p:nvGrpSpPr>
          <p:grpSpPr>
            <a:xfrm>
              <a:off x="2108160" y="3938400"/>
              <a:ext cx="101520" cy="487080"/>
              <a:chOff x="2108160" y="3938400"/>
              <a:chExt cx="101520" cy="487080"/>
            </a:xfrm>
          </p:grpSpPr>
          <p:sp>
            <p:nvSpPr>
              <p:cNvPr id="3245" name=""/>
              <p:cNvSpPr/>
              <p:nvPr/>
            </p:nvSpPr>
            <p:spPr>
              <a:xfrm flipV="1">
                <a:off x="2161800" y="3938400"/>
                <a:ext cx="1800" cy="48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2108160" y="432432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7" name=""/>
            <p:cNvGrpSpPr/>
            <p:nvPr/>
          </p:nvGrpSpPr>
          <p:grpSpPr>
            <a:xfrm>
              <a:off x="2674800" y="4411440"/>
              <a:ext cx="101520" cy="1450800"/>
              <a:chOff x="2674800" y="4411440"/>
              <a:chExt cx="101520" cy="1450800"/>
            </a:xfrm>
          </p:grpSpPr>
          <p:sp>
            <p:nvSpPr>
              <p:cNvPr id="3248" name=""/>
              <p:cNvSpPr/>
              <p:nvPr/>
            </p:nvSpPr>
            <p:spPr>
              <a:xfrm>
                <a:off x="2724120" y="44114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2674800" y="44114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0" name=""/>
            <p:cNvSpPr/>
            <p:nvPr/>
          </p:nvSpPr>
          <p:spPr>
            <a:xfrm>
              <a:off x="2268360" y="51735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361600" y="5213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1564920" y="5526000"/>
              <a:ext cx="416160" cy="306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1613880" y="5564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760040" y="56624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2801880" y="4973760"/>
              <a:ext cx="263520" cy="312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855520" y="5018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09560" y="5613480"/>
              <a:ext cx="425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861840" y="5676840"/>
              <a:ext cx="13644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920520" y="5691240"/>
              <a:ext cx="4680" cy="639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H="1">
              <a:off x="905760" y="5340240"/>
              <a:ext cx="839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906120" y="5340240"/>
              <a:ext cx="1800" cy="27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 flipH="1">
              <a:off x="920520" y="6316560"/>
              <a:ext cx="1241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295200" y="5462640"/>
              <a:ext cx="86040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448200" y="554508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2091960" y="6264360"/>
              <a:ext cx="87480" cy="93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132560" y="412092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5479200" y="3741840"/>
            <a:ext cx="3463560" cy="2862000"/>
            <a:chOff x="5479200" y="3741840"/>
            <a:chExt cx="3463560" cy="2862000"/>
          </a:xfrm>
        </p:grpSpPr>
        <p:sp>
          <p:nvSpPr>
            <p:cNvPr id="3268" name=""/>
            <p:cNvSpPr/>
            <p:nvPr/>
          </p:nvSpPr>
          <p:spPr>
            <a:xfrm>
              <a:off x="7684920" y="57006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764480" y="5533920"/>
              <a:ext cx="46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764480" y="6130800"/>
              <a:ext cx="468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915320" y="57643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8028000" y="58039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353360" y="5110200"/>
              <a:ext cx="498240" cy="492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7504200" y="5216400"/>
              <a:ext cx="468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V="1">
              <a:off x="7524720" y="5173560"/>
              <a:ext cx="24444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6" name=""/>
            <p:cNvGrpSpPr/>
            <p:nvPr/>
          </p:nvGrpSpPr>
          <p:grpSpPr>
            <a:xfrm>
              <a:off x="7524720" y="5392800"/>
              <a:ext cx="150840" cy="102960"/>
              <a:chOff x="7524720" y="5392800"/>
              <a:chExt cx="150840" cy="102960"/>
            </a:xfrm>
          </p:grpSpPr>
          <p:sp>
            <p:nvSpPr>
              <p:cNvPr id="3277" name=""/>
              <p:cNvSpPr/>
              <p:nvPr/>
            </p:nvSpPr>
            <p:spPr>
              <a:xfrm>
                <a:off x="7524720" y="54162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7553520" y="53928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9" name=""/>
            <p:cNvSpPr/>
            <p:nvPr/>
          </p:nvSpPr>
          <p:spPr>
            <a:xfrm>
              <a:off x="7675560" y="5491080"/>
              <a:ext cx="936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 flipH="1">
              <a:off x="7353360" y="5359320"/>
              <a:ext cx="1555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 flipV="1">
              <a:off x="7769160" y="4454280"/>
              <a:ext cx="180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2" name=""/>
            <p:cNvGrpSpPr/>
            <p:nvPr/>
          </p:nvGrpSpPr>
          <p:grpSpPr>
            <a:xfrm>
              <a:off x="7715160" y="3967200"/>
              <a:ext cx="101520" cy="487440"/>
              <a:chOff x="7715160" y="3967200"/>
              <a:chExt cx="101520" cy="487440"/>
            </a:xfrm>
          </p:grpSpPr>
          <p:sp>
            <p:nvSpPr>
              <p:cNvPr id="3283" name=""/>
              <p:cNvSpPr/>
              <p:nvPr/>
            </p:nvSpPr>
            <p:spPr>
              <a:xfrm flipV="1">
                <a:off x="7768800" y="3967200"/>
                <a:ext cx="1800" cy="48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7715160" y="435312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5" name=""/>
            <p:cNvGrpSpPr/>
            <p:nvPr/>
          </p:nvGrpSpPr>
          <p:grpSpPr>
            <a:xfrm>
              <a:off x="8282160" y="4440240"/>
              <a:ext cx="101520" cy="1450800"/>
              <a:chOff x="8282160" y="4440240"/>
              <a:chExt cx="101520" cy="1450800"/>
            </a:xfrm>
          </p:grpSpPr>
          <p:sp>
            <p:nvSpPr>
              <p:cNvPr id="3286" name=""/>
              <p:cNvSpPr/>
              <p:nvPr/>
            </p:nvSpPr>
            <p:spPr>
              <a:xfrm>
                <a:off x="8331480" y="44402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8282160" y="44402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8" name=""/>
            <p:cNvSpPr/>
            <p:nvPr/>
          </p:nvSpPr>
          <p:spPr>
            <a:xfrm>
              <a:off x="7875720" y="52023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7968960" y="5241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172280" y="5554800"/>
              <a:ext cx="415800" cy="30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7221240" y="5592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367400" y="56912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8408880" y="5002200"/>
              <a:ext cx="263520" cy="312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462520" y="5046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H="1">
              <a:off x="6549840" y="5369040"/>
              <a:ext cx="80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 flipH="1">
              <a:off x="6527880" y="6345360"/>
              <a:ext cx="1241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5902200" y="5491080"/>
              <a:ext cx="860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6378480" y="3741840"/>
              <a:ext cx="4413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724880" y="62928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914600" y="402588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6489720" y="5594400"/>
              <a:ext cx="166680" cy="43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6489720" y="43560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 flipV="1">
              <a:off x="6568920" y="602424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 flipV="1">
              <a:off x="6556320" y="47880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 flipV="1">
              <a:off x="6568920" y="393372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6491160" y="53164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5961600" y="447660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6013800" y="565452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479200" y="568800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5818320" y="5479920"/>
              <a:ext cx="528480" cy="874800"/>
            </a:xfrm>
            <a:custGeom>
              <a:avLst/>
              <a:gdLst/>
              <a:ahLst/>
              <a:rect l="l" t="t" r="r" b="b"/>
              <a:pathLst>
                <a:path w="333" h="551">
                  <a:moveTo>
                    <a:pt x="278" y="499"/>
                  </a:moveTo>
                  <a:cubicBezTo>
                    <a:pt x="264" y="525"/>
                    <a:pt x="251" y="551"/>
                    <a:pt x="208" y="499"/>
                  </a:cubicBezTo>
                  <a:cubicBezTo>
                    <a:pt x="165" y="447"/>
                    <a:pt x="0" y="270"/>
                    <a:pt x="21" y="187"/>
                  </a:cubicBezTo>
                  <a:cubicBezTo>
                    <a:pt x="42" y="104"/>
                    <a:pt x="187" y="52"/>
                    <a:pt x="3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źródła prądowego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2832120" y="1887480"/>
            <a:ext cx="17928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2921040" y="1701720"/>
            <a:ext cx="144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2921040" y="2354400"/>
            <a:ext cx="1440" cy="233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2386080" y="198756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2507760" y="20304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4780080" y="2916360"/>
            <a:ext cx="536400" cy="53640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4944960" y="3033720"/>
            <a:ext cx="1800" cy="2970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 flipV="1">
            <a:off x="4960800" y="298620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0" name=""/>
          <p:cNvGrpSpPr/>
          <p:nvPr/>
        </p:nvGrpSpPr>
        <p:grpSpPr>
          <a:xfrm>
            <a:off x="4960800" y="3224160"/>
            <a:ext cx="163800" cy="111240"/>
            <a:chOff x="4960800" y="3224160"/>
            <a:chExt cx="163800" cy="111240"/>
          </a:xfrm>
        </p:grpSpPr>
        <p:sp>
          <p:nvSpPr>
            <p:cNvPr id="3321" name=""/>
            <p:cNvSpPr/>
            <p:nvPr/>
          </p:nvSpPr>
          <p:spPr>
            <a:xfrm>
              <a:off x="4960800" y="3251160"/>
              <a:ext cx="1638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992840" y="3224160"/>
              <a:ext cx="1317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3" name=""/>
          <p:cNvSpPr/>
          <p:nvPr/>
        </p:nvSpPr>
        <p:spPr>
          <a:xfrm>
            <a:off x="5124600" y="3330720"/>
            <a:ext cx="101520" cy="52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 flipH="1">
            <a:off x="4775040" y="318780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5226120" y="33782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 flipV="1">
            <a:off x="5226120" y="22046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4594320" y="318780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2884320" y="2544840"/>
            <a:ext cx="7488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2836800" y="2916360"/>
            <a:ext cx="541440" cy="54108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3203640" y="30337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 flipH="1" flipV="1">
            <a:off x="2920680" y="2986200"/>
            <a:ext cx="2667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2" name=""/>
          <p:cNvGrpSpPr/>
          <p:nvPr/>
        </p:nvGrpSpPr>
        <p:grpSpPr>
          <a:xfrm>
            <a:off x="3022200" y="3224160"/>
            <a:ext cx="165240" cy="111240"/>
            <a:chOff x="3022200" y="3224160"/>
            <a:chExt cx="165240" cy="111240"/>
          </a:xfrm>
        </p:grpSpPr>
        <p:sp>
          <p:nvSpPr>
            <p:cNvPr id="3333" name=""/>
            <p:cNvSpPr/>
            <p:nvPr/>
          </p:nvSpPr>
          <p:spPr>
            <a:xfrm flipH="1">
              <a:off x="3022200" y="32511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022560" y="32241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5" name=""/>
          <p:cNvSpPr/>
          <p:nvPr/>
        </p:nvSpPr>
        <p:spPr>
          <a:xfrm flipH="1">
            <a:off x="2921040" y="3335400"/>
            <a:ext cx="10152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3203640" y="31924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2921040" y="3382920"/>
            <a:ext cx="144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 flipV="1">
            <a:off x="2916360" y="27892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 flipH="1">
            <a:off x="3367080" y="31924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2936880" y="3994200"/>
            <a:ext cx="2289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1" name=""/>
          <p:cNvGrpSpPr/>
          <p:nvPr/>
        </p:nvGrpSpPr>
        <p:grpSpPr>
          <a:xfrm>
            <a:off x="3559320" y="3133800"/>
            <a:ext cx="1046160" cy="117360"/>
            <a:chOff x="3559320" y="3133800"/>
            <a:chExt cx="1046160" cy="117360"/>
          </a:xfrm>
        </p:grpSpPr>
        <p:sp>
          <p:nvSpPr>
            <p:cNvPr id="3342" name=""/>
            <p:cNvSpPr/>
            <p:nvPr/>
          </p:nvSpPr>
          <p:spPr>
            <a:xfrm>
              <a:off x="3559320" y="3192480"/>
              <a:ext cx="1046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559320" y="31338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4492800" y="313848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5" name=""/>
          <p:cNvSpPr/>
          <p:nvPr/>
        </p:nvSpPr>
        <p:spPr>
          <a:xfrm flipV="1">
            <a:off x="4078440" y="25491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2916360" y="2565360"/>
            <a:ext cx="11620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7" name=""/>
          <p:cNvGrpSpPr/>
          <p:nvPr/>
        </p:nvGrpSpPr>
        <p:grpSpPr>
          <a:xfrm>
            <a:off x="2857680" y="2560680"/>
            <a:ext cx="112680" cy="264960"/>
            <a:chOff x="2857680" y="2560680"/>
            <a:chExt cx="112680" cy="264960"/>
          </a:xfrm>
        </p:grpSpPr>
        <p:sp>
          <p:nvSpPr>
            <p:cNvPr id="3348" name=""/>
            <p:cNvSpPr/>
            <p:nvPr/>
          </p:nvSpPr>
          <p:spPr>
            <a:xfrm flipV="1">
              <a:off x="2916360" y="2560680"/>
              <a:ext cx="468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857680" y="2714760"/>
              <a:ext cx="1126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0" name=""/>
          <p:cNvGrpSpPr/>
          <p:nvPr/>
        </p:nvGrpSpPr>
        <p:grpSpPr>
          <a:xfrm>
            <a:off x="2857680" y="1425600"/>
            <a:ext cx="112680" cy="264960"/>
            <a:chOff x="2857680" y="1425600"/>
            <a:chExt cx="112680" cy="264960"/>
          </a:xfrm>
        </p:grpSpPr>
        <p:sp>
          <p:nvSpPr>
            <p:cNvPr id="3351" name=""/>
            <p:cNvSpPr/>
            <p:nvPr/>
          </p:nvSpPr>
          <p:spPr>
            <a:xfrm flipV="1">
              <a:off x="2916360" y="1425600"/>
              <a:ext cx="468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857680" y="1579680"/>
              <a:ext cx="1126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3" name=""/>
          <p:cNvGrpSpPr/>
          <p:nvPr/>
        </p:nvGrpSpPr>
        <p:grpSpPr>
          <a:xfrm>
            <a:off x="5167440" y="1674360"/>
            <a:ext cx="110880" cy="530640"/>
            <a:chOff x="5167440" y="1674360"/>
            <a:chExt cx="110880" cy="530640"/>
          </a:xfrm>
        </p:grpSpPr>
        <p:sp>
          <p:nvSpPr>
            <p:cNvPr id="3354" name=""/>
            <p:cNvSpPr/>
            <p:nvPr/>
          </p:nvSpPr>
          <p:spPr>
            <a:xfrm flipV="1">
              <a:off x="5226120" y="16743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5167440" y="20937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6" name=""/>
          <p:cNvGrpSpPr/>
          <p:nvPr/>
        </p:nvGrpSpPr>
        <p:grpSpPr>
          <a:xfrm>
            <a:off x="4025880" y="3330720"/>
            <a:ext cx="111240" cy="566640"/>
            <a:chOff x="4025880" y="3330720"/>
            <a:chExt cx="111240" cy="566640"/>
          </a:xfrm>
        </p:grpSpPr>
        <p:sp>
          <p:nvSpPr>
            <p:cNvPr id="3357" name=""/>
            <p:cNvSpPr/>
            <p:nvPr/>
          </p:nvSpPr>
          <p:spPr>
            <a:xfrm>
              <a:off x="4078440" y="3330720"/>
              <a:ext cx="144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025880" y="3330720"/>
              <a:ext cx="11124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9" name=""/>
          <p:cNvGrpSpPr/>
          <p:nvPr/>
        </p:nvGrpSpPr>
        <p:grpSpPr>
          <a:xfrm>
            <a:off x="5783400" y="2189160"/>
            <a:ext cx="110880" cy="1576440"/>
            <a:chOff x="5783400" y="2189160"/>
            <a:chExt cx="110880" cy="1576440"/>
          </a:xfrm>
        </p:grpSpPr>
        <p:sp>
          <p:nvSpPr>
            <p:cNvPr id="3360" name=""/>
            <p:cNvSpPr/>
            <p:nvPr/>
          </p:nvSpPr>
          <p:spPr>
            <a:xfrm>
              <a:off x="5835600" y="2189160"/>
              <a:ext cx="6480" cy="1576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5783400" y="21891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2" name=""/>
          <p:cNvSpPr/>
          <p:nvPr/>
        </p:nvSpPr>
        <p:spPr>
          <a:xfrm>
            <a:off x="2879640" y="14097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4046400" y="315432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2454120" y="3017880"/>
            <a:ext cx="33984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2517840" y="3059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2639520" y="3165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5342040" y="301788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5405400" y="3059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5527440" y="3165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5310360" y="20192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5368680" y="206676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4678200" y="2236680"/>
            <a:ext cx="3034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4680000" y="1859040"/>
            <a:ext cx="8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4792680" y="196524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2540160" y="1504800"/>
            <a:ext cx="3013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2603520" y="1552680"/>
            <a:ext cx="8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2678040" y="165888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4313160" y="27669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4392360" y="28098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4466880" y="29163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3484440" y="27828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3536640" y="282564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3611160" y="29322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2556000" y="2619360"/>
            <a:ext cx="301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2596680" y="26622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2671200" y="2766960"/>
            <a:ext cx="133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4148280" y="34304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4200480" y="3473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4361040" y="3579840"/>
            <a:ext cx="17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3038400" y="1224000"/>
            <a:ext cx="4510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3069720" y="1265400"/>
            <a:ext cx="29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3357720" y="137160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5921280" y="2800440"/>
            <a:ext cx="28584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5979960" y="284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4211640" y="3994200"/>
            <a:ext cx="1440" cy="115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4078440" y="4094280"/>
            <a:ext cx="26640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7" name=""/>
              <p:cNvSpPr txBox="1"/>
              <p:nvPr/>
            </p:nvSpPr>
            <p:spPr>
              <a:xfrm>
                <a:off x="1952640" y="4551480"/>
                <a:ext cx="45514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8" name=""/>
              <p:cNvSpPr txBox="1"/>
              <p:nvPr/>
            </p:nvSpPr>
            <p:spPr>
              <a:xfrm>
                <a:off x="1947960" y="5486400"/>
                <a:ext cx="24289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9" name=""/>
          <p:cNvSpPr/>
          <p:nvPr/>
        </p:nvSpPr>
        <p:spPr>
          <a:xfrm>
            <a:off x="6167880" y="1494000"/>
            <a:ext cx="210384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3105000" y="1695600"/>
            <a:ext cx="1497240" cy="296640"/>
          </a:xfrm>
          <a:custGeom>
            <a:avLst/>
            <a:gdLst/>
            <a:ahLst/>
            <a:rect l="l" t="t" r="r" b="b"/>
            <a:pathLst>
              <a:path w="943" h="187">
                <a:moveTo>
                  <a:pt x="0" y="0"/>
                </a:moveTo>
                <a:cubicBezTo>
                  <a:pt x="393" y="78"/>
                  <a:pt x="786" y="156"/>
                  <a:pt x="943" y="18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1" name=""/>
          <p:cNvGrpSpPr/>
          <p:nvPr/>
        </p:nvGrpSpPr>
        <p:grpSpPr>
          <a:xfrm>
            <a:off x="597240" y="1001880"/>
            <a:ext cx="8143200" cy="3053880"/>
            <a:chOff x="597240" y="1001880"/>
            <a:chExt cx="8143200" cy="3053880"/>
          </a:xfrm>
        </p:grpSpPr>
        <p:sp>
          <p:nvSpPr>
            <p:cNvPr id="3402" name=""/>
            <p:cNvSpPr/>
            <p:nvPr/>
          </p:nvSpPr>
          <p:spPr>
            <a:xfrm>
              <a:off x="597240" y="1001880"/>
              <a:ext cx="5063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b)                                c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5445720" y="2848680"/>
              <a:ext cx="3589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5514480" y="2895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5642280" y="3014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6548760" y="2683440"/>
              <a:ext cx="56376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6609240" y="27320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6777720" y="2848680"/>
              <a:ext cx="24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1005840" y="2789640"/>
              <a:ext cx="56592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1392480" y="2918880"/>
              <a:ext cx="144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H="1" flipV="1">
              <a:off x="1096560" y="2866680"/>
              <a:ext cx="2786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2" name=""/>
            <p:cNvGrpSpPr/>
            <p:nvPr/>
          </p:nvGrpSpPr>
          <p:grpSpPr>
            <a:xfrm>
              <a:off x="1195560" y="3131640"/>
              <a:ext cx="178920" cy="123480"/>
              <a:chOff x="1195560" y="3131640"/>
              <a:chExt cx="178920" cy="123480"/>
            </a:xfrm>
          </p:grpSpPr>
          <p:sp>
            <p:nvSpPr>
              <p:cNvPr id="3413" name=""/>
              <p:cNvSpPr/>
              <p:nvPr/>
            </p:nvSpPr>
            <p:spPr>
              <a:xfrm flipH="1">
                <a:off x="1195560" y="316008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1195920" y="3131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5" name=""/>
            <p:cNvSpPr/>
            <p:nvPr/>
          </p:nvSpPr>
          <p:spPr>
            <a:xfrm flipH="1">
              <a:off x="1096200" y="3248280"/>
              <a:ext cx="1062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139248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1096560" y="3307680"/>
              <a:ext cx="180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 flipV="1">
              <a:off x="1089720" y="1665000"/>
              <a:ext cx="6840" cy="1189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 flipH="1">
              <a:off x="155988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968480" y="2789640"/>
              <a:ext cx="56376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2141280" y="2918880"/>
              <a:ext cx="180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 flipV="1">
              <a:off x="2158560" y="2866680"/>
              <a:ext cx="2800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3" name=""/>
            <p:cNvGrpSpPr/>
            <p:nvPr/>
          </p:nvGrpSpPr>
          <p:grpSpPr>
            <a:xfrm>
              <a:off x="2158560" y="3136680"/>
              <a:ext cx="178920" cy="123480"/>
              <a:chOff x="2158560" y="3136680"/>
              <a:chExt cx="178920" cy="123480"/>
            </a:xfrm>
          </p:grpSpPr>
          <p:sp>
            <p:nvSpPr>
              <p:cNvPr id="3424" name=""/>
              <p:cNvSpPr/>
              <p:nvPr/>
            </p:nvSpPr>
            <p:spPr>
              <a:xfrm>
                <a:off x="2158560" y="315972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2197440" y="3136680"/>
                <a:ext cx="14004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6" name=""/>
            <p:cNvSpPr/>
            <p:nvPr/>
          </p:nvSpPr>
          <p:spPr>
            <a:xfrm>
              <a:off x="2338200" y="3248280"/>
              <a:ext cx="1008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 flipH="1">
              <a:off x="196812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2439000" y="3307680"/>
              <a:ext cx="144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 flipH="1" flipV="1">
              <a:off x="2439000" y="1688760"/>
              <a:ext cx="5040" cy="116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177192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439452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4573800" y="200160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 flipV="1">
              <a:off x="4591440" y="1942200"/>
              <a:ext cx="27828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4" name=""/>
            <p:cNvGrpSpPr/>
            <p:nvPr/>
          </p:nvGrpSpPr>
          <p:grpSpPr>
            <a:xfrm>
              <a:off x="4591440" y="2214000"/>
              <a:ext cx="172080" cy="121680"/>
              <a:chOff x="4591440" y="2214000"/>
              <a:chExt cx="172080" cy="121680"/>
            </a:xfrm>
          </p:grpSpPr>
          <p:sp>
            <p:nvSpPr>
              <p:cNvPr id="3435" name=""/>
              <p:cNvSpPr/>
              <p:nvPr/>
            </p:nvSpPr>
            <p:spPr>
              <a:xfrm>
                <a:off x="4591440" y="2237040"/>
                <a:ext cx="1720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4625280" y="221400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7" name=""/>
            <p:cNvSpPr/>
            <p:nvPr/>
          </p:nvSpPr>
          <p:spPr>
            <a:xfrm>
              <a:off x="4763880" y="2330640"/>
              <a:ext cx="1058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 flipH="1">
              <a:off x="4394520" y="2172600"/>
              <a:ext cx="17928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48697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 flipV="1">
              <a:off x="4869720" y="1524960"/>
              <a:ext cx="1800" cy="41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420480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4394520" y="2843640"/>
              <a:ext cx="5709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568760" y="2973240"/>
              <a:ext cx="50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flipV="1">
              <a:off x="4586040" y="2918880"/>
              <a:ext cx="2836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5" name=""/>
            <p:cNvGrpSpPr/>
            <p:nvPr/>
          </p:nvGrpSpPr>
          <p:grpSpPr>
            <a:xfrm>
              <a:off x="4586040" y="3190680"/>
              <a:ext cx="177480" cy="121680"/>
              <a:chOff x="4586040" y="3190680"/>
              <a:chExt cx="177480" cy="121680"/>
            </a:xfrm>
          </p:grpSpPr>
          <p:sp>
            <p:nvSpPr>
              <p:cNvPr id="3446" name=""/>
              <p:cNvSpPr/>
              <p:nvPr/>
            </p:nvSpPr>
            <p:spPr>
              <a:xfrm>
                <a:off x="4586040" y="3213720"/>
                <a:ext cx="17748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4625280" y="319068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8" name=""/>
            <p:cNvSpPr/>
            <p:nvPr/>
          </p:nvSpPr>
          <p:spPr>
            <a:xfrm>
              <a:off x="4763880" y="3302280"/>
              <a:ext cx="1058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 flipH="1">
              <a:off x="4394520" y="3149640"/>
              <a:ext cx="1792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4864680" y="3354120"/>
              <a:ext cx="50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 flipV="1">
              <a:off x="486972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419976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1303560" y="1890000"/>
              <a:ext cx="568800" cy="5986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1476360" y="2019600"/>
              <a:ext cx="50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 flipV="1">
              <a:off x="1498320" y="196560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6" name=""/>
            <p:cNvGrpSpPr/>
            <p:nvPr/>
          </p:nvGrpSpPr>
          <p:grpSpPr>
            <a:xfrm>
              <a:off x="1498320" y="2229840"/>
              <a:ext cx="172440" cy="123840"/>
              <a:chOff x="1498320" y="2229840"/>
              <a:chExt cx="172440" cy="123840"/>
            </a:xfrm>
          </p:grpSpPr>
          <p:sp>
            <p:nvSpPr>
              <p:cNvPr id="3457" name=""/>
              <p:cNvSpPr/>
              <p:nvPr/>
            </p:nvSpPr>
            <p:spPr>
              <a:xfrm>
                <a:off x="1498320" y="2260080"/>
                <a:ext cx="172440" cy="87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1532520" y="2229840"/>
                <a:ext cx="138240" cy="1238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0" y="69"/>
                    </a:moveTo>
                    <a:lnTo>
                      <a:pt x="81" y="66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9" name=""/>
            <p:cNvSpPr/>
            <p:nvPr/>
          </p:nvSpPr>
          <p:spPr>
            <a:xfrm>
              <a:off x="1671120" y="2348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 flipH="1">
              <a:off x="1303200" y="219600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1779120" y="2400840"/>
              <a:ext cx="14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 flipV="1">
              <a:off x="1779120" y="1447200"/>
              <a:ext cx="1440" cy="50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1112040" y="2196000"/>
              <a:ext cx="196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341676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3803040" y="2001600"/>
              <a:ext cx="14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 flipH="1" flipV="1">
              <a:off x="3504960" y="1942200"/>
              <a:ext cx="28044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7" name=""/>
            <p:cNvGrpSpPr/>
            <p:nvPr/>
          </p:nvGrpSpPr>
          <p:grpSpPr>
            <a:xfrm>
              <a:off x="3612960" y="2206800"/>
              <a:ext cx="172440" cy="123480"/>
              <a:chOff x="3612960" y="2206800"/>
              <a:chExt cx="172440" cy="123480"/>
            </a:xfrm>
          </p:grpSpPr>
          <p:sp>
            <p:nvSpPr>
              <p:cNvPr id="3468" name=""/>
              <p:cNvSpPr/>
              <p:nvPr/>
            </p:nvSpPr>
            <p:spPr>
              <a:xfrm flipH="1">
                <a:off x="3612960" y="2237040"/>
                <a:ext cx="17244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3613320" y="2206800"/>
                <a:ext cx="138240" cy="12348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45" y="0"/>
                    </a:moveTo>
                    <a:lnTo>
                      <a:pt x="0" y="69"/>
                    </a:lnTo>
                    <a:lnTo>
                      <a:pt x="81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0" name=""/>
            <p:cNvSpPr/>
            <p:nvPr/>
          </p:nvSpPr>
          <p:spPr>
            <a:xfrm flipH="1">
              <a:off x="3504960" y="2330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3803040" y="2172600"/>
              <a:ext cx="17244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35053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V="1">
              <a:off x="3500280" y="1542960"/>
              <a:ext cx="504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H="1">
              <a:off x="397584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416760" y="2843640"/>
              <a:ext cx="5637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3803040" y="2973240"/>
              <a:ext cx="14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 flipH="1" flipV="1">
              <a:off x="3504960" y="291888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8" name=""/>
            <p:cNvGrpSpPr/>
            <p:nvPr/>
          </p:nvGrpSpPr>
          <p:grpSpPr>
            <a:xfrm>
              <a:off x="3606120" y="3183840"/>
              <a:ext cx="178920" cy="123480"/>
              <a:chOff x="3606120" y="3183840"/>
              <a:chExt cx="178920" cy="123480"/>
            </a:xfrm>
          </p:grpSpPr>
          <p:sp>
            <p:nvSpPr>
              <p:cNvPr id="3479" name=""/>
              <p:cNvSpPr/>
              <p:nvPr/>
            </p:nvSpPr>
            <p:spPr>
              <a:xfrm flipH="1">
                <a:off x="3606120" y="3213720"/>
                <a:ext cx="178920" cy="93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3606480" y="31838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1" name=""/>
            <p:cNvSpPr/>
            <p:nvPr/>
          </p:nvSpPr>
          <p:spPr>
            <a:xfrm flipH="1">
              <a:off x="3504960" y="3302280"/>
              <a:ext cx="1076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3803040" y="3149640"/>
              <a:ext cx="172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3505320" y="3354120"/>
              <a:ext cx="180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 flipV="1">
              <a:off x="350028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 flipH="1">
              <a:off x="397080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 flipV="1">
              <a:off x="4187880" y="2677680"/>
              <a:ext cx="1440" cy="46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 flipV="1">
              <a:off x="4204800" y="1706760"/>
              <a:ext cx="1440" cy="458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4187880" y="2678040"/>
              <a:ext cx="681840" cy="5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505320" y="1706760"/>
              <a:ext cx="699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0" name=""/>
            <p:cNvGrpSpPr/>
            <p:nvPr/>
          </p:nvGrpSpPr>
          <p:grpSpPr>
            <a:xfrm>
              <a:off x="3444120" y="1318320"/>
              <a:ext cx="117360" cy="240480"/>
              <a:chOff x="3444120" y="1318320"/>
              <a:chExt cx="117360" cy="240480"/>
            </a:xfrm>
          </p:grpSpPr>
          <p:sp>
            <p:nvSpPr>
              <p:cNvPr id="3491" name=""/>
              <p:cNvSpPr/>
              <p:nvPr/>
            </p:nvSpPr>
            <p:spPr>
              <a:xfrm>
                <a:off x="35049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444120" y="1436760"/>
                <a:ext cx="11736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3" name=""/>
            <p:cNvGrpSpPr/>
            <p:nvPr/>
          </p:nvGrpSpPr>
          <p:grpSpPr>
            <a:xfrm>
              <a:off x="4809960" y="1318320"/>
              <a:ext cx="115920" cy="240480"/>
              <a:chOff x="4809960" y="1318320"/>
              <a:chExt cx="115920" cy="240480"/>
            </a:xfrm>
          </p:grpSpPr>
          <p:sp>
            <p:nvSpPr>
              <p:cNvPr id="3494" name=""/>
              <p:cNvSpPr/>
              <p:nvPr/>
            </p:nvSpPr>
            <p:spPr>
              <a:xfrm>
                <a:off x="48693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4809960" y="1436760"/>
                <a:ext cx="115920" cy="1220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0" y="0"/>
                    </a:moveTo>
                    <a:lnTo>
                      <a:pt x="35" y="68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"/>
            <p:cNvGrpSpPr/>
            <p:nvPr/>
          </p:nvGrpSpPr>
          <p:grpSpPr>
            <a:xfrm>
              <a:off x="1028520" y="1478160"/>
              <a:ext cx="117360" cy="240480"/>
              <a:chOff x="1028520" y="1478160"/>
              <a:chExt cx="117360" cy="240480"/>
            </a:xfrm>
          </p:grpSpPr>
          <p:sp>
            <p:nvSpPr>
              <p:cNvPr id="3497" name=""/>
              <p:cNvSpPr/>
              <p:nvPr/>
            </p:nvSpPr>
            <p:spPr>
              <a:xfrm>
                <a:off x="1089360" y="1478160"/>
                <a:ext cx="68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1028520" y="15948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3"/>
                    </a:moveTo>
                    <a:lnTo>
                      <a:pt x="40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9" name=""/>
            <p:cNvGrpSpPr/>
            <p:nvPr/>
          </p:nvGrpSpPr>
          <p:grpSpPr>
            <a:xfrm>
              <a:off x="2377080" y="1465560"/>
              <a:ext cx="115920" cy="240480"/>
              <a:chOff x="2377080" y="1465560"/>
              <a:chExt cx="115920" cy="240480"/>
            </a:xfrm>
          </p:grpSpPr>
          <p:sp>
            <p:nvSpPr>
              <p:cNvPr id="3500" name=""/>
              <p:cNvSpPr/>
              <p:nvPr/>
            </p:nvSpPr>
            <p:spPr>
              <a:xfrm>
                <a:off x="2438640" y="1465560"/>
                <a:ext cx="14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2377080" y="158220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36" y="69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2" name=""/>
            <p:cNvSpPr/>
            <p:nvPr/>
          </p:nvSpPr>
          <p:spPr>
            <a:xfrm>
              <a:off x="5810400" y="271944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6196320" y="284868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 flipV="1">
              <a:off x="5898960" y="2789280"/>
              <a:ext cx="28008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5" name=""/>
            <p:cNvGrpSpPr/>
            <p:nvPr/>
          </p:nvGrpSpPr>
          <p:grpSpPr>
            <a:xfrm>
              <a:off x="6004440" y="3055680"/>
              <a:ext cx="173880" cy="121680"/>
              <a:chOff x="6004440" y="3055680"/>
              <a:chExt cx="173880" cy="121680"/>
            </a:xfrm>
          </p:grpSpPr>
          <p:sp>
            <p:nvSpPr>
              <p:cNvPr id="3506" name=""/>
              <p:cNvSpPr/>
              <p:nvPr/>
            </p:nvSpPr>
            <p:spPr>
              <a:xfrm flipH="1">
                <a:off x="6004440" y="3084480"/>
                <a:ext cx="1738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6004800" y="3055680"/>
                <a:ext cx="140040" cy="12168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46" y="0"/>
                    </a:moveTo>
                    <a:lnTo>
                      <a:pt x="0" y="68"/>
                    </a:lnTo>
                    <a:lnTo>
                      <a:pt x="82" y="6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8" name=""/>
            <p:cNvSpPr/>
            <p:nvPr/>
          </p:nvSpPr>
          <p:spPr>
            <a:xfrm flipH="1">
              <a:off x="5898960" y="3178080"/>
              <a:ext cx="105840" cy="54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6196320" y="3019680"/>
              <a:ext cx="1778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5898960" y="3232440"/>
              <a:ext cx="1440" cy="758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5898960" y="2348640"/>
              <a:ext cx="1440" cy="429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 flipH="1">
              <a:off x="6369480" y="3019680"/>
              <a:ext cx="1965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247880" y="2295000"/>
              <a:ext cx="563760" cy="5954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420680" y="2424600"/>
              <a:ext cx="1440" cy="33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 flipV="1">
              <a:off x="7437960" y="2366640"/>
              <a:ext cx="27864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6" name=""/>
            <p:cNvGrpSpPr/>
            <p:nvPr/>
          </p:nvGrpSpPr>
          <p:grpSpPr>
            <a:xfrm>
              <a:off x="7437960" y="2636640"/>
              <a:ext cx="172080" cy="123480"/>
              <a:chOff x="7437960" y="2636640"/>
              <a:chExt cx="172080" cy="123480"/>
            </a:xfrm>
          </p:grpSpPr>
          <p:sp>
            <p:nvSpPr>
              <p:cNvPr id="3517" name=""/>
              <p:cNvSpPr/>
              <p:nvPr/>
            </p:nvSpPr>
            <p:spPr>
              <a:xfrm>
                <a:off x="7437960" y="2659680"/>
                <a:ext cx="17208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7470360" y="2636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9" name=""/>
            <p:cNvSpPr/>
            <p:nvPr/>
          </p:nvSpPr>
          <p:spPr>
            <a:xfrm>
              <a:off x="7610400" y="2755440"/>
              <a:ext cx="106200" cy="57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 flipH="1">
              <a:off x="7247880" y="2595600"/>
              <a:ext cx="172800" cy="6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716600" y="2807640"/>
              <a:ext cx="1440" cy="240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 flipH="1" flipV="1">
              <a:off x="7710840" y="1688400"/>
              <a:ext cx="11880" cy="665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5898960" y="2589840"/>
              <a:ext cx="1348560" cy="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V="1">
              <a:off x="6566040" y="2589480"/>
              <a:ext cx="1440" cy="424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810400" y="1613160"/>
              <a:ext cx="189360" cy="52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5898960" y="1406520"/>
              <a:ext cx="1440" cy="22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7" name=""/>
            <p:cNvGrpSpPr/>
            <p:nvPr/>
          </p:nvGrpSpPr>
          <p:grpSpPr>
            <a:xfrm>
              <a:off x="5837400" y="2125800"/>
              <a:ext cx="117720" cy="256320"/>
              <a:chOff x="5837400" y="2125800"/>
              <a:chExt cx="117720" cy="256320"/>
            </a:xfrm>
          </p:grpSpPr>
          <p:sp>
            <p:nvSpPr>
              <p:cNvPr id="3528" name=""/>
              <p:cNvSpPr/>
              <p:nvPr/>
            </p:nvSpPr>
            <p:spPr>
              <a:xfrm>
                <a:off x="5898600" y="2125800"/>
                <a:ext cx="1440" cy="25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5837400" y="2260080"/>
                <a:ext cx="11772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0" name=""/>
            <p:cNvSpPr/>
            <p:nvPr/>
          </p:nvSpPr>
          <p:spPr>
            <a:xfrm>
              <a:off x="6061680" y="1719360"/>
              <a:ext cx="40860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6189120" y="17715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627320" y="3214080"/>
              <a:ext cx="189720" cy="523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716600" y="3007080"/>
              <a:ext cx="1440" cy="225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716600" y="3726720"/>
              <a:ext cx="1440" cy="25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5989680" y="1131120"/>
              <a:ext cx="51444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044040" y="1183320"/>
              <a:ext cx="27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6346800" y="13003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8" name=""/>
            <p:cNvGrpSpPr/>
            <p:nvPr/>
          </p:nvGrpSpPr>
          <p:grpSpPr>
            <a:xfrm>
              <a:off x="7655040" y="1447560"/>
              <a:ext cx="117360" cy="258480"/>
              <a:chOff x="7655040" y="1447560"/>
              <a:chExt cx="117360" cy="258480"/>
            </a:xfrm>
          </p:grpSpPr>
          <p:sp>
            <p:nvSpPr>
              <p:cNvPr id="3539" name=""/>
              <p:cNvSpPr/>
              <p:nvPr/>
            </p:nvSpPr>
            <p:spPr>
              <a:xfrm>
                <a:off x="7716240" y="1447560"/>
                <a:ext cx="1440" cy="258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7655040" y="15822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0"/>
                    </a:moveTo>
                    <a:lnTo>
                      <a:pt x="36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1" name=""/>
            <p:cNvGrpSpPr/>
            <p:nvPr/>
          </p:nvGrpSpPr>
          <p:grpSpPr>
            <a:xfrm>
              <a:off x="6492240" y="3136680"/>
              <a:ext cx="117360" cy="683280"/>
              <a:chOff x="6492240" y="3136680"/>
              <a:chExt cx="117360" cy="683280"/>
            </a:xfrm>
          </p:grpSpPr>
          <p:sp>
            <p:nvSpPr>
              <p:cNvPr id="3542" name=""/>
              <p:cNvSpPr/>
              <p:nvPr/>
            </p:nvSpPr>
            <p:spPr>
              <a:xfrm flipV="1">
                <a:off x="6548760" y="3136680"/>
                <a:ext cx="1440" cy="68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6492240" y="313668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4" name=""/>
            <p:cNvGrpSpPr/>
            <p:nvPr/>
          </p:nvGrpSpPr>
          <p:grpSpPr>
            <a:xfrm>
              <a:off x="7907760" y="3118680"/>
              <a:ext cx="115920" cy="682920"/>
              <a:chOff x="7907760" y="3118680"/>
              <a:chExt cx="115920" cy="682920"/>
            </a:xfrm>
          </p:grpSpPr>
          <p:sp>
            <p:nvSpPr>
              <p:cNvPr id="3545" name=""/>
              <p:cNvSpPr/>
              <p:nvPr/>
            </p:nvSpPr>
            <p:spPr>
              <a:xfrm flipV="1">
                <a:off x="7962480" y="3118680"/>
                <a:ext cx="1440" cy="682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7907760" y="311904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69"/>
                    </a:moveTo>
                    <a:lnTo>
                      <a:pt x="32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7" name=""/>
            <p:cNvGrpSpPr/>
            <p:nvPr/>
          </p:nvGrpSpPr>
          <p:grpSpPr>
            <a:xfrm>
              <a:off x="7034400" y="2641680"/>
              <a:ext cx="117360" cy="371880"/>
              <a:chOff x="7034400" y="2641680"/>
              <a:chExt cx="117360" cy="371880"/>
            </a:xfrm>
          </p:grpSpPr>
          <p:sp>
            <p:nvSpPr>
              <p:cNvPr id="3548" name=""/>
              <p:cNvSpPr/>
              <p:nvPr/>
            </p:nvSpPr>
            <p:spPr>
              <a:xfrm flipV="1">
                <a:off x="7090920" y="2641680"/>
                <a:ext cx="1440" cy="371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7034400" y="264204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7063560" y="3079440"/>
              <a:ext cx="637200" cy="10080"/>
              <a:chOff x="7063560" y="3079440"/>
              <a:chExt cx="637200" cy="10080"/>
            </a:xfrm>
          </p:grpSpPr>
          <p:sp>
            <p:nvSpPr>
              <p:cNvPr id="3551" name=""/>
              <p:cNvSpPr/>
              <p:nvPr/>
            </p:nvSpPr>
            <p:spPr>
              <a:xfrm>
                <a:off x="706356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708552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71078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71301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71521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71744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71967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72187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72414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7263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72874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73094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733140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73540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73760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7398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74206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74426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74649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74872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75096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75315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75556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75776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760032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76222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76442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76669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76888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0" name=""/>
            <p:cNvSpPr/>
            <p:nvPr/>
          </p:nvSpPr>
          <p:spPr>
            <a:xfrm>
              <a:off x="4825440" y="2642040"/>
              <a:ext cx="7848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4155120" y="311364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172400" y="2136600"/>
              <a:ext cx="7704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3473280" y="167220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1733040" y="3048840"/>
              <a:ext cx="781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1057320" y="2149200"/>
              <a:ext cx="766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1062360" y="141336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1744560" y="1413360"/>
              <a:ext cx="734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5199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8665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2404800" y="141336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7671960" y="1377360"/>
              <a:ext cx="784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5866560" y="1336320"/>
              <a:ext cx="78480" cy="770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4837680" y="126612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473280" y="128412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96156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382560" y="4032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4748400" y="4048920"/>
              <a:ext cx="244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577620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759348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231552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4993200" y="2001600"/>
              <a:ext cx="35388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5060520" y="2048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5189400" y="2165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3052440" y="2954880"/>
              <a:ext cx="351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312084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32486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21360" y="2900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93360" y="2949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821160" y="3066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7839720" y="2424600"/>
              <a:ext cx="35892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7908120" y="24732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8035920" y="2589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4970880" y="295488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04432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51710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544840" y="2918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610720" y="29660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2739240" y="3084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015000" y="1965600"/>
              <a:ext cx="35676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086640" y="2012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3214800" y="2131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1895040" y="201960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1967760" y="2066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2096640" y="2183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7824240" y="1524960"/>
              <a:ext cx="217080" cy="370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7885440" y="1571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5989680" y="2165400"/>
              <a:ext cx="31788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056280" y="22140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134760" y="2330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3596040" y="1284120"/>
              <a:ext cx="31788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3661920" y="1330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3741120" y="1447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1163160" y="1483560"/>
              <a:ext cx="324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1235160" y="1535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1313640" y="1654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4970880" y="1395360"/>
              <a:ext cx="2185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5038200" y="1442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2510640" y="1559520"/>
              <a:ext cx="2185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2570760" y="1607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615720" y="3343680"/>
              <a:ext cx="56376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698160" y="33904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6867000" y="3507120"/>
              <a:ext cx="21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!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8031240" y="3289680"/>
              <a:ext cx="709200" cy="372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8130240" y="33256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8276040" y="33490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8445240" y="346752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1481400" y="1006920"/>
              <a:ext cx="63252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1532160" y="10533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1855800" y="11707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ne źródła prądowe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1" name=""/>
              <p:cNvSpPr txBox="1"/>
              <p:nvPr/>
            </p:nvSpPr>
            <p:spPr>
              <a:xfrm>
                <a:off x="200160" y="4657680"/>
                <a:ext cx="2673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3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2" name=""/>
              <p:cNvSpPr txBox="1"/>
              <p:nvPr/>
            </p:nvSpPr>
            <p:spPr>
              <a:xfrm>
                <a:off x="3228840" y="4683240"/>
                <a:ext cx="2167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4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3" name=""/>
              <p:cNvSpPr txBox="1"/>
              <p:nvPr/>
            </p:nvSpPr>
            <p:spPr>
              <a:xfrm>
                <a:off x="5975280" y="4702320"/>
                <a:ext cx="239076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4" name=""/>
              <p:cNvSpPr txBox="1"/>
              <p:nvPr/>
            </p:nvSpPr>
            <p:spPr>
              <a:xfrm>
                <a:off x="6195960" y="5570640"/>
                <a:ext cx="11876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PlaceHolder 1"/>
          <p:cNvSpPr>
            <a:spLocks noGrp="1"/>
          </p:cNvSpPr>
          <p:nvPr>
            <p:ph type="title"/>
          </p:nvPr>
        </p:nvSpPr>
        <p:spPr>
          <a:xfrm>
            <a:off x="-106560" y="26640"/>
            <a:ext cx="955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w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295200" y="212400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7" name=""/>
              <p:cNvSpPr txBox="1"/>
              <p:nvPr/>
            </p:nvSpPr>
            <p:spPr>
              <a:xfrm>
                <a:off x="2217600" y="5070600"/>
                <a:ext cx="48801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T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8" name=""/>
          <p:cNvSpPr/>
          <p:nvPr/>
        </p:nvSpPr>
        <p:spPr>
          <a:xfrm>
            <a:off x="1015920" y="2332080"/>
            <a:ext cx="17784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1104840" y="2146320"/>
            <a:ext cx="180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1104840" y="2798640"/>
            <a:ext cx="1800" cy="233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692280" y="24750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1068480" y="2989440"/>
            <a:ext cx="7452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1020600" y="3360600"/>
            <a:ext cx="540000" cy="5414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1386000" y="34783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 flipH="1" flipV="1">
            <a:off x="1104480" y="343044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6" name=""/>
          <p:cNvGrpSpPr/>
          <p:nvPr/>
        </p:nvGrpSpPr>
        <p:grpSpPr>
          <a:xfrm>
            <a:off x="1204560" y="3668760"/>
            <a:ext cx="165240" cy="111240"/>
            <a:chOff x="1204560" y="3668760"/>
            <a:chExt cx="165240" cy="111240"/>
          </a:xfrm>
        </p:grpSpPr>
        <p:sp>
          <p:nvSpPr>
            <p:cNvPr id="3667" name=""/>
            <p:cNvSpPr/>
            <p:nvPr/>
          </p:nvSpPr>
          <p:spPr>
            <a:xfrm flipH="1">
              <a:off x="1204560" y="36957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1204920" y="36687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9" name=""/>
          <p:cNvSpPr/>
          <p:nvPr/>
        </p:nvSpPr>
        <p:spPr>
          <a:xfrm flipH="1">
            <a:off x="1104840" y="3780000"/>
            <a:ext cx="10008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1386000" y="36370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1104840" y="3827520"/>
            <a:ext cx="180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 flipV="1">
            <a:off x="1100160" y="32338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 flipH="1">
            <a:off x="1549440" y="36370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1120680" y="4438800"/>
            <a:ext cx="65502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5" name=""/>
          <p:cNvGrpSpPr/>
          <p:nvPr/>
        </p:nvGrpSpPr>
        <p:grpSpPr>
          <a:xfrm>
            <a:off x="1741320" y="3578400"/>
            <a:ext cx="1044720" cy="117360"/>
            <a:chOff x="1741320" y="3578400"/>
            <a:chExt cx="1044720" cy="117360"/>
          </a:xfrm>
        </p:grpSpPr>
        <p:sp>
          <p:nvSpPr>
            <p:cNvPr id="3676" name=""/>
            <p:cNvSpPr/>
            <p:nvPr/>
          </p:nvSpPr>
          <p:spPr>
            <a:xfrm>
              <a:off x="1741320" y="3637080"/>
              <a:ext cx="10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1741320" y="3578400"/>
              <a:ext cx="11052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2673360" y="3583080"/>
              <a:ext cx="11232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9" name=""/>
          <p:cNvSpPr/>
          <p:nvPr/>
        </p:nvSpPr>
        <p:spPr>
          <a:xfrm flipV="1">
            <a:off x="2259000" y="29937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1100160" y="3009960"/>
            <a:ext cx="115884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1" name=""/>
          <p:cNvGrpSpPr/>
          <p:nvPr/>
        </p:nvGrpSpPr>
        <p:grpSpPr>
          <a:xfrm>
            <a:off x="1041480" y="3005280"/>
            <a:ext cx="110880" cy="264960"/>
            <a:chOff x="1041480" y="3005280"/>
            <a:chExt cx="110880" cy="264960"/>
          </a:xfrm>
        </p:grpSpPr>
        <p:sp>
          <p:nvSpPr>
            <p:cNvPr id="3682" name=""/>
            <p:cNvSpPr/>
            <p:nvPr/>
          </p:nvSpPr>
          <p:spPr>
            <a:xfrm flipV="1">
              <a:off x="1099080" y="300528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1041480" y="315936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4" name=""/>
          <p:cNvGrpSpPr/>
          <p:nvPr/>
        </p:nvGrpSpPr>
        <p:grpSpPr>
          <a:xfrm>
            <a:off x="1041480" y="1870200"/>
            <a:ext cx="110880" cy="264960"/>
            <a:chOff x="1041480" y="1870200"/>
            <a:chExt cx="110880" cy="264960"/>
          </a:xfrm>
        </p:grpSpPr>
        <p:sp>
          <p:nvSpPr>
            <p:cNvPr id="3685" name=""/>
            <p:cNvSpPr/>
            <p:nvPr/>
          </p:nvSpPr>
          <p:spPr>
            <a:xfrm flipV="1">
              <a:off x="1099080" y="187020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1041480" y="202428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7" name=""/>
          <p:cNvGrpSpPr/>
          <p:nvPr/>
        </p:nvGrpSpPr>
        <p:grpSpPr>
          <a:xfrm>
            <a:off x="2206800" y="3774960"/>
            <a:ext cx="110880" cy="566640"/>
            <a:chOff x="2206800" y="3774960"/>
            <a:chExt cx="110880" cy="566640"/>
          </a:xfrm>
        </p:grpSpPr>
        <p:sp>
          <p:nvSpPr>
            <p:cNvPr id="3688" name=""/>
            <p:cNvSpPr/>
            <p:nvPr/>
          </p:nvSpPr>
          <p:spPr>
            <a:xfrm>
              <a:off x="2259000" y="3774960"/>
              <a:ext cx="108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2206800" y="37749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0" name=""/>
          <p:cNvSpPr/>
          <p:nvPr/>
        </p:nvSpPr>
        <p:spPr>
          <a:xfrm>
            <a:off x="1063800" y="18543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2227320" y="35989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638280" y="3462480"/>
            <a:ext cx="3394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70092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82368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655560" y="1960560"/>
            <a:ext cx="176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2494080" y="32115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1666800" y="32274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1719360" y="3270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1793880" y="33764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739800" y="3063960"/>
            <a:ext cx="3016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781200" y="31068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855720" y="3211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2328840" y="38750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2381040" y="3917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1220760" y="1668600"/>
            <a:ext cx="45072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1252080" y="17096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2960640" y="336060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3125880" y="347832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 flipV="1">
            <a:off x="3141720" y="343044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0" name=""/>
          <p:cNvGrpSpPr/>
          <p:nvPr/>
        </p:nvGrpSpPr>
        <p:grpSpPr>
          <a:xfrm>
            <a:off x="3141720" y="3668760"/>
            <a:ext cx="162000" cy="111240"/>
            <a:chOff x="3141720" y="3668760"/>
            <a:chExt cx="162000" cy="111240"/>
          </a:xfrm>
        </p:grpSpPr>
        <p:sp>
          <p:nvSpPr>
            <p:cNvPr id="3711" name=""/>
            <p:cNvSpPr/>
            <p:nvPr/>
          </p:nvSpPr>
          <p:spPr>
            <a:xfrm>
              <a:off x="3141720" y="3695760"/>
              <a:ext cx="162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3173400" y="3668760"/>
              <a:ext cx="1299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3" name=""/>
          <p:cNvSpPr/>
          <p:nvPr/>
        </p:nvSpPr>
        <p:spPr>
          <a:xfrm>
            <a:off x="3303720" y="377496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 flipH="1">
            <a:off x="2955960" y="3632040"/>
            <a:ext cx="16992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3405240" y="38228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 flipV="1">
            <a:off x="3405240" y="26492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7" name=""/>
          <p:cNvGrpSpPr/>
          <p:nvPr/>
        </p:nvGrpSpPr>
        <p:grpSpPr>
          <a:xfrm>
            <a:off x="3346560" y="2118960"/>
            <a:ext cx="110880" cy="530640"/>
            <a:chOff x="3346560" y="2118960"/>
            <a:chExt cx="110880" cy="530640"/>
          </a:xfrm>
        </p:grpSpPr>
        <p:sp>
          <p:nvSpPr>
            <p:cNvPr id="3718" name=""/>
            <p:cNvSpPr/>
            <p:nvPr/>
          </p:nvSpPr>
          <p:spPr>
            <a:xfrm flipV="1">
              <a:off x="3405240" y="21189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3346560" y="25383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0" name=""/>
          <p:cNvSpPr/>
          <p:nvPr/>
        </p:nvSpPr>
        <p:spPr>
          <a:xfrm>
            <a:off x="3521160" y="3462480"/>
            <a:ext cx="3348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358380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370656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3489480" y="24638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3548160" y="2511360"/>
            <a:ext cx="799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ź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2573280" y="3254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2647800" y="336060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2541960" y="40244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4100400" y="3244680"/>
            <a:ext cx="28440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479124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4956120" y="3481560"/>
            <a:ext cx="180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 flipV="1">
            <a:off x="4971960" y="343368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2" name=""/>
          <p:cNvGrpSpPr/>
          <p:nvPr/>
        </p:nvGrpSpPr>
        <p:grpSpPr>
          <a:xfrm>
            <a:off x="4971960" y="3672000"/>
            <a:ext cx="163440" cy="110880"/>
            <a:chOff x="4971960" y="3672000"/>
            <a:chExt cx="163440" cy="110880"/>
          </a:xfrm>
        </p:grpSpPr>
        <p:sp>
          <p:nvSpPr>
            <p:cNvPr id="3733" name=""/>
            <p:cNvSpPr/>
            <p:nvPr/>
          </p:nvSpPr>
          <p:spPr>
            <a:xfrm>
              <a:off x="497196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500364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5" name=""/>
          <p:cNvSpPr/>
          <p:nvPr/>
        </p:nvSpPr>
        <p:spPr>
          <a:xfrm>
            <a:off x="5135400" y="3778200"/>
            <a:ext cx="10008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 flipH="1">
            <a:off x="478620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523548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 flipV="1">
            <a:off x="523548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460548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0" name=""/>
          <p:cNvGrpSpPr/>
          <p:nvPr/>
        </p:nvGrpSpPr>
        <p:grpSpPr>
          <a:xfrm>
            <a:off x="5178600" y="2122200"/>
            <a:ext cx="109440" cy="530640"/>
            <a:chOff x="5178600" y="2122200"/>
            <a:chExt cx="109440" cy="530640"/>
          </a:xfrm>
        </p:grpSpPr>
        <p:sp>
          <p:nvSpPr>
            <p:cNvPr id="3741" name=""/>
            <p:cNvSpPr/>
            <p:nvPr/>
          </p:nvSpPr>
          <p:spPr>
            <a:xfrm flipV="1">
              <a:off x="523620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517860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3" name=""/>
          <p:cNvSpPr/>
          <p:nvPr/>
        </p:nvSpPr>
        <p:spPr>
          <a:xfrm>
            <a:off x="5351400" y="3465360"/>
            <a:ext cx="3351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541404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553680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531972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5378400" y="2514600"/>
            <a:ext cx="573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440388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447840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5931000" y="3247920"/>
            <a:ext cx="2840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673092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6896160" y="348156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 flipV="1">
            <a:off x="6912000" y="3433680"/>
            <a:ext cx="2649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4" name=""/>
          <p:cNvGrpSpPr/>
          <p:nvPr/>
        </p:nvGrpSpPr>
        <p:grpSpPr>
          <a:xfrm>
            <a:off x="6912000" y="3672000"/>
            <a:ext cx="163440" cy="110880"/>
            <a:chOff x="6912000" y="3672000"/>
            <a:chExt cx="163440" cy="110880"/>
          </a:xfrm>
        </p:grpSpPr>
        <p:sp>
          <p:nvSpPr>
            <p:cNvPr id="3755" name=""/>
            <p:cNvSpPr/>
            <p:nvPr/>
          </p:nvSpPr>
          <p:spPr>
            <a:xfrm>
              <a:off x="691200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694368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7" name=""/>
          <p:cNvSpPr/>
          <p:nvPr/>
        </p:nvSpPr>
        <p:spPr>
          <a:xfrm>
            <a:off x="7075440" y="377820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 flipH="1">
            <a:off x="672624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717696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 flipV="1">
            <a:off x="717696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654516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2" name=""/>
          <p:cNvGrpSpPr/>
          <p:nvPr/>
        </p:nvGrpSpPr>
        <p:grpSpPr>
          <a:xfrm>
            <a:off x="7118280" y="2122200"/>
            <a:ext cx="109440" cy="530640"/>
            <a:chOff x="7118280" y="2122200"/>
            <a:chExt cx="109440" cy="530640"/>
          </a:xfrm>
        </p:grpSpPr>
        <p:sp>
          <p:nvSpPr>
            <p:cNvPr id="3763" name=""/>
            <p:cNvSpPr/>
            <p:nvPr/>
          </p:nvSpPr>
          <p:spPr>
            <a:xfrm flipV="1">
              <a:off x="717588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711828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5" name=""/>
          <p:cNvGrpSpPr/>
          <p:nvPr/>
        </p:nvGrpSpPr>
        <p:grpSpPr>
          <a:xfrm>
            <a:off x="7732800" y="2637000"/>
            <a:ext cx="110880" cy="1576080"/>
            <a:chOff x="7732800" y="2637000"/>
            <a:chExt cx="110880" cy="1576080"/>
          </a:xfrm>
        </p:grpSpPr>
        <p:sp>
          <p:nvSpPr>
            <p:cNvPr id="3766" name=""/>
            <p:cNvSpPr/>
            <p:nvPr/>
          </p:nvSpPr>
          <p:spPr>
            <a:xfrm>
              <a:off x="7785000" y="2637000"/>
              <a:ext cx="6480" cy="157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7732800" y="26370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8" name=""/>
          <p:cNvSpPr/>
          <p:nvPr/>
        </p:nvSpPr>
        <p:spPr>
          <a:xfrm>
            <a:off x="7291440" y="346536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735408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747684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725976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7318440" y="2514600"/>
            <a:ext cx="677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634356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641844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7870680" y="3247920"/>
            <a:ext cx="2858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7929360" y="3295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 flipH="1">
            <a:off x="2766960" y="3637080"/>
            <a:ext cx="3818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3368520" y="441180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5213520" y="44053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7135920" y="4398840"/>
            <a:ext cx="730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7781760" y="4438800"/>
            <a:ext cx="938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2" name=""/>
          <p:cNvGrpSpPr/>
          <p:nvPr/>
        </p:nvGrpSpPr>
        <p:grpSpPr>
          <a:xfrm>
            <a:off x="3282840" y="4402080"/>
            <a:ext cx="266760" cy="191880"/>
            <a:chOff x="3282840" y="4402080"/>
            <a:chExt cx="266760" cy="191880"/>
          </a:xfrm>
        </p:grpSpPr>
        <p:sp>
          <p:nvSpPr>
            <p:cNvPr id="3783" name=""/>
            <p:cNvSpPr/>
            <p:nvPr/>
          </p:nvSpPr>
          <p:spPr>
            <a:xfrm>
              <a:off x="3282840" y="4562280"/>
              <a:ext cx="26676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V="1">
              <a:off x="3411360" y="44020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"/>
          <p:cNvSpPr/>
          <p:nvPr/>
        </p:nvSpPr>
        <p:spPr>
          <a:xfrm>
            <a:off x="295200" y="212400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6" name=""/>
              <p:cNvSpPr txBox="1"/>
              <p:nvPr/>
            </p:nvSpPr>
            <p:spPr>
              <a:xfrm>
                <a:off x="3170160" y="5270400"/>
                <a:ext cx="2975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7" name=""/>
          <p:cNvSpPr/>
          <p:nvPr/>
        </p:nvSpPr>
        <p:spPr>
          <a:xfrm>
            <a:off x="1015920" y="2332080"/>
            <a:ext cx="17784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1104840" y="2146320"/>
            <a:ext cx="180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1104840" y="2798640"/>
            <a:ext cx="1800" cy="233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692280" y="24750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1068480" y="2989440"/>
            <a:ext cx="7452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1020600" y="3360600"/>
            <a:ext cx="540000" cy="5414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1386000" y="34783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 flipH="1" flipV="1">
            <a:off x="1104480" y="343044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5" name=""/>
          <p:cNvGrpSpPr/>
          <p:nvPr/>
        </p:nvGrpSpPr>
        <p:grpSpPr>
          <a:xfrm>
            <a:off x="1204560" y="3668760"/>
            <a:ext cx="165240" cy="111240"/>
            <a:chOff x="1204560" y="3668760"/>
            <a:chExt cx="165240" cy="111240"/>
          </a:xfrm>
        </p:grpSpPr>
        <p:sp>
          <p:nvSpPr>
            <p:cNvPr id="3796" name=""/>
            <p:cNvSpPr/>
            <p:nvPr/>
          </p:nvSpPr>
          <p:spPr>
            <a:xfrm flipH="1">
              <a:off x="1204560" y="36957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1204920" y="36687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8" name=""/>
          <p:cNvSpPr/>
          <p:nvPr/>
        </p:nvSpPr>
        <p:spPr>
          <a:xfrm flipH="1">
            <a:off x="1104840" y="3780000"/>
            <a:ext cx="10008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1386000" y="36370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1104840" y="3827520"/>
            <a:ext cx="180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 flipV="1">
            <a:off x="1100160" y="32338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 flipH="1">
            <a:off x="1549440" y="36370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"/>
          <p:cNvSpPr/>
          <p:nvPr/>
        </p:nvSpPr>
        <p:spPr>
          <a:xfrm>
            <a:off x="1120680" y="4438800"/>
            <a:ext cx="65502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4" name=""/>
          <p:cNvGrpSpPr/>
          <p:nvPr/>
        </p:nvGrpSpPr>
        <p:grpSpPr>
          <a:xfrm>
            <a:off x="1741320" y="3578400"/>
            <a:ext cx="1044720" cy="117360"/>
            <a:chOff x="1741320" y="3578400"/>
            <a:chExt cx="1044720" cy="117360"/>
          </a:xfrm>
        </p:grpSpPr>
        <p:sp>
          <p:nvSpPr>
            <p:cNvPr id="3805" name=""/>
            <p:cNvSpPr/>
            <p:nvPr/>
          </p:nvSpPr>
          <p:spPr>
            <a:xfrm>
              <a:off x="1741320" y="3637080"/>
              <a:ext cx="10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741320" y="3578400"/>
              <a:ext cx="11052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673360" y="3583080"/>
              <a:ext cx="11232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8" name=""/>
          <p:cNvSpPr/>
          <p:nvPr/>
        </p:nvSpPr>
        <p:spPr>
          <a:xfrm flipV="1">
            <a:off x="2259000" y="29937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1100160" y="3009960"/>
            <a:ext cx="115884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0" name=""/>
          <p:cNvGrpSpPr/>
          <p:nvPr/>
        </p:nvGrpSpPr>
        <p:grpSpPr>
          <a:xfrm>
            <a:off x="1041480" y="3005280"/>
            <a:ext cx="110880" cy="264960"/>
            <a:chOff x="1041480" y="3005280"/>
            <a:chExt cx="110880" cy="264960"/>
          </a:xfrm>
        </p:grpSpPr>
        <p:sp>
          <p:nvSpPr>
            <p:cNvPr id="3811" name=""/>
            <p:cNvSpPr/>
            <p:nvPr/>
          </p:nvSpPr>
          <p:spPr>
            <a:xfrm flipV="1">
              <a:off x="1099080" y="300528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041480" y="315936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3" name=""/>
          <p:cNvGrpSpPr/>
          <p:nvPr/>
        </p:nvGrpSpPr>
        <p:grpSpPr>
          <a:xfrm>
            <a:off x="1041480" y="1870200"/>
            <a:ext cx="110880" cy="264960"/>
            <a:chOff x="1041480" y="1870200"/>
            <a:chExt cx="110880" cy="264960"/>
          </a:xfrm>
        </p:grpSpPr>
        <p:sp>
          <p:nvSpPr>
            <p:cNvPr id="3814" name=""/>
            <p:cNvSpPr/>
            <p:nvPr/>
          </p:nvSpPr>
          <p:spPr>
            <a:xfrm flipV="1">
              <a:off x="1099080" y="187020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041480" y="202428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6" name=""/>
          <p:cNvGrpSpPr/>
          <p:nvPr/>
        </p:nvGrpSpPr>
        <p:grpSpPr>
          <a:xfrm>
            <a:off x="2206800" y="3774960"/>
            <a:ext cx="110880" cy="566640"/>
            <a:chOff x="2206800" y="3774960"/>
            <a:chExt cx="110880" cy="566640"/>
          </a:xfrm>
        </p:grpSpPr>
        <p:sp>
          <p:nvSpPr>
            <p:cNvPr id="3817" name=""/>
            <p:cNvSpPr/>
            <p:nvPr/>
          </p:nvSpPr>
          <p:spPr>
            <a:xfrm>
              <a:off x="2259000" y="3774960"/>
              <a:ext cx="108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2206800" y="37749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9" name=""/>
          <p:cNvSpPr/>
          <p:nvPr/>
        </p:nvSpPr>
        <p:spPr>
          <a:xfrm>
            <a:off x="1063800" y="18543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2227320" y="35989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638280" y="3462480"/>
            <a:ext cx="3394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70092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82368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655560" y="1960560"/>
            <a:ext cx="176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2494080" y="32115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1666800" y="32274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1719360" y="3270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1793880" y="33764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739800" y="3063960"/>
            <a:ext cx="3016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781200" y="31068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855720" y="3211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2328840" y="38750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2381040" y="3917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1220760" y="1668600"/>
            <a:ext cx="45072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1252080" y="17096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2960640" y="336060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3125880" y="347832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 flipV="1">
            <a:off x="3141720" y="343044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9" name=""/>
          <p:cNvGrpSpPr/>
          <p:nvPr/>
        </p:nvGrpSpPr>
        <p:grpSpPr>
          <a:xfrm>
            <a:off x="3141720" y="3668760"/>
            <a:ext cx="162000" cy="111240"/>
            <a:chOff x="3141720" y="3668760"/>
            <a:chExt cx="162000" cy="111240"/>
          </a:xfrm>
        </p:grpSpPr>
        <p:sp>
          <p:nvSpPr>
            <p:cNvPr id="3840" name=""/>
            <p:cNvSpPr/>
            <p:nvPr/>
          </p:nvSpPr>
          <p:spPr>
            <a:xfrm>
              <a:off x="3141720" y="3695760"/>
              <a:ext cx="162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3173400" y="3668760"/>
              <a:ext cx="1299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2" name=""/>
          <p:cNvSpPr/>
          <p:nvPr/>
        </p:nvSpPr>
        <p:spPr>
          <a:xfrm>
            <a:off x="3303720" y="377496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 flipH="1">
            <a:off x="2955960" y="3632040"/>
            <a:ext cx="16992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3405240" y="38228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 flipV="1">
            <a:off x="3405240" y="26492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6" name=""/>
          <p:cNvGrpSpPr/>
          <p:nvPr/>
        </p:nvGrpSpPr>
        <p:grpSpPr>
          <a:xfrm>
            <a:off x="3346560" y="2118960"/>
            <a:ext cx="110880" cy="530640"/>
            <a:chOff x="3346560" y="2118960"/>
            <a:chExt cx="110880" cy="530640"/>
          </a:xfrm>
        </p:grpSpPr>
        <p:sp>
          <p:nvSpPr>
            <p:cNvPr id="3847" name=""/>
            <p:cNvSpPr/>
            <p:nvPr/>
          </p:nvSpPr>
          <p:spPr>
            <a:xfrm flipV="1">
              <a:off x="3405240" y="21189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3346560" y="25383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9" name=""/>
          <p:cNvSpPr/>
          <p:nvPr/>
        </p:nvSpPr>
        <p:spPr>
          <a:xfrm>
            <a:off x="3521160" y="3462480"/>
            <a:ext cx="3348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358380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370656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3489480" y="24638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3548160" y="2511360"/>
            <a:ext cx="799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ź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2573280" y="3254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2647800" y="336060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2541960" y="40244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4100400" y="3244680"/>
            <a:ext cx="28440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479124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4956120" y="3481560"/>
            <a:ext cx="180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 flipV="1">
            <a:off x="4971960" y="343368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1" name=""/>
          <p:cNvGrpSpPr/>
          <p:nvPr/>
        </p:nvGrpSpPr>
        <p:grpSpPr>
          <a:xfrm>
            <a:off x="4971960" y="3672000"/>
            <a:ext cx="163440" cy="110880"/>
            <a:chOff x="4971960" y="3672000"/>
            <a:chExt cx="163440" cy="110880"/>
          </a:xfrm>
        </p:grpSpPr>
        <p:sp>
          <p:nvSpPr>
            <p:cNvPr id="3862" name=""/>
            <p:cNvSpPr/>
            <p:nvPr/>
          </p:nvSpPr>
          <p:spPr>
            <a:xfrm>
              <a:off x="497196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500364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4" name=""/>
          <p:cNvSpPr/>
          <p:nvPr/>
        </p:nvSpPr>
        <p:spPr>
          <a:xfrm>
            <a:off x="5135400" y="3778200"/>
            <a:ext cx="10008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 flipH="1">
            <a:off x="478620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523548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 flipV="1">
            <a:off x="523548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460548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9" name=""/>
          <p:cNvGrpSpPr/>
          <p:nvPr/>
        </p:nvGrpSpPr>
        <p:grpSpPr>
          <a:xfrm>
            <a:off x="5178600" y="2122200"/>
            <a:ext cx="109440" cy="530640"/>
            <a:chOff x="5178600" y="2122200"/>
            <a:chExt cx="109440" cy="530640"/>
          </a:xfrm>
        </p:grpSpPr>
        <p:sp>
          <p:nvSpPr>
            <p:cNvPr id="3870" name=""/>
            <p:cNvSpPr/>
            <p:nvPr/>
          </p:nvSpPr>
          <p:spPr>
            <a:xfrm flipV="1">
              <a:off x="523620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517860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2" name=""/>
          <p:cNvSpPr/>
          <p:nvPr/>
        </p:nvSpPr>
        <p:spPr>
          <a:xfrm>
            <a:off x="5351400" y="3465360"/>
            <a:ext cx="3351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541404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553680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531972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5378400" y="2514600"/>
            <a:ext cx="573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440388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447840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5931000" y="3247920"/>
            <a:ext cx="2840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673092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6896160" y="348156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 flipV="1">
            <a:off x="6912000" y="3433680"/>
            <a:ext cx="2649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3" name=""/>
          <p:cNvGrpSpPr/>
          <p:nvPr/>
        </p:nvGrpSpPr>
        <p:grpSpPr>
          <a:xfrm>
            <a:off x="6912000" y="3672000"/>
            <a:ext cx="163440" cy="110880"/>
            <a:chOff x="6912000" y="3672000"/>
            <a:chExt cx="163440" cy="110880"/>
          </a:xfrm>
        </p:grpSpPr>
        <p:sp>
          <p:nvSpPr>
            <p:cNvPr id="3884" name=""/>
            <p:cNvSpPr/>
            <p:nvPr/>
          </p:nvSpPr>
          <p:spPr>
            <a:xfrm>
              <a:off x="691200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694368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6" name=""/>
          <p:cNvSpPr/>
          <p:nvPr/>
        </p:nvSpPr>
        <p:spPr>
          <a:xfrm>
            <a:off x="7075440" y="377820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 flipH="1">
            <a:off x="672624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717696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 flipV="1">
            <a:off x="717696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654516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1" name=""/>
          <p:cNvGrpSpPr/>
          <p:nvPr/>
        </p:nvGrpSpPr>
        <p:grpSpPr>
          <a:xfrm>
            <a:off x="7118280" y="2122200"/>
            <a:ext cx="109440" cy="530640"/>
            <a:chOff x="7118280" y="2122200"/>
            <a:chExt cx="109440" cy="530640"/>
          </a:xfrm>
        </p:grpSpPr>
        <p:sp>
          <p:nvSpPr>
            <p:cNvPr id="3892" name=""/>
            <p:cNvSpPr/>
            <p:nvPr/>
          </p:nvSpPr>
          <p:spPr>
            <a:xfrm flipV="1">
              <a:off x="717588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711828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4" name=""/>
          <p:cNvGrpSpPr/>
          <p:nvPr/>
        </p:nvGrpSpPr>
        <p:grpSpPr>
          <a:xfrm>
            <a:off x="7732800" y="2637000"/>
            <a:ext cx="110880" cy="1576080"/>
            <a:chOff x="7732800" y="2637000"/>
            <a:chExt cx="110880" cy="1576080"/>
          </a:xfrm>
        </p:grpSpPr>
        <p:sp>
          <p:nvSpPr>
            <p:cNvPr id="3895" name=""/>
            <p:cNvSpPr/>
            <p:nvPr/>
          </p:nvSpPr>
          <p:spPr>
            <a:xfrm>
              <a:off x="7785000" y="2637000"/>
              <a:ext cx="6480" cy="157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7732800" y="26370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7" name=""/>
          <p:cNvSpPr/>
          <p:nvPr/>
        </p:nvSpPr>
        <p:spPr>
          <a:xfrm>
            <a:off x="7291440" y="346536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735408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747684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725976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7318440" y="2514600"/>
            <a:ext cx="677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634356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641844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7870680" y="3247920"/>
            <a:ext cx="2858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7929360" y="3295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H="1">
            <a:off x="2766960" y="3637080"/>
            <a:ext cx="3818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>
            <a:off x="3368520" y="441180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5213520" y="44053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7135920" y="4398840"/>
            <a:ext cx="730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7781760" y="4438800"/>
            <a:ext cx="938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1" name=""/>
          <p:cNvGrpSpPr/>
          <p:nvPr/>
        </p:nvGrpSpPr>
        <p:grpSpPr>
          <a:xfrm>
            <a:off x="3282840" y="4402080"/>
            <a:ext cx="266760" cy="191880"/>
            <a:chOff x="3282840" y="4402080"/>
            <a:chExt cx="266760" cy="191880"/>
          </a:xfrm>
        </p:grpSpPr>
        <p:sp>
          <p:nvSpPr>
            <p:cNvPr id="3912" name=""/>
            <p:cNvSpPr/>
            <p:nvPr/>
          </p:nvSpPr>
          <p:spPr>
            <a:xfrm>
              <a:off x="3282840" y="4562280"/>
              <a:ext cx="26676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 flipV="1">
              <a:off x="3411360" y="44020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4" name=""/>
          <p:cNvSpPr/>
          <p:nvPr/>
        </p:nvSpPr>
        <p:spPr>
          <a:xfrm>
            <a:off x="5172120" y="397044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7118280" y="396252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5566320" y="38908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6528240" y="38656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6205320" y="3878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PlaceHolder 1"/>
          <p:cNvSpPr>
            <a:spLocks noGrp="1"/>
          </p:cNvSpPr>
          <p:nvPr>
            <p:ph type="title"/>
          </p:nvPr>
        </p:nvSpPr>
        <p:spPr>
          <a:xfrm>
            <a:off x="736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ż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1" name=""/>
          <p:cNvGrpSpPr/>
          <p:nvPr/>
        </p:nvGrpSpPr>
        <p:grpSpPr>
          <a:xfrm>
            <a:off x="233280" y="1300320"/>
            <a:ext cx="3992760" cy="3395520"/>
            <a:chOff x="233280" y="1300320"/>
            <a:chExt cx="3992760" cy="3395520"/>
          </a:xfrm>
        </p:grpSpPr>
        <p:sp>
          <p:nvSpPr>
            <p:cNvPr id="3922" name=""/>
            <p:cNvSpPr/>
            <p:nvPr/>
          </p:nvSpPr>
          <p:spPr>
            <a:xfrm>
              <a:off x="893880" y="4284720"/>
              <a:ext cx="24588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100080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85912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96892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302976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695680" y="3983040"/>
              <a:ext cx="17280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776680" y="3462480"/>
              <a:ext cx="46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2776680" y="4448160"/>
              <a:ext cx="468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292572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304092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316440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234792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2505240" y="2749680"/>
              <a:ext cx="144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 flipV="1">
              <a:off x="2521080" y="2703600"/>
              <a:ext cx="26028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6" name=""/>
            <p:cNvGrpSpPr/>
            <p:nvPr/>
          </p:nvGrpSpPr>
          <p:grpSpPr>
            <a:xfrm>
              <a:off x="2521080" y="2944800"/>
              <a:ext cx="163440" cy="111240"/>
              <a:chOff x="2521080" y="2944800"/>
              <a:chExt cx="163440" cy="111240"/>
            </a:xfrm>
          </p:grpSpPr>
          <p:sp>
            <p:nvSpPr>
              <p:cNvPr id="3937" name=""/>
              <p:cNvSpPr/>
              <p:nvPr/>
            </p:nvSpPr>
            <p:spPr>
              <a:xfrm>
                <a:off x="2521080" y="2967120"/>
                <a:ext cx="16344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255744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9" name=""/>
            <p:cNvSpPr/>
            <p:nvPr/>
          </p:nvSpPr>
          <p:spPr>
            <a:xfrm>
              <a:off x="268452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 flipH="1">
              <a:off x="2347560" y="290844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1" name=""/>
            <p:cNvGrpSpPr/>
            <p:nvPr/>
          </p:nvGrpSpPr>
          <p:grpSpPr>
            <a:xfrm>
              <a:off x="2725560" y="3098880"/>
              <a:ext cx="108000" cy="379440"/>
              <a:chOff x="2725560" y="3098880"/>
              <a:chExt cx="108000" cy="379440"/>
            </a:xfrm>
          </p:grpSpPr>
          <p:sp>
            <p:nvSpPr>
              <p:cNvPr id="3942" name=""/>
              <p:cNvSpPr/>
              <p:nvPr/>
            </p:nvSpPr>
            <p:spPr>
              <a:xfrm>
                <a:off x="2776680" y="3098880"/>
                <a:ext cx="468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272556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4" name=""/>
            <p:cNvSpPr/>
            <p:nvPr/>
          </p:nvSpPr>
          <p:spPr>
            <a:xfrm flipV="1">
              <a:off x="278136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994040" y="2903400"/>
              <a:ext cx="358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74176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17468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257480" y="3156120"/>
              <a:ext cx="144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257480" y="3803760"/>
              <a:ext cx="14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1405080" y="344016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153576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165924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68920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776680" y="15112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776680" y="2154240"/>
              <a:ext cx="14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92572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304092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316296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117468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25748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25748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1405080" y="195912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53576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165924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5" name=""/>
            <p:cNvGrpSpPr/>
            <p:nvPr/>
          </p:nvGrpSpPr>
          <p:grpSpPr>
            <a:xfrm>
              <a:off x="2720880" y="2333520"/>
              <a:ext cx="108000" cy="200160"/>
              <a:chOff x="2720880" y="2333520"/>
              <a:chExt cx="108000" cy="200160"/>
            </a:xfrm>
          </p:grpSpPr>
          <p:sp>
            <p:nvSpPr>
              <p:cNvPr id="3966" name=""/>
              <p:cNvSpPr/>
              <p:nvPr/>
            </p:nvSpPr>
            <p:spPr>
              <a:xfrm>
                <a:off x="2776680" y="233352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272088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8" name=""/>
            <p:cNvSpPr/>
            <p:nvPr/>
          </p:nvSpPr>
          <p:spPr>
            <a:xfrm>
              <a:off x="1257480" y="1500120"/>
              <a:ext cx="220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257480" y="4664160"/>
              <a:ext cx="220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23192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74176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125748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352908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367704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396360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6" name=""/>
            <p:cNvGrpSpPr/>
            <p:nvPr/>
          </p:nvGrpSpPr>
          <p:grpSpPr>
            <a:xfrm>
              <a:off x="1257480" y="2849400"/>
              <a:ext cx="736560" cy="111240"/>
              <a:chOff x="1257480" y="2849400"/>
              <a:chExt cx="736560" cy="111240"/>
            </a:xfrm>
          </p:grpSpPr>
          <p:sp>
            <p:nvSpPr>
              <p:cNvPr id="3977" name=""/>
              <p:cNvSpPr/>
              <p:nvPr/>
            </p:nvSpPr>
            <p:spPr>
              <a:xfrm>
                <a:off x="125748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188604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9" name=""/>
            <p:cNvSpPr/>
            <p:nvPr/>
          </p:nvSpPr>
          <p:spPr>
            <a:xfrm>
              <a:off x="180504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191952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198180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85912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97360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303588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114444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116064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 flipV="1">
              <a:off x="1257480" y="443232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116064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114444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116064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 flipV="1">
              <a:off x="1257480" y="402120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16064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3" name=""/>
            <p:cNvGrpSpPr/>
            <p:nvPr/>
          </p:nvGrpSpPr>
          <p:grpSpPr>
            <a:xfrm>
              <a:off x="1200240" y="2944800"/>
              <a:ext cx="108000" cy="200160"/>
              <a:chOff x="1200240" y="2944800"/>
              <a:chExt cx="108000" cy="200160"/>
            </a:xfrm>
          </p:grpSpPr>
          <p:sp>
            <p:nvSpPr>
              <p:cNvPr id="3994" name=""/>
              <p:cNvSpPr/>
              <p:nvPr/>
            </p:nvSpPr>
            <p:spPr>
              <a:xfrm>
                <a:off x="125748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120024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6" name=""/>
            <p:cNvGrpSpPr/>
            <p:nvPr/>
          </p:nvGrpSpPr>
          <p:grpSpPr>
            <a:xfrm>
              <a:off x="1252440" y="4030560"/>
              <a:ext cx="14400" cy="559080"/>
              <a:chOff x="1252440" y="4030560"/>
              <a:chExt cx="14400" cy="559080"/>
            </a:xfrm>
          </p:grpSpPr>
          <p:sp>
            <p:nvSpPr>
              <p:cNvPr id="3997" name=""/>
              <p:cNvSpPr/>
              <p:nvPr/>
            </p:nvSpPr>
            <p:spPr>
              <a:xfrm>
                <a:off x="1252440" y="40305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1252440" y="4052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1252440" y="4073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1252440" y="40942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1252440" y="41148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1252440" y="4137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1252440" y="41576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1252440" y="41781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1252440" y="41990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1252440" y="42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1252440" y="42418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1252440" y="42624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1252440" y="42847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1252440" y="43052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1257480" y="43257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1257480" y="4346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1257480" y="43689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1257480" y="4389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1257480" y="44100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1257480" y="44323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1257480" y="44528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1257480" y="447372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1257480" y="4494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1257480" y="4516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1257480" y="4537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1257480" y="45576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1257480" y="45799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1206360" y="2333520"/>
              <a:ext cx="106560" cy="322200"/>
              <a:chOff x="1206360" y="2333520"/>
              <a:chExt cx="106560" cy="322200"/>
            </a:xfrm>
          </p:grpSpPr>
          <p:sp>
            <p:nvSpPr>
              <p:cNvPr id="4025" name=""/>
              <p:cNvSpPr/>
              <p:nvPr/>
            </p:nvSpPr>
            <p:spPr>
              <a:xfrm>
                <a:off x="125748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120636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7" name=""/>
            <p:cNvSpPr/>
            <p:nvPr/>
          </p:nvSpPr>
          <p:spPr>
            <a:xfrm>
              <a:off x="89388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101304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107640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89388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101304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107640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3" name=""/>
            <p:cNvGrpSpPr/>
            <p:nvPr/>
          </p:nvGrpSpPr>
          <p:grpSpPr>
            <a:xfrm>
              <a:off x="1384200" y="4394160"/>
              <a:ext cx="108000" cy="201600"/>
              <a:chOff x="1384200" y="4394160"/>
              <a:chExt cx="108000" cy="201600"/>
            </a:xfrm>
          </p:grpSpPr>
          <p:sp>
            <p:nvSpPr>
              <p:cNvPr id="4034" name=""/>
              <p:cNvSpPr/>
              <p:nvPr/>
            </p:nvSpPr>
            <p:spPr>
              <a:xfrm flipV="1">
                <a:off x="1436760" y="439416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138420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6" name=""/>
            <p:cNvGrpSpPr/>
            <p:nvPr/>
          </p:nvGrpSpPr>
          <p:grpSpPr>
            <a:xfrm>
              <a:off x="1384200" y="3983040"/>
              <a:ext cx="108000" cy="201600"/>
              <a:chOff x="1384200" y="3983040"/>
              <a:chExt cx="108000" cy="201600"/>
            </a:xfrm>
          </p:grpSpPr>
          <p:sp>
            <p:nvSpPr>
              <p:cNvPr id="4037" name=""/>
              <p:cNvSpPr/>
              <p:nvPr/>
            </p:nvSpPr>
            <p:spPr>
              <a:xfrm flipV="1">
                <a:off x="1436760" y="398304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138420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9" name=""/>
            <p:cNvGrpSpPr/>
            <p:nvPr/>
          </p:nvGrpSpPr>
          <p:grpSpPr>
            <a:xfrm>
              <a:off x="792000" y="3935520"/>
              <a:ext cx="106560" cy="712800"/>
              <a:chOff x="792000" y="3935520"/>
              <a:chExt cx="106560" cy="712800"/>
            </a:xfrm>
          </p:grpSpPr>
          <p:sp>
            <p:nvSpPr>
              <p:cNvPr id="4040" name=""/>
              <p:cNvSpPr/>
              <p:nvPr/>
            </p:nvSpPr>
            <p:spPr>
              <a:xfrm flipV="1">
                <a:off x="843120" y="3935520"/>
                <a:ext cx="144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79200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2" name=""/>
            <p:cNvSpPr/>
            <p:nvPr/>
          </p:nvSpPr>
          <p:spPr>
            <a:xfrm>
              <a:off x="233280" y="4137120"/>
              <a:ext cx="55260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32436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62100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1533600" y="4300560"/>
              <a:ext cx="35856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162360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176688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151272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160776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175104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92376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10105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3" name=""/>
          <p:cNvSpPr/>
          <p:nvPr/>
        </p:nvSpPr>
        <p:spPr>
          <a:xfrm>
            <a:off x="3352680" y="1981080"/>
            <a:ext cx="138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557640" y="5146560"/>
            <a:ext cx="31863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ensacja zmian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skie i średn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okojow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5042160" y="5181480"/>
            <a:ext cx="32439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ompensacja wpływu 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-wyższe temperatury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kilkadziesiąt i więcej 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1523880" y="3086280"/>
            <a:ext cx="1105200" cy="1511280"/>
          </a:xfrm>
          <a:custGeom>
            <a:avLst/>
            <a:gdLst/>
            <a:ahLst/>
            <a:rect l="l" t="t" r="r" b="b"/>
            <a:pathLst>
              <a:path w="696" h="952">
                <a:moveTo>
                  <a:pt x="0" y="120"/>
                </a:moveTo>
                <a:cubicBezTo>
                  <a:pt x="140" y="60"/>
                  <a:pt x="280" y="0"/>
                  <a:pt x="384" y="24"/>
                </a:cubicBezTo>
                <a:cubicBezTo>
                  <a:pt x="488" y="48"/>
                  <a:pt x="576" y="152"/>
                  <a:pt x="624" y="264"/>
                </a:cubicBezTo>
                <a:cubicBezTo>
                  <a:pt x="672" y="376"/>
                  <a:pt x="696" y="592"/>
                  <a:pt x="672" y="696"/>
                </a:cubicBezTo>
                <a:cubicBezTo>
                  <a:pt x="648" y="800"/>
                  <a:pt x="560" y="856"/>
                  <a:pt x="480" y="888"/>
                </a:cubicBezTo>
                <a:cubicBezTo>
                  <a:pt x="400" y="920"/>
                  <a:pt x="272" y="952"/>
                  <a:pt x="192" y="888"/>
                </a:cubicBezTo>
                <a:cubicBezTo>
                  <a:pt x="112" y="824"/>
                  <a:pt x="56" y="664"/>
                  <a:pt x="0" y="504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3125520" y="3429000"/>
            <a:ext cx="15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617400" y="289260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9" name=""/>
          <p:cNvGrpSpPr/>
          <p:nvPr/>
        </p:nvGrpSpPr>
        <p:grpSpPr>
          <a:xfrm>
            <a:off x="4424400" y="1300320"/>
            <a:ext cx="3992400" cy="3395520"/>
            <a:chOff x="4424400" y="1300320"/>
            <a:chExt cx="3992400" cy="3395520"/>
          </a:xfrm>
        </p:grpSpPr>
        <p:sp>
          <p:nvSpPr>
            <p:cNvPr id="4060" name=""/>
            <p:cNvSpPr/>
            <p:nvPr/>
          </p:nvSpPr>
          <p:spPr>
            <a:xfrm>
              <a:off x="5084640" y="4284720"/>
              <a:ext cx="24624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514116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705024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711648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18812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6886440" y="3983040"/>
              <a:ext cx="17316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6967440" y="3462480"/>
              <a:ext cx="50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967440" y="4448160"/>
              <a:ext cx="50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711684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718740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732168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653904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696000" y="2749680"/>
              <a:ext cx="180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 flipV="1">
              <a:off x="6711840" y="2703600"/>
              <a:ext cx="26064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4" name=""/>
            <p:cNvGrpSpPr/>
            <p:nvPr/>
          </p:nvGrpSpPr>
          <p:grpSpPr>
            <a:xfrm>
              <a:off x="6711840" y="2944800"/>
              <a:ext cx="163800" cy="111240"/>
              <a:chOff x="6711840" y="2944800"/>
              <a:chExt cx="163800" cy="111240"/>
            </a:xfrm>
          </p:grpSpPr>
          <p:sp>
            <p:nvSpPr>
              <p:cNvPr id="4075" name=""/>
              <p:cNvSpPr/>
              <p:nvPr/>
            </p:nvSpPr>
            <p:spPr>
              <a:xfrm>
                <a:off x="6711840" y="2967120"/>
                <a:ext cx="16380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674856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7" name=""/>
            <p:cNvSpPr/>
            <p:nvPr/>
          </p:nvSpPr>
          <p:spPr>
            <a:xfrm>
              <a:off x="687564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H="1">
              <a:off x="6539040" y="2908440"/>
              <a:ext cx="156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9" name=""/>
            <p:cNvGrpSpPr/>
            <p:nvPr/>
          </p:nvGrpSpPr>
          <p:grpSpPr>
            <a:xfrm>
              <a:off x="6916680" y="3098880"/>
              <a:ext cx="108000" cy="379440"/>
              <a:chOff x="6916680" y="3098880"/>
              <a:chExt cx="108000" cy="379440"/>
            </a:xfrm>
          </p:grpSpPr>
          <p:sp>
            <p:nvSpPr>
              <p:cNvPr id="4080" name=""/>
              <p:cNvSpPr/>
              <p:nvPr/>
            </p:nvSpPr>
            <p:spPr>
              <a:xfrm>
                <a:off x="6967440" y="3098880"/>
                <a:ext cx="504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691668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2" name=""/>
            <p:cNvSpPr/>
            <p:nvPr/>
          </p:nvSpPr>
          <p:spPr>
            <a:xfrm flipV="1">
              <a:off x="697248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6184800" y="2903400"/>
              <a:ext cx="3589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93252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536580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448240" y="315612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448240" y="3803760"/>
              <a:ext cx="18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595840" y="344016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68260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81616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688032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6967440" y="1511280"/>
              <a:ext cx="18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6967440" y="2154240"/>
              <a:ext cx="180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11684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718740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732168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36580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44824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544824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595840" y="195912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68260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81616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3" name=""/>
            <p:cNvGrpSpPr/>
            <p:nvPr/>
          </p:nvGrpSpPr>
          <p:grpSpPr>
            <a:xfrm>
              <a:off x="6912000" y="2333520"/>
              <a:ext cx="108000" cy="200160"/>
              <a:chOff x="6912000" y="2333520"/>
              <a:chExt cx="108000" cy="200160"/>
            </a:xfrm>
          </p:grpSpPr>
          <p:sp>
            <p:nvSpPr>
              <p:cNvPr id="4104" name=""/>
              <p:cNvSpPr/>
              <p:nvPr/>
            </p:nvSpPr>
            <p:spPr>
              <a:xfrm>
                <a:off x="6967440" y="2333520"/>
                <a:ext cx="504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691200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6" name=""/>
            <p:cNvSpPr/>
            <p:nvPr/>
          </p:nvSpPr>
          <p:spPr>
            <a:xfrm>
              <a:off x="5448240" y="1500120"/>
              <a:ext cx="2210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5448240" y="4664160"/>
              <a:ext cx="2210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42304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693252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44824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71984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82208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812052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4" name=""/>
            <p:cNvGrpSpPr/>
            <p:nvPr/>
          </p:nvGrpSpPr>
          <p:grpSpPr>
            <a:xfrm>
              <a:off x="5448240" y="2849400"/>
              <a:ext cx="736560" cy="111240"/>
              <a:chOff x="5448240" y="2849400"/>
              <a:chExt cx="736560" cy="111240"/>
            </a:xfrm>
          </p:grpSpPr>
          <p:sp>
            <p:nvSpPr>
              <p:cNvPr id="4115" name=""/>
              <p:cNvSpPr/>
              <p:nvPr/>
            </p:nvSpPr>
            <p:spPr>
              <a:xfrm>
                <a:off x="544824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607680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7" name=""/>
            <p:cNvSpPr/>
            <p:nvPr/>
          </p:nvSpPr>
          <p:spPr>
            <a:xfrm>
              <a:off x="599616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606708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613872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705024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712116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719280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33556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35140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 flipV="1">
              <a:off x="5448240" y="443232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35140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533556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535140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 flipV="1">
              <a:off x="5448240" y="402120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535140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1" name=""/>
            <p:cNvGrpSpPr/>
            <p:nvPr/>
          </p:nvGrpSpPr>
          <p:grpSpPr>
            <a:xfrm>
              <a:off x="5391000" y="2944800"/>
              <a:ext cx="108000" cy="200160"/>
              <a:chOff x="5391000" y="2944800"/>
              <a:chExt cx="108000" cy="200160"/>
            </a:xfrm>
          </p:grpSpPr>
          <p:sp>
            <p:nvSpPr>
              <p:cNvPr id="4132" name=""/>
              <p:cNvSpPr/>
              <p:nvPr/>
            </p:nvSpPr>
            <p:spPr>
              <a:xfrm>
                <a:off x="544824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539100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4" name=""/>
            <p:cNvGrpSpPr/>
            <p:nvPr/>
          </p:nvGrpSpPr>
          <p:grpSpPr>
            <a:xfrm>
              <a:off x="5397480" y="2333520"/>
              <a:ext cx="106560" cy="322200"/>
              <a:chOff x="5397480" y="2333520"/>
              <a:chExt cx="106560" cy="322200"/>
            </a:xfrm>
          </p:grpSpPr>
          <p:sp>
            <p:nvSpPr>
              <p:cNvPr id="4135" name=""/>
              <p:cNvSpPr/>
              <p:nvPr/>
            </p:nvSpPr>
            <p:spPr>
              <a:xfrm>
                <a:off x="544824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539748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7" name=""/>
            <p:cNvSpPr/>
            <p:nvPr/>
          </p:nvSpPr>
          <p:spPr>
            <a:xfrm>
              <a:off x="508464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516060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523368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508464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516060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23368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3" name=""/>
            <p:cNvGrpSpPr/>
            <p:nvPr/>
          </p:nvGrpSpPr>
          <p:grpSpPr>
            <a:xfrm>
              <a:off x="5575320" y="4394160"/>
              <a:ext cx="108000" cy="201600"/>
              <a:chOff x="5575320" y="4394160"/>
              <a:chExt cx="108000" cy="201600"/>
            </a:xfrm>
          </p:grpSpPr>
          <p:sp>
            <p:nvSpPr>
              <p:cNvPr id="4144" name=""/>
              <p:cNvSpPr/>
              <p:nvPr/>
            </p:nvSpPr>
            <p:spPr>
              <a:xfrm flipV="1">
                <a:off x="5627520" y="439416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557532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6" name=""/>
            <p:cNvGrpSpPr/>
            <p:nvPr/>
          </p:nvGrpSpPr>
          <p:grpSpPr>
            <a:xfrm>
              <a:off x="5575320" y="3983040"/>
              <a:ext cx="108000" cy="201600"/>
              <a:chOff x="5575320" y="3983040"/>
              <a:chExt cx="108000" cy="201600"/>
            </a:xfrm>
          </p:grpSpPr>
          <p:sp>
            <p:nvSpPr>
              <p:cNvPr id="4147" name=""/>
              <p:cNvSpPr/>
              <p:nvPr/>
            </p:nvSpPr>
            <p:spPr>
              <a:xfrm flipV="1">
                <a:off x="5627520" y="398304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557532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9" name=""/>
            <p:cNvGrpSpPr/>
            <p:nvPr/>
          </p:nvGrpSpPr>
          <p:grpSpPr>
            <a:xfrm>
              <a:off x="4983120" y="3935520"/>
              <a:ext cx="106560" cy="712800"/>
              <a:chOff x="4983120" y="3935520"/>
              <a:chExt cx="106560" cy="712800"/>
            </a:xfrm>
          </p:grpSpPr>
          <p:sp>
            <p:nvSpPr>
              <p:cNvPr id="4150" name=""/>
              <p:cNvSpPr/>
              <p:nvPr/>
            </p:nvSpPr>
            <p:spPr>
              <a:xfrm flipV="1">
                <a:off x="5033880" y="3935520"/>
                <a:ext cx="180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498312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2" name=""/>
            <p:cNvSpPr/>
            <p:nvPr/>
          </p:nvSpPr>
          <p:spPr>
            <a:xfrm>
              <a:off x="4424400" y="4137120"/>
              <a:ext cx="5522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451548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477828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5724360" y="430056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76936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92452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70384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575352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590868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11488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1559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6168960" y="4268880"/>
              <a:ext cx="204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 flipV="1">
              <a:off x="6184800" y="415296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6281640" y="4152960"/>
              <a:ext cx="1285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6184800" y="41371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 flipV="1">
              <a:off x="6281640" y="2903040"/>
              <a:ext cx="1800" cy="123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6281640" y="4268880"/>
              <a:ext cx="180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6256440" y="2881440"/>
              <a:ext cx="7128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6256440" y="4616280"/>
              <a:ext cx="7128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6072120" y="3610080"/>
              <a:ext cx="8240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6317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6472080" y="375120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6083280" y="1752480"/>
              <a:ext cx="749160" cy="2667240"/>
            </a:xfrm>
            <a:custGeom>
              <a:avLst/>
              <a:gdLst/>
              <a:ahLst/>
              <a:rect l="l" t="t" r="r" b="b"/>
              <a:pathLst>
                <a:path w="472" h="1680">
                  <a:moveTo>
                    <a:pt x="440" y="0"/>
                  </a:moveTo>
                  <a:cubicBezTo>
                    <a:pt x="456" y="172"/>
                    <a:pt x="472" y="344"/>
                    <a:pt x="440" y="432"/>
                  </a:cubicBezTo>
                  <a:cubicBezTo>
                    <a:pt x="408" y="520"/>
                    <a:pt x="312" y="488"/>
                    <a:pt x="248" y="528"/>
                  </a:cubicBezTo>
                  <a:cubicBezTo>
                    <a:pt x="184" y="568"/>
                    <a:pt x="96" y="568"/>
                    <a:pt x="56" y="672"/>
                  </a:cubicBezTo>
                  <a:cubicBezTo>
                    <a:pt x="16" y="776"/>
                    <a:pt x="16" y="984"/>
                    <a:pt x="8" y="1152"/>
                  </a:cubicBezTo>
                  <a:cubicBezTo>
                    <a:pt x="0" y="1320"/>
                    <a:pt x="4" y="1500"/>
                    <a:pt x="8" y="168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6172920" y="1946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4816440" y="29098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5448240" y="41623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PlaceHolder 1"/>
          <p:cNvSpPr>
            <a:spLocks noGrp="1"/>
          </p:cNvSpPr>
          <p:nvPr>
            <p:ph type="title"/>
          </p:nvPr>
        </p:nvSpPr>
        <p:spPr>
          <a:xfrm>
            <a:off x="795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y - wpływ temperatury na prąd kolektora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symulacja PSpic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9" name=""/>
          <p:cNvGrpSpPr/>
          <p:nvPr/>
        </p:nvGrpSpPr>
        <p:grpSpPr>
          <a:xfrm>
            <a:off x="0" y="1162080"/>
            <a:ext cx="9144000" cy="5441760"/>
            <a:chOff x="0" y="1162080"/>
            <a:chExt cx="9144000" cy="5441760"/>
          </a:xfrm>
        </p:grpSpPr>
        <p:pic>
          <p:nvPicPr>
            <p:cNvPr id="4180" name="" descr=""/>
            <p:cNvPicPr/>
            <p:nvPr/>
          </p:nvPicPr>
          <p:blipFill>
            <a:blip r:embed="rId1">
              <a:lum contrast="58000"/>
            </a:blip>
            <a:stretch/>
          </p:blipFill>
          <p:spPr>
            <a:xfrm>
              <a:off x="0" y="1162080"/>
              <a:ext cx="9144000" cy="54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1" name=""/>
            <p:cNvSpPr/>
            <p:nvPr/>
          </p:nvSpPr>
          <p:spPr>
            <a:xfrm flipV="1">
              <a:off x="819000" y="3133800"/>
              <a:ext cx="832500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 układu elektroni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46400" y="914400"/>
            <a:ext cx="4113000" cy="1557000"/>
          </a:xfrm>
          <a:prstGeom prst="rect">
            <a:avLst/>
          </a:prstGeom>
          <a:solidFill>
            <a:srgbClr val="ffcc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el matematyczne element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niowy:      -  I=G•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liniowe: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 I=f(U, T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36000" y="2619360"/>
            <a:ext cx="49356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rądów i napięć stałych w układ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li obliczenie tzw. punktów pracy Q(U,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2960" y="3541680"/>
            <a:ext cx="855504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yzacj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kształcenie modeli nieliniowych w liniowe w otoczeniu ich punktów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41400" y="4578480"/>
            <a:ext cx="69706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a liniowego układu elektroniczne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p. Przy pomocy równań potencjałów węzł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4520" y="5559480"/>
            <a:ext cx="67140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arametrów roboczych układu, Ku, Kp, fg, Zwe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9680" y="1360440"/>
            <a:ext cx="1987560" cy="345960"/>
          </a:xfrm>
          <a:prstGeom prst="rightArrow">
            <a:avLst>
              <a:gd name="adj1" fmla="val 50000"/>
              <a:gd name="adj2" fmla="val 1436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OWAN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767040" y="1541520"/>
                <a:ext cx="24116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2" name="Clipboard01" descr=""/>
          <p:cNvPicPr/>
          <p:nvPr/>
        </p:nvPicPr>
        <p:blipFill>
          <a:blip r:embed="rId1"/>
          <a:stretch/>
        </p:blipFill>
        <p:spPr>
          <a:xfrm>
            <a:off x="0" y="1011240"/>
            <a:ext cx="9144000" cy="5440320"/>
          </a:xfrm>
          <a:prstGeom prst="rect">
            <a:avLst/>
          </a:prstGeom>
          <a:ln w="0">
            <a:noFill/>
          </a:ln>
        </p:spPr>
      </p:pic>
      <p:sp>
        <p:nvSpPr>
          <p:cNvPr id="4183" name=""/>
          <p:cNvSpPr/>
          <p:nvPr/>
        </p:nvSpPr>
        <p:spPr>
          <a:xfrm>
            <a:off x="3073320" y="5022720"/>
            <a:ext cx="1308240" cy="662040"/>
          </a:xfrm>
          <a:prstGeom prst="wedgeRoundRectCallout">
            <a:avLst>
              <a:gd name="adj1" fmla="val 141018"/>
              <a:gd name="adj2" fmla="val -187648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4" name="Clipboard04" descr=""/>
          <p:cNvPicPr/>
          <p:nvPr/>
        </p:nvPicPr>
        <p:blipFill>
          <a:blip r:embed="rId2"/>
          <a:stretch/>
        </p:blipFill>
        <p:spPr>
          <a:xfrm>
            <a:off x="5986440" y="0"/>
            <a:ext cx="3157560" cy="2695680"/>
          </a:xfrm>
          <a:prstGeom prst="rect">
            <a:avLst/>
          </a:prstGeom>
          <a:ln w="0">
            <a:noFill/>
          </a:ln>
        </p:spPr>
      </p:pic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- wpływ składowej stałej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ądu kolektora na wzmocni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1562040" y="1281240"/>
            <a:ext cx="7477200" cy="4587840"/>
          </a:xfrm>
          <a:custGeom>
            <a:avLst/>
            <a:gdLst/>
            <a:ahLst/>
            <a:rect l="l" t="t" r="r" b="b"/>
            <a:pathLst>
              <a:path w="4710" h="2890">
                <a:moveTo>
                  <a:pt x="0" y="1419"/>
                </a:moveTo>
                <a:cubicBezTo>
                  <a:pt x="33" y="1351"/>
                  <a:pt x="67" y="1284"/>
                  <a:pt x="120" y="1185"/>
                </a:cubicBezTo>
                <a:cubicBezTo>
                  <a:pt x="173" y="1086"/>
                  <a:pt x="258" y="930"/>
                  <a:pt x="318" y="825"/>
                </a:cubicBezTo>
                <a:cubicBezTo>
                  <a:pt x="378" y="720"/>
                  <a:pt x="439" y="621"/>
                  <a:pt x="480" y="555"/>
                </a:cubicBezTo>
                <a:cubicBezTo>
                  <a:pt x="521" y="489"/>
                  <a:pt x="529" y="477"/>
                  <a:pt x="564" y="429"/>
                </a:cubicBezTo>
                <a:cubicBezTo>
                  <a:pt x="599" y="381"/>
                  <a:pt x="648" y="319"/>
                  <a:pt x="690" y="267"/>
                </a:cubicBezTo>
                <a:cubicBezTo>
                  <a:pt x="732" y="215"/>
                  <a:pt x="777" y="153"/>
                  <a:pt x="816" y="117"/>
                </a:cubicBezTo>
                <a:cubicBezTo>
                  <a:pt x="855" y="81"/>
                  <a:pt x="887" y="69"/>
                  <a:pt x="924" y="51"/>
                </a:cubicBezTo>
                <a:cubicBezTo>
                  <a:pt x="961" y="33"/>
                  <a:pt x="993" y="17"/>
                  <a:pt x="1038" y="9"/>
                </a:cubicBezTo>
                <a:cubicBezTo>
                  <a:pt x="1083" y="1"/>
                  <a:pt x="1140" y="0"/>
                  <a:pt x="1194" y="3"/>
                </a:cubicBezTo>
                <a:cubicBezTo>
                  <a:pt x="1248" y="6"/>
                  <a:pt x="1313" y="12"/>
                  <a:pt x="1362" y="27"/>
                </a:cubicBezTo>
                <a:cubicBezTo>
                  <a:pt x="1411" y="42"/>
                  <a:pt x="1443" y="60"/>
                  <a:pt x="1488" y="93"/>
                </a:cubicBezTo>
                <a:cubicBezTo>
                  <a:pt x="1533" y="126"/>
                  <a:pt x="1576" y="159"/>
                  <a:pt x="1632" y="225"/>
                </a:cubicBezTo>
                <a:cubicBezTo>
                  <a:pt x="1688" y="291"/>
                  <a:pt x="1758" y="393"/>
                  <a:pt x="1824" y="489"/>
                </a:cubicBezTo>
                <a:cubicBezTo>
                  <a:pt x="1890" y="585"/>
                  <a:pt x="1960" y="683"/>
                  <a:pt x="2028" y="801"/>
                </a:cubicBezTo>
                <a:cubicBezTo>
                  <a:pt x="2096" y="919"/>
                  <a:pt x="2120" y="987"/>
                  <a:pt x="2232" y="1197"/>
                </a:cubicBezTo>
                <a:cubicBezTo>
                  <a:pt x="2344" y="1407"/>
                  <a:pt x="2580" y="1848"/>
                  <a:pt x="2700" y="2061"/>
                </a:cubicBezTo>
                <a:cubicBezTo>
                  <a:pt x="2820" y="2274"/>
                  <a:pt x="2872" y="2366"/>
                  <a:pt x="2952" y="2475"/>
                </a:cubicBezTo>
                <a:cubicBezTo>
                  <a:pt x="3032" y="2584"/>
                  <a:pt x="3104" y="2651"/>
                  <a:pt x="3180" y="2715"/>
                </a:cubicBezTo>
                <a:cubicBezTo>
                  <a:pt x="3256" y="2779"/>
                  <a:pt x="3347" y="2831"/>
                  <a:pt x="3408" y="2859"/>
                </a:cubicBezTo>
                <a:cubicBezTo>
                  <a:pt x="3469" y="2887"/>
                  <a:pt x="3489" y="2890"/>
                  <a:pt x="3546" y="2883"/>
                </a:cubicBezTo>
                <a:cubicBezTo>
                  <a:pt x="3603" y="2876"/>
                  <a:pt x="3685" y="2852"/>
                  <a:pt x="3750" y="2817"/>
                </a:cubicBezTo>
                <a:cubicBezTo>
                  <a:pt x="3815" y="2782"/>
                  <a:pt x="3874" y="2735"/>
                  <a:pt x="3936" y="2673"/>
                </a:cubicBezTo>
                <a:cubicBezTo>
                  <a:pt x="3998" y="2611"/>
                  <a:pt x="4059" y="2530"/>
                  <a:pt x="4122" y="2445"/>
                </a:cubicBezTo>
                <a:cubicBezTo>
                  <a:pt x="4185" y="2360"/>
                  <a:pt x="4254" y="2259"/>
                  <a:pt x="4314" y="2163"/>
                </a:cubicBezTo>
                <a:cubicBezTo>
                  <a:pt x="4374" y="2067"/>
                  <a:pt x="4416" y="1988"/>
                  <a:pt x="4482" y="1869"/>
                </a:cubicBezTo>
                <a:cubicBezTo>
                  <a:pt x="4548" y="1750"/>
                  <a:pt x="4629" y="1599"/>
                  <a:pt x="4710" y="1449"/>
                </a:cubicBezTo>
              </a:path>
            </a:pathLst>
          </a:custGeom>
          <a:noFill/>
          <a:ln w="28440">
            <a:solidFill>
              <a:srgbClr val="ff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 rot="774600">
            <a:off x="6808320" y="2808360"/>
            <a:ext cx="895320" cy="2809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6680880" y="3660840"/>
            <a:ext cx="4003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149760" y="134604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1653120" y="1384200"/>
            <a:ext cx="55260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prądu kolektora na wzmocnienie - składowa zm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2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"/>
          <p:cNvSpPr/>
          <p:nvPr/>
        </p:nvSpPr>
        <p:spPr>
          <a:xfrm>
            <a:off x="171360" y="3086280"/>
            <a:ext cx="1666800" cy="2085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 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2192400" y="1774800"/>
            <a:ext cx="30312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2257560" y="1808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2325600" y="19051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1652760" y="3182760"/>
            <a:ext cx="7124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2048040" y="4016520"/>
            <a:ext cx="17460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2133720" y="3848040"/>
            <a:ext cx="14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2133720" y="4432320"/>
            <a:ext cx="144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2276640" y="41022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234072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246996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1711440" y="2790720"/>
            <a:ext cx="501480" cy="487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1865160" y="2895480"/>
            <a:ext cx="1800" cy="27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 flipV="1">
            <a:off x="1879560" y="2852280"/>
            <a:ext cx="254160" cy="1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8" name=""/>
          <p:cNvGrpSpPr/>
          <p:nvPr/>
        </p:nvGrpSpPr>
        <p:grpSpPr>
          <a:xfrm>
            <a:off x="1879560" y="3073320"/>
            <a:ext cx="158760" cy="100080"/>
            <a:chOff x="1879560" y="3073320"/>
            <a:chExt cx="158760" cy="100080"/>
          </a:xfrm>
        </p:grpSpPr>
        <p:sp>
          <p:nvSpPr>
            <p:cNvPr id="4209" name=""/>
            <p:cNvSpPr/>
            <p:nvPr/>
          </p:nvSpPr>
          <p:spPr>
            <a:xfrm>
              <a:off x="1879560" y="3092400"/>
              <a:ext cx="158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1914480" y="3073320"/>
              <a:ext cx="123840" cy="10008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3"/>
                  </a:moveTo>
                  <a:lnTo>
                    <a:pt x="78" y="6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1" name=""/>
          <p:cNvSpPr/>
          <p:nvPr/>
        </p:nvSpPr>
        <p:spPr>
          <a:xfrm>
            <a:off x="2038320" y="3168720"/>
            <a:ext cx="9540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 flipH="1">
            <a:off x="1711080" y="3038400"/>
            <a:ext cx="153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2127240" y="3211560"/>
            <a:ext cx="6480" cy="67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 flipV="1">
            <a:off x="2133720" y="2674800"/>
            <a:ext cx="144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 flipV="1">
            <a:off x="660240" y="3038400"/>
            <a:ext cx="10558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2093760" y="1731960"/>
            <a:ext cx="6372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581040" y="3206880"/>
            <a:ext cx="16812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660240" y="303840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660240" y="3629160"/>
            <a:ext cx="180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804960" y="3297240"/>
            <a:ext cx="36180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883440" y="3336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1012320" y="3432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581040" y="4002120"/>
            <a:ext cx="168120" cy="425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660240" y="3833640"/>
            <a:ext cx="180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660240" y="4417920"/>
            <a:ext cx="1800" cy="2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804960" y="40878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883440" y="41306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1012320" y="4227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2048040" y="2100240"/>
            <a:ext cx="17460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2133720" y="1933560"/>
            <a:ext cx="14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2133720" y="2517840"/>
            <a:ext cx="144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2276640" y="218772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2340720" y="22305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2469960" y="23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576360" y="2085840"/>
            <a:ext cx="16812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660240" y="1774800"/>
            <a:ext cx="180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660240" y="2508120"/>
            <a:ext cx="180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798480" y="2176560"/>
            <a:ext cx="362160" cy="30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883440" y="2216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1012320" y="2311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1216080" y="4016520"/>
            <a:ext cx="16812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1295280" y="384804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1295280" y="4432320"/>
            <a:ext cx="180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1438200" y="4102200"/>
            <a:ext cx="36216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151200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164124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7" name=""/>
          <p:cNvGrpSpPr/>
          <p:nvPr/>
        </p:nvGrpSpPr>
        <p:grpSpPr>
          <a:xfrm>
            <a:off x="2073240" y="1755720"/>
            <a:ext cx="104760" cy="182520"/>
            <a:chOff x="2073240" y="1755720"/>
            <a:chExt cx="104760" cy="182520"/>
          </a:xfrm>
        </p:grpSpPr>
        <p:sp>
          <p:nvSpPr>
            <p:cNvPr id="4248" name=""/>
            <p:cNvSpPr/>
            <p:nvPr/>
          </p:nvSpPr>
          <p:spPr>
            <a:xfrm>
              <a:off x="2127240" y="175572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2073240" y="1836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3"/>
                  </a:moveTo>
                  <a:lnTo>
                    <a:pt x="38" y="64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0" name=""/>
          <p:cNvSpPr/>
          <p:nvPr/>
        </p:nvSpPr>
        <p:spPr>
          <a:xfrm>
            <a:off x="660240" y="1760400"/>
            <a:ext cx="2136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 flipH="1">
            <a:off x="660240" y="3848040"/>
            <a:ext cx="635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660240" y="4633920"/>
            <a:ext cx="213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630360" y="3009960"/>
            <a:ext cx="6984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625320" y="3814920"/>
            <a:ext cx="698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1255680" y="4605480"/>
            <a:ext cx="6840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>
            <a:off x="2727360" y="1731960"/>
            <a:ext cx="6984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2093760" y="4605480"/>
            <a:ext cx="6372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 flipH="1">
            <a:off x="1120320" y="4078440"/>
            <a:ext cx="312840" cy="30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1120680" y="4379760"/>
            <a:ext cx="180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2857680" y="1577880"/>
            <a:ext cx="672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2955600" y="16178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3243240" y="1712880"/>
            <a:ext cx="16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3" name=""/>
          <p:cNvGrpSpPr/>
          <p:nvPr/>
        </p:nvGrpSpPr>
        <p:grpSpPr>
          <a:xfrm>
            <a:off x="3675240" y="2043000"/>
            <a:ext cx="104760" cy="2274840"/>
            <a:chOff x="3675240" y="2043000"/>
            <a:chExt cx="104760" cy="2274840"/>
          </a:xfrm>
        </p:grpSpPr>
        <p:sp>
          <p:nvSpPr>
            <p:cNvPr id="4264" name=""/>
            <p:cNvSpPr/>
            <p:nvPr/>
          </p:nvSpPr>
          <p:spPr>
            <a:xfrm>
              <a:off x="3724200" y="2133720"/>
              <a:ext cx="180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3675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6" name=""/>
          <p:cNvGrpSpPr/>
          <p:nvPr/>
        </p:nvGrpSpPr>
        <p:grpSpPr>
          <a:xfrm>
            <a:off x="3570120" y="4149720"/>
            <a:ext cx="2355840" cy="101520"/>
            <a:chOff x="3570120" y="4149720"/>
            <a:chExt cx="2355840" cy="101520"/>
          </a:xfrm>
        </p:grpSpPr>
        <p:sp>
          <p:nvSpPr>
            <p:cNvPr id="4267" name=""/>
            <p:cNvSpPr/>
            <p:nvPr/>
          </p:nvSpPr>
          <p:spPr>
            <a:xfrm flipH="1">
              <a:off x="3570120" y="4199040"/>
              <a:ext cx="2262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821200" y="4149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64"/>
                  </a:moveTo>
                  <a:lnTo>
                    <a:pt x="66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9" name=""/>
          <p:cNvSpPr/>
          <p:nvPr/>
        </p:nvSpPr>
        <p:spPr>
          <a:xfrm>
            <a:off x="3352680" y="1986120"/>
            <a:ext cx="30168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3402000" y="4213080"/>
            <a:ext cx="29844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349668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5708520" y="4275000"/>
            <a:ext cx="3016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579708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4" name=""/>
          <p:cNvGrpSpPr/>
          <p:nvPr/>
        </p:nvGrpSpPr>
        <p:grpSpPr>
          <a:xfrm>
            <a:off x="6699240" y="2043000"/>
            <a:ext cx="104760" cy="2274840"/>
            <a:chOff x="6699240" y="2043000"/>
            <a:chExt cx="104760" cy="2274840"/>
          </a:xfrm>
        </p:grpSpPr>
        <p:sp>
          <p:nvSpPr>
            <p:cNvPr id="4275" name=""/>
            <p:cNvSpPr/>
            <p:nvPr/>
          </p:nvSpPr>
          <p:spPr>
            <a:xfrm>
              <a:off x="6748560" y="2133720"/>
              <a:ext cx="144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6699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7" name=""/>
          <p:cNvGrpSpPr/>
          <p:nvPr/>
        </p:nvGrpSpPr>
        <p:grpSpPr>
          <a:xfrm>
            <a:off x="6589440" y="4149720"/>
            <a:ext cx="2360880" cy="101520"/>
            <a:chOff x="6589440" y="4149720"/>
            <a:chExt cx="2360880" cy="101520"/>
          </a:xfrm>
        </p:grpSpPr>
        <p:sp>
          <p:nvSpPr>
            <p:cNvPr id="4278" name=""/>
            <p:cNvSpPr/>
            <p:nvPr/>
          </p:nvSpPr>
          <p:spPr>
            <a:xfrm flipH="1">
              <a:off x="6589440" y="4199040"/>
              <a:ext cx="2266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8847000" y="414972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0" name=""/>
          <p:cNvSpPr/>
          <p:nvPr/>
        </p:nvSpPr>
        <p:spPr>
          <a:xfrm>
            <a:off x="6377040" y="1986120"/>
            <a:ext cx="29844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6442200" y="20192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6511680" y="21146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6421320" y="4213080"/>
            <a:ext cx="3034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651600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8732880" y="4275000"/>
            <a:ext cx="29700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882144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7" name=""/>
          <p:cNvGrpSpPr/>
          <p:nvPr/>
        </p:nvGrpSpPr>
        <p:grpSpPr>
          <a:xfrm>
            <a:off x="3962520" y="2344680"/>
            <a:ext cx="1606320" cy="1432080"/>
            <a:chOff x="3962520" y="2344680"/>
            <a:chExt cx="1606320" cy="1432080"/>
          </a:xfrm>
        </p:grpSpPr>
        <p:sp>
          <p:nvSpPr>
            <p:cNvPr id="4288" name=""/>
            <p:cNvSpPr/>
            <p:nvPr/>
          </p:nvSpPr>
          <p:spPr>
            <a:xfrm>
              <a:off x="3971880" y="2344680"/>
              <a:ext cx="1596960" cy="1422360"/>
            </a:xfrm>
            <a:custGeom>
              <a:avLst/>
              <a:gdLst/>
              <a:ahLst/>
              <a:rect l="l" t="t" r="r" b="b"/>
              <a:pathLst>
                <a:path w="1006" h="896">
                  <a:moveTo>
                    <a:pt x="1006" y="896"/>
                  </a:moveTo>
                  <a:lnTo>
                    <a:pt x="903" y="890"/>
                  </a:lnTo>
                  <a:lnTo>
                    <a:pt x="803" y="878"/>
                  </a:lnTo>
                  <a:lnTo>
                    <a:pt x="706" y="857"/>
                  </a:lnTo>
                  <a:lnTo>
                    <a:pt x="616" y="827"/>
                  </a:lnTo>
                  <a:lnTo>
                    <a:pt x="525" y="787"/>
                  </a:lnTo>
                  <a:lnTo>
                    <a:pt x="444" y="742"/>
                  </a:lnTo>
                  <a:lnTo>
                    <a:pt x="366" y="691"/>
                  </a:lnTo>
                  <a:lnTo>
                    <a:pt x="294" y="634"/>
                  </a:lnTo>
                  <a:lnTo>
                    <a:pt x="231" y="570"/>
                  </a:lnTo>
                  <a:lnTo>
                    <a:pt x="172" y="501"/>
                  </a:lnTo>
                  <a:lnTo>
                    <a:pt x="122" y="428"/>
                  </a:lnTo>
                  <a:lnTo>
                    <a:pt x="78" y="350"/>
                  </a:lnTo>
                  <a:lnTo>
                    <a:pt x="44" y="266"/>
                  </a:lnTo>
                  <a:lnTo>
                    <a:pt x="22" y="181"/>
                  </a:lnTo>
                  <a:lnTo>
                    <a:pt x="7" y="91"/>
                  </a:lnTo>
                  <a:lnTo>
                    <a:pt x="0" y="0"/>
                  </a:lnTo>
                  <a:lnTo>
                    <a:pt x="1006" y="0"/>
                  </a:lnTo>
                  <a:lnTo>
                    <a:pt x="1006" y="8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5549760" y="37576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5510160" y="37530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54705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54309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5391000" y="37479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5351400" y="37432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5311800" y="37386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5272200" y="37339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5232240" y="37242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5192640" y="37148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5153040" y="37101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5118120" y="37004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9" y="15"/>
                  </a:move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5078520" y="369108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5038560" y="367668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5003640" y="366696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9" y="15"/>
                  </a:moveTo>
                  <a:lnTo>
                    <a:pt x="13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964040" y="36529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3" y="15"/>
                  </a:moveTo>
                  <a:lnTo>
                    <a:pt x="16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4924440" y="363852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3" y="18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4889520" y="36241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3" y="18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4854600" y="360828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0" y="16"/>
                  </a:moveTo>
                  <a:lnTo>
                    <a:pt x="16" y="3"/>
                  </a:lnTo>
                  <a:lnTo>
                    <a:pt x="7" y="0"/>
                  </a:lnTo>
                  <a:lnTo>
                    <a:pt x="0" y="13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4815000" y="3589200"/>
              <a:ext cx="2988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3" y="19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12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4780080" y="3575160"/>
              <a:ext cx="2988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4746600" y="355608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4711680" y="353700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4676760" y="35179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2" y="15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4646520" y="34988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9" y="15"/>
                  </a:moveTo>
                  <a:lnTo>
                    <a:pt x="16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4611600" y="347976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0" y="15"/>
                  </a:moveTo>
                  <a:lnTo>
                    <a:pt x="16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4576680" y="34560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4543560" y="34322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8"/>
                  </a:moveTo>
                  <a:lnTo>
                    <a:pt x="18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4513320" y="340848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4483080" y="338472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4452840" y="336060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4424400" y="33368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9" y="15"/>
                  </a:moveTo>
                  <a:lnTo>
                    <a:pt x="18" y="6"/>
                  </a:lnTo>
                  <a:lnTo>
                    <a:pt x="15" y="6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4394160" y="33066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9" y="19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4368960" y="3278160"/>
              <a:ext cx="2988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4338720" y="32544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0" y="15"/>
                  </a:moveTo>
                  <a:lnTo>
                    <a:pt x="19" y="6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4314960" y="32259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4289400" y="319248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4265640" y="316404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4240080" y="31352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4214880" y="310680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7" y="15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4195800" y="307332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15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4170240" y="30384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0" y="19"/>
                  </a:moveTo>
                  <a:lnTo>
                    <a:pt x="19" y="13"/>
                  </a:lnTo>
                  <a:lnTo>
                    <a:pt x="10" y="0"/>
                  </a:lnTo>
                  <a:lnTo>
                    <a:pt x="0" y="7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4151160" y="300996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6" y="15"/>
                  </a:moveTo>
                  <a:lnTo>
                    <a:pt x="15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6"/>
                  </a:lnTo>
                  <a:lnTo>
                    <a:pt x="3" y="12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4135320" y="297648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4" y="15"/>
                  </a:moveTo>
                  <a:lnTo>
                    <a:pt x="13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4116240" y="293832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12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4095720" y="29052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7" y="18"/>
                  </a:moveTo>
                  <a:lnTo>
                    <a:pt x="16" y="12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4076640" y="28717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6" y="18"/>
                  </a:moveTo>
                  <a:lnTo>
                    <a:pt x="19" y="12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4067280" y="28386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4051440" y="280044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3" y="18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4037040" y="276696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4022640" y="273204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3" y="12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4011480" y="269388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4002120" y="26557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3992400" y="261792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5" y="6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3987720" y="25797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3983040" y="2546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12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3971880" y="25081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3967200" y="24685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3" y="13"/>
                  </a:moveTo>
                  <a:lnTo>
                    <a:pt x="16" y="13"/>
                  </a:lnTo>
                  <a:lnTo>
                    <a:pt x="13" y="0"/>
                  </a:lnTo>
                  <a:lnTo>
                    <a:pt x="0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3967200" y="243036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967200" y="23922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3962520" y="23544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0" name=""/>
          <p:cNvSpPr/>
          <p:nvPr/>
        </p:nvSpPr>
        <p:spPr>
          <a:xfrm flipV="1">
            <a:off x="6531120" y="2909880"/>
            <a:ext cx="53964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1" name=""/>
          <p:cNvGrpSpPr/>
          <p:nvPr/>
        </p:nvGrpSpPr>
        <p:grpSpPr>
          <a:xfrm>
            <a:off x="6981840" y="2909880"/>
            <a:ext cx="480960" cy="76320"/>
            <a:chOff x="6981840" y="2909880"/>
            <a:chExt cx="480960" cy="76320"/>
          </a:xfrm>
        </p:grpSpPr>
        <p:sp>
          <p:nvSpPr>
            <p:cNvPr id="4352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4" name=""/>
          <p:cNvSpPr/>
          <p:nvPr/>
        </p:nvSpPr>
        <p:spPr>
          <a:xfrm>
            <a:off x="7458120" y="2971800"/>
            <a:ext cx="466560" cy="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5" name=""/>
          <p:cNvGrpSpPr/>
          <p:nvPr/>
        </p:nvGrpSpPr>
        <p:grpSpPr>
          <a:xfrm>
            <a:off x="7924680" y="2943360"/>
            <a:ext cx="406440" cy="120600"/>
            <a:chOff x="7924680" y="2943360"/>
            <a:chExt cx="406440" cy="120600"/>
          </a:xfrm>
        </p:grpSpPr>
        <p:sp>
          <p:nvSpPr>
            <p:cNvPr id="4356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8" name=""/>
          <p:cNvSpPr/>
          <p:nvPr/>
        </p:nvSpPr>
        <p:spPr>
          <a:xfrm>
            <a:off x="4815000" y="3164040"/>
            <a:ext cx="43632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4656240" y="3686040"/>
            <a:ext cx="368280" cy="31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>
            <a:off x="4735440" y="3728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>
            <a:off x="4865400" y="3824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264960" y="3033720"/>
            <a:ext cx="389160" cy="1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>
            <a:off x="3467160" y="3581280"/>
            <a:ext cx="2238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 flipH="1">
            <a:off x="3495600" y="2695680"/>
            <a:ext cx="2276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4081320" y="2300400"/>
            <a:ext cx="84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3790080" y="318600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3571920" y="2712960"/>
            <a:ext cx="2047680" cy="830520"/>
          </a:xfrm>
          <a:custGeom>
            <a:avLst/>
            <a:gdLst/>
            <a:ahLst/>
            <a:rect l="l" t="t" r="r" b="b"/>
            <a:pathLst>
              <a:path w="1290" h="523">
                <a:moveTo>
                  <a:pt x="0" y="1"/>
                </a:moveTo>
                <a:cubicBezTo>
                  <a:pt x="65" y="3"/>
                  <a:pt x="132" y="0"/>
                  <a:pt x="192" y="7"/>
                </a:cubicBezTo>
                <a:cubicBezTo>
                  <a:pt x="252" y="14"/>
                  <a:pt x="308" y="7"/>
                  <a:pt x="360" y="43"/>
                </a:cubicBezTo>
                <a:cubicBezTo>
                  <a:pt x="412" y="79"/>
                  <a:pt x="449" y="160"/>
                  <a:pt x="504" y="223"/>
                </a:cubicBezTo>
                <a:cubicBezTo>
                  <a:pt x="559" y="286"/>
                  <a:pt x="636" y="375"/>
                  <a:pt x="690" y="421"/>
                </a:cubicBezTo>
                <a:cubicBezTo>
                  <a:pt x="744" y="467"/>
                  <a:pt x="766" y="483"/>
                  <a:pt x="828" y="499"/>
                </a:cubicBezTo>
                <a:cubicBezTo>
                  <a:pt x="890" y="515"/>
                  <a:pt x="985" y="513"/>
                  <a:pt x="1062" y="517"/>
                </a:cubicBezTo>
                <a:cubicBezTo>
                  <a:pt x="1139" y="521"/>
                  <a:pt x="1214" y="522"/>
                  <a:pt x="1290" y="52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3155400" y="2104920"/>
            <a:ext cx="538920" cy="40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0" name=""/>
          <p:cNvGrpSpPr/>
          <p:nvPr/>
        </p:nvGrpSpPr>
        <p:grpSpPr>
          <a:xfrm>
            <a:off x="247680" y="1920960"/>
            <a:ext cx="8634240" cy="3301920"/>
            <a:chOff x="247680" y="1920960"/>
            <a:chExt cx="8634240" cy="3301920"/>
          </a:xfrm>
        </p:grpSpPr>
        <p:sp>
          <p:nvSpPr>
            <p:cNvPr id="4371" name=""/>
            <p:cNvSpPr/>
            <p:nvPr/>
          </p:nvSpPr>
          <p:spPr>
            <a:xfrm flipH="1">
              <a:off x="1719360" y="1925640"/>
              <a:ext cx="188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1517760" y="2820960"/>
              <a:ext cx="1440" cy="496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 flipH="1">
              <a:off x="1004400" y="4227480"/>
              <a:ext cx="2597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4" name=""/>
            <p:cNvGrpSpPr/>
            <p:nvPr/>
          </p:nvGrpSpPr>
          <p:grpSpPr>
            <a:xfrm>
              <a:off x="2311560" y="2820960"/>
              <a:ext cx="142560" cy="496800"/>
              <a:chOff x="2311560" y="2820960"/>
              <a:chExt cx="142560" cy="496800"/>
            </a:xfrm>
          </p:grpSpPr>
          <p:sp>
            <p:nvSpPr>
              <p:cNvPr id="4375" name=""/>
              <p:cNvSpPr/>
              <p:nvPr/>
            </p:nvSpPr>
            <p:spPr>
              <a:xfrm>
                <a:off x="2363760" y="2820960"/>
                <a:ext cx="31680" cy="496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2311560" y="2820960"/>
                <a:ext cx="142560" cy="136440"/>
              </a:xfrm>
              <a:custGeom>
                <a:avLst/>
                <a:gdLst/>
                <a:ahLst/>
                <a:rect l="l" t="t" r="r" b="b"/>
                <a:pathLst>
                  <a:path w="90" h="86">
                    <a:moveTo>
                      <a:pt x="90" y="86"/>
                    </a:moveTo>
                    <a:lnTo>
                      <a:pt x="43" y="0"/>
                    </a:lnTo>
                    <a:lnTo>
                      <a:pt x="0" y="86"/>
                    </a:lnTo>
                  </a:path>
                </a:pathLst>
              </a:custGeom>
              <a:noFill/>
              <a:ln w="316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7" name=""/>
            <p:cNvSpPr/>
            <p:nvPr/>
          </p:nvSpPr>
          <p:spPr>
            <a:xfrm>
              <a:off x="1004760" y="3186000"/>
              <a:ext cx="333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1533600" y="31748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 flipV="1">
              <a:off x="1719360" y="2751120"/>
              <a:ext cx="1440" cy="15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0" name=""/>
            <p:cNvGrpSpPr/>
            <p:nvPr/>
          </p:nvGrpSpPr>
          <p:grpSpPr>
            <a:xfrm>
              <a:off x="950760" y="3191040"/>
              <a:ext cx="111240" cy="147600"/>
              <a:chOff x="950760" y="3191040"/>
              <a:chExt cx="111240" cy="147600"/>
            </a:xfrm>
          </p:grpSpPr>
          <p:sp>
            <p:nvSpPr>
              <p:cNvPr id="4381" name=""/>
              <p:cNvSpPr/>
              <p:nvPr/>
            </p:nvSpPr>
            <p:spPr>
              <a:xfrm flipV="1">
                <a:off x="100980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95076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3" name=""/>
            <p:cNvGrpSpPr/>
            <p:nvPr/>
          </p:nvGrpSpPr>
          <p:grpSpPr>
            <a:xfrm>
              <a:off x="1267920" y="3127320"/>
              <a:ext cx="249840" cy="122400"/>
              <a:chOff x="1267920" y="3127320"/>
              <a:chExt cx="249840" cy="122400"/>
            </a:xfrm>
          </p:grpSpPr>
          <p:sp>
            <p:nvSpPr>
              <p:cNvPr id="4384" name=""/>
              <p:cNvSpPr/>
              <p:nvPr/>
            </p:nvSpPr>
            <p:spPr>
              <a:xfrm flipH="1">
                <a:off x="1267920" y="3186000"/>
                <a:ext cx="249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1401840" y="3127320"/>
                <a:ext cx="115920" cy="122400"/>
              </a:xfrm>
              <a:custGeom>
                <a:avLst/>
                <a:gdLst/>
                <a:ahLst/>
                <a:rect l="l" t="t" r="r" b="b"/>
                <a:pathLst>
                  <a:path w="73" h="77">
                    <a:moveTo>
                      <a:pt x="0" y="77"/>
                    </a:moveTo>
                    <a:lnTo>
                      <a:pt x="73" y="37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6" name=""/>
            <p:cNvSpPr/>
            <p:nvPr/>
          </p:nvSpPr>
          <p:spPr>
            <a:xfrm>
              <a:off x="919080" y="3529080"/>
              <a:ext cx="1810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1004760" y="334476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1004760" y="398952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1157400" y="3624120"/>
              <a:ext cx="3873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12268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1363680" y="3778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1660680" y="4191120"/>
              <a:ext cx="7452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5781600" y="3000240"/>
              <a:ext cx="4680" cy="497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5686560" y="3116160"/>
              <a:ext cx="1440" cy="265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 flipH="1">
              <a:off x="6114600" y="2174760"/>
              <a:ext cx="1027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5781600" y="3036960"/>
              <a:ext cx="333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5781600" y="3449520"/>
              <a:ext cx="365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5992920" y="3238560"/>
              <a:ext cx="14904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4935600" y="4238640"/>
              <a:ext cx="222228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0" name=""/>
            <p:cNvGrpSpPr/>
            <p:nvPr/>
          </p:nvGrpSpPr>
          <p:grpSpPr>
            <a:xfrm>
              <a:off x="5802480" y="3179880"/>
              <a:ext cx="180720" cy="110880"/>
              <a:chOff x="5802480" y="3179880"/>
              <a:chExt cx="180720" cy="110880"/>
            </a:xfrm>
          </p:grpSpPr>
          <p:sp>
            <p:nvSpPr>
              <p:cNvPr id="4401" name=""/>
              <p:cNvSpPr/>
              <p:nvPr/>
            </p:nvSpPr>
            <p:spPr>
              <a:xfrm flipH="1">
                <a:off x="5802480" y="3233880"/>
                <a:ext cx="792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872320" y="317988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70"/>
                    </a:moveTo>
                    <a:lnTo>
                      <a:pt x="70" y="34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3" name=""/>
            <p:cNvSpPr/>
            <p:nvPr/>
          </p:nvSpPr>
          <p:spPr>
            <a:xfrm flipH="1">
              <a:off x="5427360" y="3365640"/>
              <a:ext cx="258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1533600" y="28940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1612800" y="3529080"/>
              <a:ext cx="17964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1697040" y="334476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1697040" y="3989520"/>
              <a:ext cx="144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1851120" y="362412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19396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2077560" y="3778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1628640" y="2106720"/>
              <a:ext cx="17964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1719360" y="192096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3" name=""/>
            <p:cNvGrpSpPr/>
            <p:nvPr/>
          </p:nvGrpSpPr>
          <p:grpSpPr>
            <a:xfrm>
              <a:off x="1660680" y="2571840"/>
              <a:ext cx="110880" cy="233280"/>
              <a:chOff x="1660680" y="2571840"/>
              <a:chExt cx="110880" cy="233280"/>
            </a:xfrm>
          </p:grpSpPr>
          <p:sp>
            <p:nvSpPr>
              <p:cNvPr id="4414" name=""/>
              <p:cNvSpPr/>
              <p:nvPr/>
            </p:nvSpPr>
            <p:spPr>
              <a:xfrm>
                <a:off x="1719360" y="2571840"/>
                <a:ext cx="1440" cy="23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1660680" y="269388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6" name=""/>
            <p:cNvSpPr/>
            <p:nvPr/>
          </p:nvSpPr>
          <p:spPr>
            <a:xfrm>
              <a:off x="1871640" y="220680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1939680" y="2249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2078280" y="2354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4834080" y="3560760"/>
              <a:ext cx="18072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4924440" y="337644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4924440" y="4027320"/>
              <a:ext cx="1440" cy="23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5072040" y="3662280"/>
              <a:ext cx="38736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5146560" y="3703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5284800" y="3809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6062760" y="3544920"/>
              <a:ext cx="1792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6146640" y="3233880"/>
              <a:ext cx="1800" cy="326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6146640" y="400536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6300720" y="364644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6384600" y="36878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522840" y="3794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1" name=""/>
            <p:cNvGrpSpPr/>
            <p:nvPr/>
          </p:nvGrpSpPr>
          <p:grpSpPr>
            <a:xfrm>
              <a:off x="1644480" y="3191040"/>
              <a:ext cx="111240" cy="147600"/>
              <a:chOff x="1644480" y="3191040"/>
              <a:chExt cx="111240" cy="147600"/>
            </a:xfrm>
          </p:grpSpPr>
          <p:sp>
            <p:nvSpPr>
              <p:cNvPr id="4432" name=""/>
              <p:cNvSpPr/>
              <p:nvPr/>
            </p:nvSpPr>
            <p:spPr>
              <a:xfrm flipV="1">
                <a:off x="170352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164448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4" name=""/>
            <p:cNvSpPr/>
            <p:nvPr/>
          </p:nvSpPr>
          <p:spPr>
            <a:xfrm>
              <a:off x="549360" y="307980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49080" y="31273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723960" y="323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1787400" y="260352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1887120" y="26463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1962360" y="2751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1771560" y="3132000"/>
              <a:ext cx="3859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1887120" y="3174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1961640" y="3281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2463840" y="2884320"/>
              <a:ext cx="49860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2538360" y="29257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2697120" y="3032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3411360" y="2909880"/>
              <a:ext cx="40824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 flipV="1">
              <a:off x="3606840" y="1925280"/>
              <a:ext cx="6480" cy="979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 flipH="1" flipV="1">
              <a:off x="3606840" y="3306600"/>
              <a:ext cx="6480" cy="92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9" name=""/>
            <p:cNvGrpSpPr/>
            <p:nvPr/>
          </p:nvGrpSpPr>
          <p:grpSpPr>
            <a:xfrm>
              <a:off x="3549600" y="2979720"/>
              <a:ext cx="120600" cy="270000"/>
              <a:chOff x="3549600" y="2979720"/>
              <a:chExt cx="120600" cy="270000"/>
            </a:xfrm>
          </p:grpSpPr>
          <p:sp>
            <p:nvSpPr>
              <p:cNvPr id="4450" name=""/>
              <p:cNvSpPr/>
              <p:nvPr/>
            </p:nvSpPr>
            <p:spPr>
              <a:xfrm>
                <a:off x="3606840" y="297972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3549600" y="2979720"/>
                <a:ext cx="120600" cy="115920"/>
              </a:xfrm>
              <a:custGeom>
                <a:avLst/>
                <a:gdLst/>
                <a:ahLst/>
                <a:rect l="l" t="t" r="r" b="b"/>
                <a:pathLst>
                  <a:path w="76" h="73">
                    <a:moveTo>
                      <a:pt x="76" y="73"/>
                    </a:moveTo>
                    <a:lnTo>
                      <a:pt x="36" y="0"/>
                    </a:lnTo>
                    <a:lnTo>
                      <a:pt x="0" y="7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2" name=""/>
            <p:cNvSpPr/>
            <p:nvPr/>
          </p:nvSpPr>
          <p:spPr>
            <a:xfrm>
              <a:off x="3903840" y="2948040"/>
              <a:ext cx="496800" cy="342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3962520" y="29955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4121640" y="310032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6110280" y="3413160"/>
              <a:ext cx="68400" cy="68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6110280" y="4206960"/>
              <a:ext cx="6840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6024600" y="2354400"/>
              <a:ext cx="181080" cy="47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6114960" y="217008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6114960" y="2814480"/>
              <a:ext cx="1800" cy="233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6262560" y="2455920"/>
              <a:ext cx="3873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6337080" y="2496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6475320" y="26035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6951600" y="3005280"/>
              <a:ext cx="40176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7147080" y="3413160"/>
              <a:ext cx="4680" cy="83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 flipH="1">
              <a:off x="7146720" y="2174760"/>
              <a:ext cx="4680" cy="83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6" name=""/>
            <p:cNvGrpSpPr/>
            <p:nvPr/>
          </p:nvGrpSpPr>
          <p:grpSpPr>
            <a:xfrm>
              <a:off x="7083360" y="3068640"/>
              <a:ext cx="122400" cy="270000"/>
              <a:chOff x="7083360" y="3068640"/>
              <a:chExt cx="122400" cy="270000"/>
            </a:xfrm>
          </p:grpSpPr>
          <p:sp>
            <p:nvSpPr>
              <p:cNvPr id="4467" name=""/>
              <p:cNvSpPr/>
              <p:nvPr/>
            </p:nvSpPr>
            <p:spPr>
              <a:xfrm flipV="1">
                <a:off x="7147080" y="306864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7083360" y="3222720"/>
                <a:ext cx="122400" cy="1159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0" y="0"/>
                    </a:moveTo>
                    <a:lnTo>
                      <a:pt x="40" y="73"/>
                    </a:lnTo>
                    <a:lnTo>
                      <a:pt x="77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9" name=""/>
            <p:cNvSpPr/>
            <p:nvPr/>
          </p:nvSpPr>
          <p:spPr>
            <a:xfrm>
              <a:off x="7443720" y="3036960"/>
              <a:ext cx="4968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7500960" y="3079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7660080" y="318600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560520" y="4492800"/>
              <a:ext cx="8321400" cy="7300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581400" y="4529160"/>
              <a:ext cx="650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Elementarne obwody zasilania tranzystorów: a) J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7027920" y="4529160"/>
              <a:ext cx="1279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N;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1368360" y="4842000"/>
              <a:ext cx="210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b) MOS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516480" y="4842000"/>
              <a:ext cx="1160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 flipH="1">
              <a:off x="4924440" y="3365640"/>
              <a:ext cx="496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961920" y="2587680"/>
              <a:ext cx="4971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1036800" y="2630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1195560" y="2735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1" name=""/>
            <p:cNvGrpSpPr/>
            <p:nvPr/>
          </p:nvGrpSpPr>
          <p:grpSpPr>
            <a:xfrm>
              <a:off x="1247760" y="3259080"/>
              <a:ext cx="317520" cy="419040"/>
              <a:chOff x="1247760" y="3259080"/>
              <a:chExt cx="317520" cy="419040"/>
            </a:xfrm>
          </p:grpSpPr>
          <p:sp>
            <p:nvSpPr>
              <p:cNvPr id="4482" name=""/>
              <p:cNvSpPr/>
              <p:nvPr/>
            </p:nvSpPr>
            <p:spPr>
              <a:xfrm>
                <a:off x="1247760" y="3259080"/>
                <a:ext cx="317520" cy="419040"/>
              </a:xfrm>
              <a:custGeom>
                <a:avLst/>
                <a:gdLst/>
                <a:ahLst/>
                <a:rect l="l" t="t" r="r" b="b"/>
                <a:pathLst>
                  <a:path w="200" h="264">
                    <a:moveTo>
                      <a:pt x="17" y="0"/>
                    </a:moveTo>
                    <a:lnTo>
                      <a:pt x="0" y="10"/>
                    </a:lnTo>
                    <a:lnTo>
                      <a:pt x="183" y="264"/>
                    </a:lnTo>
                    <a:lnTo>
                      <a:pt x="200" y="2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1258920" y="3265560"/>
                <a:ext cx="142920" cy="152280"/>
              </a:xfrm>
              <a:custGeom>
                <a:avLst/>
                <a:gdLst/>
                <a:ahLst/>
                <a:rect l="l" t="t" r="r" b="b"/>
                <a:pathLst>
                  <a:path w="90" h="96">
                    <a:moveTo>
                      <a:pt x="90" y="43"/>
                    </a:moveTo>
                    <a:lnTo>
                      <a:pt x="0" y="0"/>
                    </a:lnTo>
                    <a:lnTo>
                      <a:pt x="16" y="96"/>
                    </a:ln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4" name=""/>
            <p:cNvSpPr/>
            <p:nvPr/>
          </p:nvSpPr>
          <p:spPr>
            <a:xfrm>
              <a:off x="247680" y="30862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5" name=""/>
          <p:cNvGraphicFramePr/>
          <p:nvPr/>
        </p:nvGraphicFramePr>
        <p:xfrm>
          <a:off x="304920" y="1492200"/>
          <a:ext cx="815652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92200"/>
                    <a:ext cx="81565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8" name=""/>
              <p:cNvSpPr txBox="1"/>
              <p:nvPr/>
            </p:nvSpPr>
            <p:spPr>
              <a:xfrm>
                <a:off x="4140360" y="5486400"/>
                <a:ext cx="44449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9" name=""/>
              <p:cNvSpPr txBox="1"/>
              <p:nvPr/>
            </p:nvSpPr>
            <p:spPr>
              <a:xfrm>
                <a:off x="366840" y="1600200"/>
                <a:ext cx="2162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0" name=""/>
          <p:cNvGrpSpPr/>
          <p:nvPr/>
        </p:nvGrpSpPr>
        <p:grpSpPr>
          <a:xfrm>
            <a:off x="4854600" y="3684600"/>
            <a:ext cx="922320" cy="367560"/>
            <a:chOff x="4854600" y="3684600"/>
            <a:chExt cx="922320" cy="367560"/>
          </a:xfrm>
        </p:grpSpPr>
        <p:sp>
          <p:nvSpPr>
            <p:cNvPr id="4491" name=""/>
            <p:cNvSpPr/>
            <p:nvPr/>
          </p:nvSpPr>
          <p:spPr>
            <a:xfrm>
              <a:off x="4854600" y="3684600"/>
              <a:ext cx="9223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4946400" y="3716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5051520" y="3808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508428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531756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538272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&gt;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561600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8" name=""/>
          <p:cNvSpPr/>
          <p:nvPr/>
        </p:nvSpPr>
        <p:spPr>
          <a:xfrm>
            <a:off x="6346800" y="2071800"/>
            <a:ext cx="6382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6443280" y="21049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/>
          <p:nvPr/>
        </p:nvSpPr>
        <p:spPr>
          <a:xfrm>
            <a:off x="6548400" y="219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/>
          <p:cNvSpPr/>
          <p:nvPr/>
        </p:nvSpPr>
        <p:spPr>
          <a:xfrm>
            <a:off x="6579720" y="2104920"/>
            <a:ext cx="25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6814440" y="2195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3" name=""/>
          <p:cNvGrpSpPr/>
          <p:nvPr/>
        </p:nvGrpSpPr>
        <p:grpSpPr>
          <a:xfrm>
            <a:off x="7035840" y="4064040"/>
            <a:ext cx="187200" cy="100080"/>
            <a:chOff x="7035840" y="4064040"/>
            <a:chExt cx="187200" cy="100080"/>
          </a:xfrm>
        </p:grpSpPr>
        <p:sp>
          <p:nvSpPr>
            <p:cNvPr id="4504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  <a:lnTo>
                    <a:pt x="118" y="63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6" name=""/>
          <p:cNvGrpSpPr/>
          <p:nvPr/>
        </p:nvGrpSpPr>
        <p:grpSpPr>
          <a:xfrm>
            <a:off x="6630840" y="3595680"/>
            <a:ext cx="592200" cy="284040"/>
            <a:chOff x="6630840" y="3595680"/>
            <a:chExt cx="592200" cy="284040"/>
          </a:xfrm>
        </p:grpSpPr>
        <p:sp>
          <p:nvSpPr>
            <p:cNvPr id="4507" name=""/>
            <p:cNvSpPr/>
            <p:nvPr/>
          </p:nvSpPr>
          <p:spPr>
            <a:xfrm>
              <a:off x="6649920" y="3692520"/>
              <a:ext cx="573120" cy="187200"/>
            </a:xfrm>
            <a:custGeom>
              <a:avLst/>
              <a:gdLst/>
              <a:ahLst/>
              <a:rect l="l" t="t" r="r" b="b"/>
              <a:pathLst>
                <a:path w="361" h="118">
                  <a:moveTo>
                    <a:pt x="361" y="0"/>
                  </a:moveTo>
                  <a:lnTo>
                    <a:pt x="289" y="3"/>
                  </a:lnTo>
                  <a:lnTo>
                    <a:pt x="219" y="8"/>
                  </a:lnTo>
                  <a:lnTo>
                    <a:pt x="159" y="20"/>
                  </a:lnTo>
                  <a:lnTo>
                    <a:pt x="107" y="34"/>
                  </a:lnTo>
                  <a:lnTo>
                    <a:pt x="60" y="52"/>
                  </a:lnTo>
                  <a:lnTo>
                    <a:pt x="43" y="60"/>
                  </a:lnTo>
                  <a:lnTo>
                    <a:pt x="29" y="72"/>
                  </a:lnTo>
                  <a:lnTo>
                    <a:pt x="17" y="84"/>
                  </a:lnTo>
                  <a:lnTo>
                    <a:pt x="8" y="95"/>
                  </a:lnTo>
                  <a:lnTo>
                    <a:pt x="3" y="107"/>
                  </a:lnTo>
                  <a:lnTo>
                    <a:pt x="0" y="118"/>
                  </a:lnTo>
                  <a:lnTo>
                    <a:pt x="361" y="118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7182000" y="3673440"/>
              <a:ext cx="4104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7099200" y="36734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26"/>
                  </a:moveTo>
                  <a:lnTo>
                    <a:pt x="2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7016760" y="36781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6"/>
                  </a:moveTo>
                  <a:lnTo>
                    <a:pt x="26" y="0"/>
                  </a:lnTo>
                  <a:lnTo>
                    <a:pt x="0" y="3"/>
                  </a:lnTo>
                  <a:lnTo>
                    <a:pt x="3" y="29"/>
                  </a:lnTo>
                  <a:lnTo>
                    <a:pt x="29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6934320" y="36925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3"/>
                  </a:moveTo>
                  <a:lnTo>
                    <a:pt x="26" y="0"/>
                  </a:lnTo>
                  <a:lnTo>
                    <a:pt x="0" y="5"/>
                  </a:lnTo>
                  <a:lnTo>
                    <a:pt x="3" y="29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6851520" y="37051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4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6" y="32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6769080" y="3728880"/>
              <a:ext cx="55440" cy="5112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23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9" y="32"/>
                  </a:lnTo>
                  <a:lnTo>
                    <a:pt x="35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6691320" y="3760920"/>
              <a:ext cx="58680" cy="554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37" y="20"/>
                  </a:moveTo>
                  <a:lnTo>
                    <a:pt x="26" y="0"/>
                  </a:lnTo>
                  <a:lnTo>
                    <a:pt x="8" y="9"/>
                  </a:lnTo>
                  <a:lnTo>
                    <a:pt x="0" y="15"/>
                  </a:lnTo>
                  <a:lnTo>
                    <a:pt x="14" y="35"/>
                  </a:lnTo>
                  <a:lnTo>
                    <a:pt x="26" y="26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6630840" y="3816360"/>
              <a:ext cx="6048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4"/>
                  </a:moveTo>
                  <a:lnTo>
                    <a:pt x="18" y="0"/>
                  </a:lnTo>
                  <a:lnTo>
                    <a:pt x="12" y="8"/>
                  </a:lnTo>
                  <a:lnTo>
                    <a:pt x="6" y="2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15" y="29"/>
                  </a:lnTo>
                  <a:lnTo>
                    <a:pt x="23" y="37"/>
                  </a:lnTo>
                  <a:lnTo>
                    <a:pt x="29" y="26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6997680" y="35956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9" y="142"/>
                  </a:moveTo>
                  <a:lnTo>
                    <a:pt x="142" y="61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6649920" y="3687840"/>
              <a:ext cx="216000" cy="191880"/>
            </a:xfrm>
            <a:custGeom>
              <a:avLst/>
              <a:gdLst/>
              <a:ahLst/>
              <a:rect l="l" t="t" r="r" b="b"/>
              <a:pathLst>
                <a:path w="136" h="121">
                  <a:moveTo>
                    <a:pt x="81" y="0"/>
                  </a:moveTo>
                  <a:lnTo>
                    <a:pt x="0" y="121"/>
                  </a:lnTo>
                  <a:lnTo>
                    <a:pt x="136" y="69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8" name=""/>
          <p:cNvSpPr/>
          <p:nvPr/>
        </p:nvSpPr>
        <p:spPr>
          <a:xfrm>
            <a:off x="2763720" y="3908520"/>
            <a:ext cx="306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>
            <a:off x="2817720" y="3940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>
            <a:off x="2936160" y="4032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1" name=""/>
          <p:cNvGrpSpPr/>
          <p:nvPr/>
        </p:nvGrpSpPr>
        <p:grpSpPr>
          <a:xfrm>
            <a:off x="3089160" y="1282680"/>
            <a:ext cx="96840" cy="3225960"/>
            <a:chOff x="3089160" y="1282680"/>
            <a:chExt cx="96840" cy="3225960"/>
          </a:xfrm>
        </p:grpSpPr>
        <p:sp>
          <p:nvSpPr>
            <p:cNvPr id="4522" name=""/>
            <p:cNvSpPr/>
            <p:nvPr/>
          </p:nvSpPr>
          <p:spPr>
            <a:xfrm>
              <a:off x="31352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30891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4" name=""/>
          <p:cNvGrpSpPr/>
          <p:nvPr/>
        </p:nvGrpSpPr>
        <p:grpSpPr>
          <a:xfrm>
            <a:off x="560520" y="4467240"/>
            <a:ext cx="3230280" cy="96840"/>
            <a:chOff x="560520" y="4467240"/>
            <a:chExt cx="3230280" cy="96840"/>
          </a:xfrm>
        </p:grpSpPr>
        <p:sp>
          <p:nvSpPr>
            <p:cNvPr id="4525" name=""/>
            <p:cNvSpPr/>
            <p:nvPr/>
          </p:nvSpPr>
          <p:spPr>
            <a:xfrm>
              <a:off x="647640" y="4518000"/>
              <a:ext cx="314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560520" y="44672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0"/>
                  </a:moveTo>
                  <a:lnTo>
                    <a:pt x="0" y="32"/>
                  </a:lnTo>
                  <a:lnTo>
                    <a:pt x="61" y="6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7" name=""/>
          <p:cNvGrpSpPr/>
          <p:nvPr/>
        </p:nvGrpSpPr>
        <p:grpSpPr>
          <a:xfrm>
            <a:off x="1630440" y="3879720"/>
            <a:ext cx="761760" cy="628920"/>
            <a:chOff x="1630440" y="3879720"/>
            <a:chExt cx="761760" cy="628920"/>
          </a:xfrm>
        </p:grpSpPr>
        <p:sp>
          <p:nvSpPr>
            <p:cNvPr id="4528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0" name=""/>
          <p:cNvSpPr/>
          <p:nvPr/>
        </p:nvSpPr>
        <p:spPr>
          <a:xfrm flipV="1">
            <a:off x="2359080" y="1728720"/>
            <a:ext cx="90468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1" name=""/>
          <p:cNvGrpSpPr/>
          <p:nvPr/>
        </p:nvGrpSpPr>
        <p:grpSpPr>
          <a:xfrm>
            <a:off x="1055520" y="4022640"/>
            <a:ext cx="817560" cy="473040"/>
            <a:chOff x="1055520" y="4022640"/>
            <a:chExt cx="817560" cy="473040"/>
          </a:xfrm>
        </p:grpSpPr>
        <p:sp>
          <p:nvSpPr>
            <p:cNvPr id="4532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  <a:lnTo>
                    <a:pt x="0" y="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4" name=""/>
          <p:cNvSpPr/>
          <p:nvPr/>
        </p:nvSpPr>
        <p:spPr>
          <a:xfrm flipV="1">
            <a:off x="1887480" y="1539360"/>
            <a:ext cx="963720" cy="249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 flipH="1" flipV="1">
            <a:off x="1800360" y="3158640"/>
            <a:ext cx="133488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2460600" y="3821040"/>
            <a:ext cx="67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2101680" y="3476520"/>
            <a:ext cx="103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3222720" y="1255680"/>
            <a:ext cx="30636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>
            <a:off x="32911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33555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>
            <a:off x="652320" y="4568760"/>
            <a:ext cx="495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>
            <a:off x="72216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3" name=""/>
          <p:cNvSpPr/>
          <p:nvPr/>
        </p:nvSpPr>
        <p:spPr>
          <a:xfrm>
            <a:off x="92304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"/>
          <p:cNvSpPr/>
          <p:nvPr/>
        </p:nvSpPr>
        <p:spPr>
          <a:xfrm>
            <a:off x="6676920" y="3408480"/>
            <a:ext cx="5367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5" name=""/>
          <p:cNvGrpSpPr/>
          <p:nvPr/>
        </p:nvGrpSpPr>
        <p:grpSpPr>
          <a:xfrm>
            <a:off x="7176960" y="1282680"/>
            <a:ext cx="96840" cy="3225960"/>
            <a:chOff x="7176960" y="1282680"/>
            <a:chExt cx="96840" cy="3225960"/>
          </a:xfrm>
        </p:grpSpPr>
        <p:sp>
          <p:nvSpPr>
            <p:cNvPr id="4546" name=""/>
            <p:cNvSpPr/>
            <p:nvPr/>
          </p:nvSpPr>
          <p:spPr>
            <a:xfrm>
              <a:off x="72230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71769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8" name=""/>
          <p:cNvGrpSpPr/>
          <p:nvPr/>
        </p:nvGrpSpPr>
        <p:grpSpPr>
          <a:xfrm>
            <a:off x="4649760" y="4467240"/>
            <a:ext cx="3224160" cy="96840"/>
            <a:chOff x="4649760" y="4467240"/>
            <a:chExt cx="3224160" cy="96840"/>
          </a:xfrm>
        </p:grpSpPr>
        <p:sp>
          <p:nvSpPr>
            <p:cNvPr id="4549" name=""/>
            <p:cNvSpPr/>
            <p:nvPr/>
          </p:nvSpPr>
          <p:spPr>
            <a:xfrm>
              <a:off x="4735440" y="4518000"/>
              <a:ext cx="313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4649760" y="446724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60" y="0"/>
                  </a:moveTo>
                  <a:lnTo>
                    <a:pt x="0" y="32"/>
                  </a:lnTo>
                  <a:lnTo>
                    <a:pt x="60" y="6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1" name=""/>
          <p:cNvSpPr/>
          <p:nvPr/>
        </p:nvSpPr>
        <p:spPr>
          <a:xfrm>
            <a:off x="5740560" y="1371600"/>
            <a:ext cx="1447560" cy="3162240"/>
          </a:xfrm>
          <a:custGeom>
            <a:avLst/>
            <a:gdLst/>
            <a:ahLst/>
            <a:rect l="l" t="t" r="r" b="b"/>
            <a:pathLst>
              <a:path w="912" h="1992">
                <a:moveTo>
                  <a:pt x="0" y="1992"/>
                </a:moveTo>
                <a:lnTo>
                  <a:pt x="160" y="1920"/>
                </a:lnTo>
                <a:lnTo>
                  <a:pt x="256" y="1840"/>
                </a:lnTo>
                <a:lnTo>
                  <a:pt x="344" y="1720"/>
                </a:lnTo>
                <a:lnTo>
                  <a:pt x="448" y="1472"/>
                </a:lnTo>
                <a:lnTo>
                  <a:pt x="552" y="1144"/>
                </a:lnTo>
                <a:lnTo>
                  <a:pt x="696" y="704"/>
                </a:lnTo>
                <a:lnTo>
                  <a:pt x="912" y="0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2" name=""/>
          <p:cNvSpPr/>
          <p:nvPr/>
        </p:nvSpPr>
        <p:spPr>
          <a:xfrm flipH="1" flipV="1">
            <a:off x="6319800" y="2948040"/>
            <a:ext cx="889200" cy="15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>
            <a:off x="6637320" y="3424320"/>
            <a:ext cx="573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>
            <a:off x="6548400" y="3332160"/>
            <a:ext cx="67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>
            <a:off x="7305840" y="1255680"/>
            <a:ext cx="3078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73789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74433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4740120" y="4568760"/>
            <a:ext cx="4971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480528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500616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1" name=""/>
          <p:cNvGrpSpPr/>
          <p:nvPr/>
        </p:nvGrpSpPr>
        <p:grpSpPr>
          <a:xfrm>
            <a:off x="6080040" y="3328920"/>
            <a:ext cx="1143000" cy="1193760"/>
            <a:chOff x="6080040" y="3328920"/>
            <a:chExt cx="1143000" cy="1193760"/>
          </a:xfrm>
        </p:grpSpPr>
        <p:sp>
          <p:nvSpPr>
            <p:cNvPr id="4562" name=""/>
            <p:cNvSpPr/>
            <p:nvPr/>
          </p:nvSpPr>
          <p:spPr>
            <a:xfrm>
              <a:off x="7080120" y="437508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6883560" y="4164120"/>
              <a:ext cx="137880" cy="147600"/>
            </a:xfrm>
            <a:custGeom>
              <a:avLst/>
              <a:gdLst/>
              <a:ahLst/>
              <a:rect l="l" t="t" r="r" b="b"/>
              <a:pathLst>
                <a:path w="87" h="93">
                  <a:moveTo>
                    <a:pt x="69" y="93"/>
                  </a:moveTo>
                  <a:lnTo>
                    <a:pt x="87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6681960" y="3957480"/>
              <a:ext cx="142560" cy="14796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2" y="93"/>
                  </a:moveTo>
                  <a:lnTo>
                    <a:pt x="90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6485040" y="3746520"/>
              <a:ext cx="136440" cy="147600"/>
            </a:xfrm>
            <a:custGeom>
              <a:avLst/>
              <a:gdLst/>
              <a:ahLst/>
              <a:rect l="l" t="t" r="r" b="b"/>
              <a:pathLst>
                <a:path w="86" h="93">
                  <a:moveTo>
                    <a:pt x="69" y="93"/>
                  </a:moveTo>
                  <a:lnTo>
                    <a:pt x="86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6283440" y="354024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72" y="93"/>
                  </a:moveTo>
                  <a:lnTo>
                    <a:pt x="89" y="75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6080040" y="332892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8" name=""/>
          <p:cNvSpPr/>
          <p:nvPr/>
        </p:nvSpPr>
        <p:spPr>
          <a:xfrm>
            <a:off x="6934320" y="3733920"/>
            <a:ext cx="26676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6970680" y="3770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7089120" y="3862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>
            <a:off x="538200" y="4981680"/>
            <a:ext cx="815328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375840" y="5283360"/>
            <a:ext cx="8449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reślenie zmian prądu dren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przy rozrzucie charakterystyk; b) przy zmianach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>
            <a:off x="3189960" y="3414600"/>
            <a:ext cx="59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7487640" y="3487680"/>
            <a:ext cx="75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S 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5435640" y="2158920"/>
            <a:ext cx="1778040" cy="2362320"/>
          </a:xfrm>
          <a:custGeom>
            <a:avLst/>
            <a:gdLst/>
            <a:ahLst/>
            <a:rect l="l" t="t" r="r" b="b"/>
            <a:pathLst>
              <a:path w="1120" h="1488">
                <a:moveTo>
                  <a:pt x="0" y="1488"/>
                </a:moveTo>
                <a:cubicBezTo>
                  <a:pt x="54" y="1482"/>
                  <a:pt x="103" y="1475"/>
                  <a:pt x="168" y="1448"/>
                </a:cubicBezTo>
                <a:cubicBezTo>
                  <a:pt x="233" y="1421"/>
                  <a:pt x="313" y="1408"/>
                  <a:pt x="392" y="1328"/>
                </a:cubicBezTo>
                <a:cubicBezTo>
                  <a:pt x="471" y="1248"/>
                  <a:pt x="565" y="1088"/>
                  <a:pt x="640" y="968"/>
                </a:cubicBezTo>
                <a:cubicBezTo>
                  <a:pt x="715" y="848"/>
                  <a:pt x="760" y="769"/>
                  <a:pt x="840" y="608"/>
                </a:cubicBezTo>
                <a:cubicBezTo>
                  <a:pt x="920" y="447"/>
                  <a:pt x="1062" y="127"/>
                  <a:pt x="112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7291800" y="3043080"/>
            <a:ext cx="129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e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większej stałości prądu dr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9" name=""/>
          <p:cNvGrpSpPr/>
          <p:nvPr/>
        </p:nvGrpSpPr>
        <p:grpSpPr>
          <a:xfrm>
            <a:off x="210960" y="1195560"/>
            <a:ext cx="8933040" cy="5152680"/>
            <a:chOff x="210960" y="1195560"/>
            <a:chExt cx="8933040" cy="5152680"/>
          </a:xfrm>
        </p:grpSpPr>
        <p:sp>
          <p:nvSpPr>
            <p:cNvPr id="4580" name=""/>
            <p:cNvSpPr/>
            <p:nvPr/>
          </p:nvSpPr>
          <p:spPr>
            <a:xfrm>
              <a:off x="295200" y="3519360"/>
              <a:ext cx="365040" cy="30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361800" y="3556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485280" y="365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5121360" y="3684600"/>
              <a:ext cx="66024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5135400" y="3898800"/>
              <a:ext cx="7081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5" name=""/>
            <p:cNvGrpSpPr/>
            <p:nvPr/>
          </p:nvGrpSpPr>
          <p:grpSpPr>
            <a:xfrm>
              <a:off x="4227480" y="4216320"/>
              <a:ext cx="698400" cy="507960"/>
              <a:chOff x="4227480" y="4216320"/>
              <a:chExt cx="698400" cy="507960"/>
            </a:xfrm>
          </p:grpSpPr>
          <p:sp>
            <p:nvSpPr>
              <p:cNvPr id="4586" name=""/>
              <p:cNvSpPr/>
              <p:nvPr/>
            </p:nvSpPr>
            <p:spPr>
              <a:xfrm>
                <a:off x="4227480" y="4216320"/>
                <a:ext cx="684360" cy="493920"/>
              </a:xfrm>
              <a:custGeom>
                <a:avLst/>
                <a:gdLst/>
                <a:ahLst/>
                <a:rect l="l" t="t" r="r" b="b"/>
                <a:pathLst>
                  <a:path w="431" h="311">
                    <a:moveTo>
                      <a:pt x="0" y="311"/>
                    </a:moveTo>
                    <a:lnTo>
                      <a:pt x="45" y="308"/>
                    </a:lnTo>
                    <a:lnTo>
                      <a:pt x="87" y="305"/>
                    </a:lnTo>
                    <a:lnTo>
                      <a:pt x="168" y="287"/>
                    </a:lnTo>
                    <a:lnTo>
                      <a:pt x="243" y="257"/>
                    </a:lnTo>
                    <a:lnTo>
                      <a:pt x="306" y="218"/>
                    </a:lnTo>
                    <a:lnTo>
                      <a:pt x="332" y="198"/>
                    </a:lnTo>
                    <a:lnTo>
                      <a:pt x="359" y="174"/>
                    </a:lnTo>
                    <a:lnTo>
                      <a:pt x="380" y="147"/>
                    </a:lnTo>
                    <a:lnTo>
                      <a:pt x="398" y="120"/>
                    </a:lnTo>
                    <a:lnTo>
                      <a:pt x="413" y="93"/>
                    </a:lnTo>
                    <a:lnTo>
                      <a:pt x="422" y="63"/>
                    </a:lnTo>
                    <a:lnTo>
                      <a:pt x="428" y="33"/>
                    </a:lnTo>
                    <a:lnTo>
                      <a:pt x="431" y="0"/>
                    </a:lnTo>
                    <a:lnTo>
                      <a:pt x="0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4227480" y="4216320"/>
                <a:ext cx="698400" cy="507960"/>
              </a:xfrm>
              <a:custGeom>
                <a:avLst/>
                <a:gdLst/>
                <a:ahLst/>
                <a:rect l="l" t="t" r="r" b="b"/>
                <a:pathLst>
                  <a:path w="440" h="320">
                    <a:moveTo>
                      <a:pt x="0" y="302"/>
                    </a:moveTo>
                    <a:lnTo>
                      <a:pt x="0" y="320"/>
                    </a:lnTo>
                    <a:lnTo>
                      <a:pt x="42" y="317"/>
                    </a:lnTo>
                    <a:lnTo>
                      <a:pt x="45" y="317"/>
                    </a:lnTo>
                    <a:lnTo>
                      <a:pt x="90" y="314"/>
                    </a:lnTo>
                    <a:lnTo>
                      <a:pt x="171" y="296"/>
                    </a:lnTo>
                    <a:lnTo>
                      <a:pt x="243" y="266"/>
                    </a:lnTo>
                    <a:lnTo>
                      <a:pt x="246" y="266"/>
                    </a:lnTo>
                    <a:lnTo>
                      <a:pt x="311" y="227"/>
                    </a:lnTo>
                    <a:lnTo>
                      <a:pt x="338" y="206"/>
                    </a:lnTo>
                    <a:lnTo>
                      <a:pt x="362" y="180"/>
                    </a:lnTo>
                    <a:lnTo>
                      <a:pt x="365" y="177"/>
                    </a:lnTo>
                    <a:lnTo>
                      <a:pt x="386" y="153"/>
                    </a:lnTo>
                    <a:lnTo>
                      <a:pt x="404" y="126"/>
                    </a:lnTo>
                    <a:lnTo>
                      <a:pt x="419" y="96"/>
                    </a:lnTo>
                    <a:lnTo>
                      <a:pt x="422" y="93"/>
                    </a:lnTo>
                    <a:lnTo>
                      <a:pt x="431" y="63"/>
                    </a:lnTo>
                    <a:lnTo>
                      <a:pt x="437" y="33"/>
                    </a:lnTo>
                    <a:lnTo>
                      <a:pt x="437" y="30"/>
                    </a:lnTo>
                    <a:lnTo>
                      <a:pt x="440" y="0"/>
                    </a:lnTo>
                    <a:lnTo>
                      <a:pt x="422" y="0"/>
                    </a:lnTo>
                    <a:lnTo>
                      <a:pt x="419" y="33"/>
                    </a:lnTo>
                    <a:lnTo>
                      <a:pt x="428" y="33"/>
                    </a:lnTo>
                    <a:lnTo>
                      <a:pt x="419" y="30"/>
                    </a:lnTo>
                    <a:lnTo>
                      <a:pt x="413" y="60"/>
                    </a:lnTo>
                    <a:lnTo>
                      <a:pt x="404" y="90"/>
                    </a:lnTo>
                    <a:lnTo>
                      <a:pt x="413" y="93"/>
                    </a:lnTo>
                    <a:lnTo>
                      <a:pt x="404" y="87"/>
                    </a:lnTo>
                    <a:lnTo>
                      <a:pt x="389" y="117"/>
                    </a:lnTo>
                    <a:lnTo>
                      <a:pt x="371" y="144"/>
                    </a:lnTo>
                    <a:lnTo>
                      <a:pt x="350" y="168"/>
                    </a:lnTo>
                    <a:lnTo>
                      <a:pt x="359" y="174"/>
                    </a:lnTo>
                    <a:lnTo>
                      <a:pt x="353" y="165"/>
                    </a:lnTo>
                    <a:lnTo>
                      <a:pt x="329" y="192"/>
                    </a:lnTo>
                    <a:lnTo>
                      <a:pt x="303" y="212"/>
                    </a:lnTo>
                    <a:lnTo>
                      <a:pt x="237" y="251"/>
                    </a:lnTo>
                    <a:lnTo>
                      <a:pt x="243" y="257"/>
                    </a:lnTo>
                    <a:lnTo>
                      <a:pt x="240" y="248"/>
                    </a:lnTo>
                    <a:lnTo>
                      <a:pt x="168" y="278"/>
                    </a:lnTo>
                    <a:lnTo>
                      <a:pt x="87" y="296"/>
                    </a:lnTo>
                    <a:lnTo>
                      <a:pt x="42" y="299"/>
                    </a:lnTo>
                    <a:lnTo>
                      <a:pt x="45" y="308"/>
                    </a:lnTo>
                    <a:lnTo>
                      <a:pt x="45" y="299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8" name=""/>
            <p:cNvSpPr/>
            <p:nvPr/>
          </p:nvSpPr>
          <p:spPr>
            <a:xfrm>
              <a:off x="3724200" y="4040280"/>
              <a:ext cx="9558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4959360" y="2093760"/>
              <a:ext cx="655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5067000" y="1865160"/>
              <a:ext cx="498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1" name=""/>
            <p:cNvGrpSpPr/>
            <p:nvPr/>
          </p:nvGrpSpPr>
          <p:grpSpPr>
            <a:xfrm>
              <a:off x="8474040" y="4216320"/>
              <a:ext cx="357120" cy="271440"/>
              <a:chOff x="8474040" y="4216320"/>
              <a:chExt cx="357120" cy="271440"/>
            </a:xfrm>
          </p:grpSpPr>
          <p:sp>
            <p:nvSpPr>
              <p:cNvPr id="4592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  <a:lnTo>
                      <a:pt x="225" y="171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4" name=""/>
            <p:cNvSpPr/>
            <p:nvPr/>
          </p:nvSpPr>
          <p:spPr>
            <a:xfrm>
              <a:off x="8369280" y="3936960"/>
              <a:ext cx="31896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8426520" y="3970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8550000" y="4064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7" name=""/>
            <p:cNvGrpSpPr/>
            <p:nvPr/>
          </p:nvGrpSpPr>
          <p:grpSpPr>
            <a:xfrm>
              <a:off x="5891040" y="1353960"/>
              <a:ext cx="98640" cy="3337200"/>
              <a:chOff x="5891040" y="1353960"/>
              <a:chExt cx="98640" cy="3337200"/>
            </a:xfrm>
          </p:grpSpPr>
          <p:sp>
            <p:nvSpPr>
              <p:cNvPr id="4598" name=""/>
              <p:cNvSpPr/>
              <p:nvPr/>
            </p:nvSpPr>
            <p:spPr>
              <a:xfrm>
                <a:off x="5937120" y="1444680"/>
                <a:ext cx="1800" cy="32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5891040" y="135396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  <a:lnTo>
                      <a:pt x="6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0" name=""/>
            <p:cNvGrpSpPr/>
            <p:nvPr/>
          </p:nvGrpSpPr>
          <p:grpSpPr>
            <a:xfrm>
              <a:off x="3273480" y="4643280"/>
              <a:ext cx="5870520" cy="100080"/>
              <a:chOff x="3273480" y="4643280"/>
              <a:chExt cx="5870520" cy="100080"/>
            </a:xfrm>
          </p:grpSpPr>
          <p:sp>
            <p:nvSpPr>
              <p:cNvPr id="4601" name=""/>
              <p:cNvSpPr/>
              <p:nvPr/>
            </p:nvSpPr>
            <p:spPr>
              <a:xfrm flipH="1">
                <a:off x="3273480" y="4691160"/>
                <a:ext cx="578016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9043920" y="464328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0" y="63"/>
                    </a:moveTo>
                    <a:lnTo>
                      <a:pt x="63" y="30"/>
                    </a:lnTo>
                    <a:lnTo>
                      <a:pt x="0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3" name=""/>
            <p:cNvGrpSpPr/>
            <p:nvPr/>
          </p:nvGrpSpPr>
          <p:grpSpPr>
            <a:xfrm>
              <a:off x="3533760" y="4440240"/>
              <a:ext cx="860400" cy="264960"/>
              <a:chOff x="3533760" y="4440240"/>
              <a:chExt cx="860400" cy="264960"/>
            </a:xfrm>
          </p:grpSpPr>
          <p:sp>
            <p:nvSpPr>
              <p:cNvPr id="4604" name=""/>
              <p:cNvSpPr/>
              <p:nvPr/>
            </p:nvSpPr>
            <p:spPr>
              <a:xfrm>
                <a:off x="3533760" y="4440240"/>
                <a:ext cx="846000" cy="250920"/>
              </a:xfrm>
              <a:custGeom>
                <a:avLst/>
                <a:gdLst/>
                <a:ahLst/>
                <a:rect l="l" t="t" r="r" b="b"/>
                <a:pathLst>
                  <a:path w="533" h="158">
                    <a:moveTo>
                      <a:pt x="0" y="158"/>
                    </a:moveTo>
                    <a:lnTo>
                      <a:pt x="108" y="155"/>
                    </a:lnTo>
                    <a:lnTo>
                      <a:pt x="207" y="146"/>
                    </a:lnTo>
                    <a:lnTo>
                      <a:pt x="297" y="131"/>
                    </a:lnTo>
                    <a:lnTo>
                      <a:pt x="339" y="122"/>
                    </a:lnTo>
                    <a:lnTo>
                      <a:pt x="377" y="113"/>
                    </a:lnTo>
                    <a:lnTo>
                      <a:pt x="410" y="101"/>
                    </a:lnTo>
                    <a:lnTo>
                      <a:pt x="443" y="89"/>
                    </a:lnTo>
                    <a:lnTo>
                      <a:pt x="467" y="77"/>
                    </a:lnTo>
                    <a:lnTo>
                      <a:pt x="491" y="62"/>
                    </a:lnTo>
                    <a:lnTo>
                      <a:pt x="509" y="48"/>
                    </a:lnTo>
                    <a:lnTo>
                      <a:pt x="521" y="33"/>
                    </a:lnTo>
                    <a:lnTo>
                      <a:pt x="530" y="18"/>
                    </a:lnTo>
                    <a:lnTo>
                      <a:pt x="533" y="0"/>
                    </a:lnTo>
                    <a:lnTo>
                      <a:pt x="0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3533760" y="4440240"/>
                <a:ext cx="860400" cy="264960"/>
              </a:xfrm>
              <a:custGeom>
                <a:avLst/>
                <a:gdLst/>
                <a:ahLst/>
                <a:rect l="l" t="t" r="r" b="b"/>
                <a:pathLst>
                  <a:path w="542" h="167">
                    <a:moveTo>
                      <a:pt x="0" y="149"/>
                    </a:moveTo>
                    <a:lnTo>
                      <a:pt x="0" y="167"/>
                    </a:lnTo>
                    <a:lnTo>
                      <a:pt x="105" y="164"/>
                    </a:lnTo>
                    <a:lnTo>
                      <a:pt x="108" y="164"/>
                    </a:lnTo>
                    <a:lnTo>
                      <a:pt x="210" y="155"/>
                    </a:lnTo>
                    <a:lnTo>
                      <a:pt x="300" y="140"/>
                    </a:lnTo>
                    <a:lnTo>
                      <a:pt x="342" y="131"/>
                    </a:lnTo>
                    <a:lnTo>
                      <a:pt x="377" y="122"/>
                    </a:lnTo>
                    <a:lnTo>
                      <a:pt x="413" y="110"/>
                    </a:lnTo>
                    <a:lnTo>
                      <a:pt x="443" y="98"/>
                    </a:lnTo>
                    <a:lnTo>
                      <a:pt x="470" y="86"/>
                    </a:lnTo>
                    <a:lnTo>
                      <a:pt x="473" y="83"/>
                    </a:lnTo>
                    <a:lnTo>
                      <a:pt x="497" y="68"/>
                    </a:lnTo>
                    <a:lnTo>
                      <a:pt x="515" y="57"/>
                    </a:lnTo>
                    <a:lnTo>
                      <a:pt x="518" y="54"/>
                    </a:lnTo>
                    <a:lnTo>
                      <a:pt x="530" y="36"/>
                    </a:lnTo>
                    <a:lnTo>
                      <a:pt x="539" y="21"/>
                    </a:lnTo>
                    <a:lnTo>
                      <a:pt x="539" y="18"/>
                    </a:lnTo>
                    <a:lnTo>
                      <a:pt x="539" y="15"/>
                    </a:lnTo>
                    <a:lnTo>
                      <a:pt x="542" y="0"/>
                    </a:lnTo>
                    <a:lnTo>
                      <a:pt x="524" y="0"/>
                    </a:lnTo>
                    <a:lnTo>
                      <a:pt x="521" y="18"/>
                    </a:lnTo>
                    <a:lnTo>
                      <a:pt x="521" y="15"/>
                    </a:lnTo>
                    <a:lnTo>
                      <a:pt x="521" y="18"/>
                    </a:lnTo>
                    <a:lnTo>
                      <a:pt x="530" y="18"/>
                    </a:lnTo>
                    <a:lnTo>
                      <a:pt x="524" y="12"/>
                    </a:lnTo>
                    <a:lnTo>
                      <a:pt x="515" y="27"/>
                    </a:lnTo>
                    <a:lnTo>
                      <a:pt x="503" y="45"/>
                    </a:lnTo>
                    <a:lnTo>
                      <a:pt x="509" y="48"/>
                    </a:lnTo>
                    <a:lnTo>
                      <a:pt x="506" y="42"/>
                    </a:lnTo>
                    <a:lnTo>
                      <a:pt x="488" y="54"/>
                    </a:lnTo>
                    <a:lnTo>
                      <a:pt x="464" y="68"/>
                    </a:lnTo>
                    <a:lnTo>
                      <a:pt x="467" y="77"/>
                    </a:lnTo>
                    <a:lnTo>
                      <a:pt x="467" y="68"/>
                    </a:lnTo>
                    <a:lnTo>
                      <a:pt x="440" y="80"/>
                    </a:lnTo>
                    <a:lnTo>
                      <a:pt x="410" y="92"/>
                    </a:lnTo>
                    <a:lnTo>
                      <a:pt x="374" y="104"/>
                    </a:lnTo>
                    <a:lnTo>
                      <a:pt x="339" y="113"/>
                    </a:lnTo>
                    <a:lnTo>
                      <a:pt x="297" y="122"/>
                    </a:lnTo>
                    <a:lnTo>
                      <a:pt x="207" y="137"/>
                    </a:lnTo>
                    <a:lnTo>
                      <a:pt x="105" y="146"/>
                    </a:lnTo>
                    <a:lnTo>
                      <a:pt x="108" y="155"/>
                    </a:lnTo>
                    <a:lnTo>
                      <a:pt x="108" y="146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6" name=""/>
            <p:cNvSpPr/>
            <p:nvPr/>
          </p:nvSpPr>
          <p:spPr>
            <a:xfrm>
              <a:off x="4370400" y="2844720"/>
              <a:ext cx="1724040" cy="1652760"/>
            </a:xfrm>
            <a:custGeom>
              <a:avLst/>
              <a:gdLst/>
              <a:ahLst/>
              <a:rect l="l" t="t" r="r" b="b"/>
              <a:pathLst>
                <a:path w="1086" h="1041">
                  <a:moveTo>
                    <a:pt x="0" y="1029"/>
                  </a:moveTo>
                  <a:lnTo>
                    <a:pt x="12" y="1041"/>
                  </a:lnTo>
                  <a:lnTo>
                    <a:pt x="1086" y="12"/>
                  </a:lnTo>
                  <a:lnTo>
                    <a:pt x="1074" y="0"/>
                  </a:lnTo>
                  <a:lnTo>
                    <a:pt x="0" y="10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4854600" y="1795320"/>
              <a:ext cx="1022400" cy="2592360"/>
            </a:xfrm>
            <a:custGeom>
              <a:avLst/>
              <a:gdLst/>
              <a:ahLst/>
              <a:rect l="l" t="t" r="r" b="b"/>
              <a:pathLst>
                <a:path w="644" h="1633">
                  <a:moveTo>
                    <a:pt x="0" y="1627"/>
                  </a:moveTo>
                  <a:lnTo>
                    <a:pt x="18" y="1633"/>
                  </a:lnTo>
                  <a:lnTo>
                    <a:pt x="644" y="6"/>
                  </a:lnTo>
                  <a:lnTo>
                    <a:pt x="626" y="0"/>
                  </a:lnTo>
                  <a:lnTo>
                    <a:pt x="0" y="162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5159520" y="2987640"/>
              <a:ext cx="3722400" cy="1717560"/>
            </a:xfrm>
            <a:custGeom>
              <a:avLst/>
              <a:gdLst/>
              <a:ahLst/>
              <a:rect l="l" t="t" r="r" b="b"/>
              <a:pathLst>
                <a:path w="2345" h="1082">
                  <a:moveTo>
                    <a:pt x="2339" y="1082"/>
                  </a:moveTo>
                  <a:lnTo>
                    <a:pt x="2345" y="1064"/>
                  </a:lnTo>
                  <a:lnTo>
                    <a:pt x="6" y="0"/>
                  </a:lnTo>
                  <a:lnTo>
                    <a:pt x="0" y="18"/>
                  </a:lnTo>
                  <a:lnTo>
                    <a:pt x="2339" y="1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4883040" y="3119400"/>
              <a:ext cx="148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4883040" y="3448080"/>
              <a:ext cx="57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7643880" y="4719600"/>
              <a:ext cx="51264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7741800" y="475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7884720" y="485316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4" name=""/>
            <p:cNvGrpSpPr/>
            <p:nvPr/>
          </p:nvGrpSpPr>
          <p:grpSpPr>
            <a:xfrm>
              <a:off x="5197320" y="2701800"/>
              <a:ext cx="739800" cy="1994040"/>
              <a:chOff x="5197320" y="2701800"/>
              <a:chExt cx="739800" cy="1994040"/>
            </a:xfrm>
          </p:grpSpPr>
          <p:sp>
            <p:nvSpPr>
              <p:cNvPr id="4615" name=""/>
              <p:cNvSpPr/>
              <p:nvPr/>
            </p:nvSpPr>
            <p:spPr>
              <a:xfrm>
                <a:off x="5899320" y="466236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5881680" y="461016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6" y="18"/>
                    </a:moveTo>
                    <a:lnTo>
                      <a:pt x="23" y="15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5862600" y="455292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5843520" y="45021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5824440" y="44496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5805360" y="439272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5786280" y="4340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5767560" y="428796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5748480" y="423072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5729400" y="4178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5710320" y="41259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5686560" y="4073400"/>
                <a:ext cx="42840" cy="288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9" y="18"/>
                    </a:moveTo>
                    <a:lnTo>
                      <a:pt x="27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5667480" y="40179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7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5648400" y="39654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5629320" y="39132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5610240" y="3855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5591160" y="38037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5572080" y="37512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5553000" y="3693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5533920" y="36417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5514840" y="35892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5495760" y="35384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6" y="17"/>
                    </a:moveTo>
                    <a:lnTo>
                      <a:pt x="24" y="14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5477040" y="3481560"/>
                <a:ext cx="3780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5457960" y="342900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5438880" y="33764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5419800" y="33195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5400720" y="3267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5381640" y="32148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5362560" y="31622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5343480" y="3105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5324400" y="305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5305320" y="3002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5288040" y="2944800"/>
                <a:ext cx="3636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5268960" y="2892600"/>
                <a:ext cx="36360" cy="331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5245200" y="2840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5226120" y="278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5207040" y="27306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5197320" y="2701800"/>
                <a:ext cx="28800" cy="504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0" y="3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3" name=""/>
            <p:cNvSpPr/>
            <p:nvPr/>
          </p:nvSpPr>
          <p:spPr>
            <a:xfrm>
              <a:off x="5715000" y="3238560"/>
              <a:ext cx="6508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8853480" y="3965400"/>
              <a:ext cx="144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6365880" y="2673360"/>
              <a:ext cx="447840" cy="236520"/>
            </a:xfrm>
            <a:custGeom>
              <a:avLst/>
              <a:gdLst/>
              <a:ahLst/>
              <a:rect l="l" t="t" r="r" b="b"/>
              <a:pathLst>
                <a:path w="282" h="149">
                  <a:moveTo>
                    <a:pt x="0" y="149"/>
                  </a:moveTo>
                  <a:lnTo>
                    <a:pt x="141" y="0"/>
                  </a:lnTo>
                  <a:lnTo>
                    <a:pt x="2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6851160" y="2378160"/>
              <a:ext cx="2230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akładana, maksymal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miana prądu dren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68904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77004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770040" y="2820960"/>
              <a:ext cx="144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290520" y="2494080"/>
              <a:ext cx="3459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3715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495000" y="2625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1673280" y="4040280"/>
              <a:ext cx="6192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1065240" y="2897280"/>
              <a:ext cx="541440" cy="51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1392120" y="2944800"/>
              <a:ext cx="1800" cy="4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1392120" y="3016080"/>
              <a:ext cx="166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 flipV="1">
              <a:off x="1392120" y="3262320"/>
              <a:ext cx="1954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8" name=""/>
            <p:cNvGrpSpPr/>
            <p:nvPr/>
          </p:nvGrpSpPr>
          <p:grpSpPr>
            <a:xfrm>
              <a:off x="1098360" y="3214800"/>
              <a:ext cx="293760" cy="109440"/>
              <a:chOff x="1098360" y="3214800"/>
              <a:chExt cx="293760" cy="109440"/>
            </a:xfrm>
          </p:grpSpPr>
          <p:sp>
            <p:nvSpPr>
              <p:cNvPr id="4669" name=""/>
              <p:cNvSpPr/>
              <p:nvPr/>
            </p:nvSpPr>
            <p:spPr>
              <a:xfrm flipH="1">
                <a:off x="1098360" y="3267000"/>
                <a:ext cx="29340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1287360" y="3214800"/>
                <a:ext cx="104760" cy="10944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0" y="69"/>
                    </a:moveTo>
                    <a:lnTo>
                      <a:pt x="66" y="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1" name=""/>
            <p:cNvSpPr/>
            <p:nvPr/>
          </p:nvSpPr>
          <p:spPr>
            <a:xfrm>
              <a:off x="1558800" y="3016080"/>
              <a:ext cx="133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1587600" y="3267000"/>
              <a:ext cx="137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770040" y="3267000"/>
              <a:ext cx="32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89040" y="3443400"/>
              <a:ext cx="16668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770040" y="3281400"/>
              <a:ext cx="144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770040" y="3860640"/>
              <a:ext cx="144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907920" y="3533760"/>
              <a:ext cx="34632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98424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110772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1625760" y="3443400"/>
              <a:ext cx="16020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1706400" y="3281400"/>
              <a:ext cx="180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1706400" y="386064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1843200" y="3533760"/>
              <a:ext cx="34740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191916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204264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159696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167796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1677960" y="2820960"/>
              <a:ext cx="14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1809720" y="2494080"/>
              <a:ext cx="3477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18763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1999800" y="2625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70040" y="2227320"/>
              <a:ext cx="1158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70040" y="4068720"/>
              <a:ext cx="1368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736560" y="3238560"/>
              <a:ext cx="619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1639800" y="2198520"/>
              <a:ext cx="6660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6" name=""/>
            <p:cNvGrpSpPr/>
            <p:nvPr/>
          </p:nvGrpSpPr>
          <p:grpSpPr>
            <a:xfrm>
              <a:off x="547560" y="3343320"/>
              <a:ext cx="98640" cy="636480"/>
              <a:chOff x="547560" y="3343320"/>
              <a:chExt cx="98640" cy="636480"/>
            </a:xfrm>
          </p:grpSpPr>
          <p:sp>
            <p:nvSpPr>
              <p:cNvPr id="4697" name=""/>
              <p:cNvSpPr/>
              <p:nvPr/>
            </p:nvSpPr>
            <p:spPr>
              <a:xfrm>
                <a:off x="593640" y="3343320"/>
                <a:ext cx="1800" cy="63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547560" y="334332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9" name=""/>
            <p:cNvSpPr/>
            <p:nvPr/>
          </p:nvSpPr>
          <p:spPr>
            <a:xfrm>
              <a:off x="210960" y="32274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598320" y="4092480"/>
              <a:ext cx="7958160" cy="1814760"/>
            </a:xfrm>
            <a:custGeom>
              <a:avLst/>
              <a:gdLst/>
              <a:ahLst/>
              <a:rect l="l" t="t" r="r" b="b"/>
              <a:pathLst>
                <a:path w="5046" h="1121">
                  <a:moveTo>
                    <a:pt x="0" y="0"/>
                  </a:moveTo>
                  <a:cubicBezTo>
                    <a:pt x="179" y="366"/>
                    <a:pt x="359" y="733"/>
                    <a:pt x="878" y="911"/>
                  </a:cubicBezTo>
                  <a:cubicBezTo>
                    <a:pt x="1397" y="1089"/>
                    <a:pt x="2417" y="1121"/>
                    <a:pt x="3112" y="1066"/>
                  </a:cubicBezTo>
                  <a:cubicBezTo>
                    <a:pt x="3807" y="1011"/>
                    <a:pt x="4426" y="794"/>
                    <a:pt x="5046" y="578"/>
                  </a:cubicBezTo>
                </a:path>
              </a:pathLst>
            </a:custGeom>
            <a:noFill/>
            <a:ln w="28440">
              <a:solidFill>
                <a:srgbClr val="33cc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2795760" y="2967120"/>
              <a:ext cx="191700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Zmiana I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D 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w układz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konwencjonalny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(tzn. bez R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 flipV="1">
              <a:off x="4924440" y="3142800"/>
              <a:ext cx="0" cy="266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 flipV="1">
              <a:off x="6296040" y="3267000"/>
              <a:ext cx="0" cy="495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6296040" y="2610000"/>
              <a:ext cx="0" cy="495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05" name=""/>
                <p:cNvSpPr txBox="1"/>
                <p:nvPr/>
              </p:nvSpPr>
              <p:spPr>
                <a:xfrm>
                  <a:off x="3314880" y="5435640"/>
                  <a:ext cx="2649240" cy="91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706" name=""/>
            <p:cNvSpPr/>
            <p:nvPr/>
          </p:nvSpPr>
          <p:spPr>
            <a:xfrm>
              <a:off x="8510040" y="479268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6111000" y="119556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2063160" y="1952640"/>
              <a:ext cx="65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635040" y="325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oszczone charakterystyki tranzystora bipolarnego w konfiguracji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3040" y="1000440"/>
            <a:ext cx="8047800" cy="5688360"/>
            <a:chOff x="113040" y="1000440"/>
            <a:chExt cx="8047800" cy="5688360"/>
          </a:xfrm>
        </p:grpSpPr>
        <p:sp>
          <p:nvSpPr>
            <p:cNvPr id="169" name=""/>
            <p:cNvSpPr/>
            <p:nvPr/>
          </p:nvSpPr>
          <p:spPr>
            <a:xfrm flipV="1">
              <a:off x="4084920" y="1328760"/>
              <a:ext cx="0" cy="425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03400" y="5605560"/>
              <a:ext cx="628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084920" y="2004840"/>
              <a:ext cx="282600" cy="36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51200" y="1497240"/>
              <a:ext cx="2116080" cy="4108320"/>
            </a:xfrm>
            <a:custGeom>
              <a:avLst/>
              <a:gdLst/>
              <a:ahLst/>
              <a:rect l="l" t="t" r="r" b="b"/>
              <a:pathLst>
                <a:path w="1333" h="2588">
                  <a:moveTo>
                    <a:pt x="1333" y="2588"/>
                  </a:moveTo>
                  <a:cubicBezTo>
                    <a:pt x="1192" y="2586"/>
                    <a:pt x="1052" y="2584"/>
                    <a:pt x="911" y="2577"/>
                  </a:cubicBezTo>
                  <a:cubicBezTo>
                    <a:pt x="770" y="2570"/>
                    <a:pt x="598" y="2568"/>
                    <a:pt x="489" y="2544"/>
                  </a:cubicBezTo>
                  <a:cubicBezTo>
                    <a:pt x="380" y="2520"/>
                    <a:pt x="314" y="2487"/>
                    <a:pt x="255" y="2433"/>
                  </a:cubicBezTo>
                  <a:cubicBezTo>
                    <a:pt x="196" y="2379"/>
                    <a:pt x="164" y="2355"/>
                    <a:pt x="133" y="2222"/>
                  </a:cubicBezTo>
                  <a:cubicBezTo>
                    <a:pt x="102" y="2089"/>
                    <a:pt x="88" y="2003"/>
                    <a:pt x="66" y="1633"/>
                  </a:cubicBezTo>
                  <a:cubicBezTo>
                    <a:pt x="44" y="1263"/>
                    <a:pt x="22" y="631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156200" y="1363680"/>
              <a:ext cx="3033720" cy="3712680"/>
              <a:chOff x="4156200" y="1363680"/>
              <a:chExt cx="3033720" cy="371268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4384800" y="1955880"/>
                <a:ext cx="2803320" cy="528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4314960" y="2677680"/>
                <a:ext cx="2874960" cy="335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4260960" y="3295800"/>
                <a:ext cx="2928960" cy="264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4226040" y="3947760"/>
                <a:ext cx="2946240" cy="15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4191120" y="4512960"/>
                <a:ext cx="2981160" cy="10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4156200" y="5041440"/>
                <a:ext cx="301608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4402080" y="1363680"/>
                <a:ext cx="2735280" cy="62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350520" y="12798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13560" y="535968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12680" y="57420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174560" y="1000440"/>
              <a:ext cx="3183840" cy="4023360"/>
              <a:chOff x="4174560" y="1000440"/>
              <a:chExt cx="3183840" cy="402336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4375800" y="1605960"/>
                <a:ext cx="2910600" cy="723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4336200" y="2347920"/>
                <a:ext cx="2997720" cy="528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4260960" y="2981160"/>
                <a:ext cx="3059280" cy="460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221360" y="3669840"/>
                <a:ext cx="3083040" cy="352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4235400" y="4235400"/>
                <a:ext cx="3123000" cy="298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4174560" y="4794480"/>
                <a:ext cx="3164040" cy="2293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4362840" y="1000440"/>
                <a:ext cx="2831760" cy="818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2156040" y="1492560"/>
              <a:ext cx="1940040" cy="4089240"/>
            </a:xfrm>
            <a:custGeom>
              <a:avLst/>
              <a:gdLst/>
              <a:ahLst/>
              <a:rect l="l" t="t" r="r" b="b"/>
              <a:pathLst>
                <a:path w="1333" h="2588">
                  <a:moveTo>
                    <a:pt x="1333" y="2588"/>
                  </a:moveTo>
                  <a:cubicBezTo>
                    <a:pt x="1192" y="2586"/>
                    <a:pt x="1052" y="2584"/>
                    <a:pt x="911" y="2577"/>
                  </a:cubicBezTo>
                  <a:cubicBezTo>
                    <a:pt x="770" y="2570"/>
                    <a:pt x="598" y="2568"/>
                    <a:pt x="489" y="2544"/>
                  </a:cubicBezTo>
                  <a:cubicBezTo>
                    <a:pt x="380" y="2520"/>
                    <a:pt x="314" y="2487"/>
                    <a:pt x="255" y="2433"/>
                  </a:cubicBezTo>
                  <a:cubicBezTo>
                    <a:pt x="196" y="2379"/>
                    <a:pt x="164" y="2355"/>
                    <a:pt x="133" y="2222"/>
                  </a:cubicBezTo>
                  <a:cubicBezTo>
                    <a:pt x="102" y="2089"/>
                    <a:pt x="88" y="2003"/>
                    <a:pt x="66" y="1633"/>
                  </a:cubicBezTo>
                  <a:cubicBezTo>
                    <a:pt x="44" y="1263"/>
                    <a:pt x="22" y="631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930680" y="3575160"/>
              <a:ext cx="1087200" cy="1370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3040" y="4395960"/>
              <a:ext cx="16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wzros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emperatu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396120" y="4124520"/>
              <a:ext cx="247680" cy="1093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33000" y="1471680"/>
              <a:ext cx="198360" cy="3587760"/>
            </a:xfrm>
            <a:custGeom>
              <a:avLst/>
              <a:gdLst>
                <a:gd name="textAreaLeft" fmla="*/ 0 w 198360"/>
                <a:gd name="textAreaRight" fmla="*/ 71640 w 198360"/>
                <a:gd name="textAreaTop" fmla="*/ 93240 h 3587760"/>
                <a:gd name="textAreaBottom" fmla="*/ 3494520 h 358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60520" y="29638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1236600" y="2017440"/>
              <a:ext cx="2832120" cy="3513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1346040" y="1793520"/>
              <a:ext cx="2746440" cy="3737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69560" y="617868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9786800">
              <a:off x="2961000" y="4414680"/>
              <a:ext cx="689040" cy="4698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95520" y="4948560"/>
              <a:ext cx="1644840" cy="1522080"/>
            </a:xfrm>
            <a:custGeom>
              <a:avLst/>
              <a:gdLst/>
              <a:ahLst/>
              <a:rect l="l" t="t" r="r" b="b"/>
              <a:pathLst>
                <a:path w="1036" h="959">
                  <a:moveTo>
                    <a:pt x="1028" y="0"/>
                  </a:moveTo>
                  <a:cubicBezTo>
                    <a:pt x="1032" y="145"/>
                    <a:pt x="1036" y="291"/>
                    <a:pt x="982" y="421"/>
                  </a:cubicBezTo>
                  <a:cubicBezTo>
                    <a:pt x="928" y="551"/>
                    <a:pt x="865" y="690"/>
                    <a:pt x="701" y="780"/>
                  </a:cubicBezTo>
                  <a:cubicBezTo>
                    <a:pt x="537" y="870"/>
                    <a:pt x="268" y="914"/>
                    <a:pt x="0" y="959"/>
                  </a:cubicBezTo>
                </a:path>
              </a:pathLst>
            </a:custGeom>
            <a:noFill/>
            <a:ln cap="rnd" w="19080">
              <a:solidFill>
                <a:srgbClr val="008000"/>
              </a:solidFill>
              <a:custDash>
                <a:ds d="100000" sp="1000"/>
              </a:custDash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15000" y="559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70560" y="1289160"/>
                <a:ext cx="35258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570560" y="2673360"/>
                <a:ext cx="35478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C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768920" y="4179960"/>
                <a:ext cx="23954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łoprądowy model Ebersa - Molla (przypomnien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092240" y="4767120"/>
                <a:ext cx="250812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0" name=""/>
          <p:cNvGrpSpPr/>
          <p:nvPr/>
        </p:nvGrpSpPr>
        <p:grpSpPr>
          <a:xfrm>
            <a:off x="260280" y="1030320"/>
            <a:ext cx="3891960" cy="3596760"/>
            <a:chOff x="260280" y="1030320"/>
            <a:chExt cx="3891960" cy="3596760"/>
          </a:xfrm>
        </p:grpSpPr>
        <p:grpSp>
          <p:nvGrpSpPr>
            <p:cNvPr id="211" name=""/>
            <p:cNvGrpSpPr/>
            <p:nvPr/>
          </p:nvGrpSpPr>
          <p:grpSpPr>
            <a:xfrm>
              <a:off x="260280" y="1030320"/>
              <a:ext cx="3891960" cy="3596760"/>
              <a:chOff x="260280" y="1030320"/>
              <a:chExt cx="3891960" cy="3596760"/>
            </a:xfrm>
          </p:grpSpPr>
          <p:sp>
            <p:nvSpPr>
              <p:cNvPr id="212" name=""/>
              <p:cNvSpPr/>
              <p:nvPr/>
            </p:nvSpPr>
            <p:spPr>
              <a:xfrm>
                <a:off x="1650960" y="20512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650960" y="22366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98920" y="2037600"/>
                <a:ext cx="1440" cy="55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50960" y="31654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650960" y="33508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1798920" y="3133800"/>
                <a:ext cx="1440" cy="55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0800000">
                <a:off x="2483640" y="3258000"/>
                <a:ext cx="217440" cy="23580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2454480" y="3536640"/>
                <a:ext cx="2905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2449440" y="2161440"/>
                <a:ext cx="290160" cy="261000"/>
                <a:chOff x="2449440" y="2161440"/>
                <a:chExt cx="290160" cy="26100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2495880" y="2186640"/>
                  <a:ext cx="217080" cy="235800"/>
                </a:xfrm>
                <a:prstGeom prst="triangle">
                  <a:avLst>
                    <a:gd name="adj" fmla="val 5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V="1">
                  <a:off x="2449440" y="2161440"/>
                  <a:ext cx="290160" cy="2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747000" y="2793960"/>
                <a:ext cx="18828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12160" y="2422800"/>
                <a:ext cx="0" cy="835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569320" y="2743920"/>
                <a:ext cx="7992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66880" y="273996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54560" y="162972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554560" y="392364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681360" y="1612080"/>
                <a:ext cx="120960" cy="1314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821960" y="2586600"/>
                <a:ext cx="0" cy="556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98920" y="1679760"/>
                <a:ext cx="1882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98920" y="4001040"/>
                <a:ext cx="1882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93800" y="1679760"/>
                <a:ext cx="0" cy="464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93800" y="3536640"/>
                <a:ext cx="0" cy="4640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798920" y="1679760"/>
                <a:ext cx="0" cy="37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798920" y="3629520"/>
                <a:ext cx="0" cy="37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681360" y="3923640"/>
                <a:ext cx="120960" cy="1310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09480" y="2753280"/>
                <a:ext cx="120960" cy="1314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857520" y="1865520"/>
                    <a:ext cx="848520" cy="46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0" name=""/>
                  <p:cNvSpPr txBox="1"/>
                  <p:nvPr/>
                </p:nvSpPr>
                <p:spPr>
                  <a:xfrm>
                    <a:off x="902160" y="3443760"/>
                    <a:ext cx="725040" cy="46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1" name=""/>
              <p:cNvSpPr/>
              <p:nvPr/>
            </p:nvSpPr>
            <p:spPr>
              <a:xfrm flipV="1">
                <a:off x="2612160" y="2422440"/>
                <a:ext cx="0" cy="278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612160" y="2793960"/>
                <a:ext cx="0" cy="371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40320" y="2329920"/>
                <a:ext cx="44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740320" y="2701080"/>
                <a:ext cx="44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0280" y="2979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683520" y="1772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68840" y="33508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2997000" y="1679760"/>
                <a:ext cx="42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911320" y="4001040"/>
                <a:ext cx="42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028880" y="2793960"/>
                <a:ext cx="42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826000" y="1030320"/>
                <a:ext cx="51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97000" y="4186440"/>
                <a:ext cx="599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64000" y="2701080"/>
                <a:ext cx="378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 flipH="1" flipV="1">
              <a:off x="3204720" y="2943360"/>
              <a:ext cx="320760" cy="917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171960" y="1784520"/>
              <a:ext cx="320400" cy="91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00640" y="3011400"/>
              <a:ext cx="48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30800" y="2236680"/>
              <a:ext cx="48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864960" y="5338800"/>
            <a:ext cx="3426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i zwar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3:33:12Z</dcterms:created>
  <dc:creator>Agnieszka Kukawczynska</dc:creator>
  <dc:description/>
  <dc:language>en-US</dc:language>
  <cp:lastModifiedBy>MK</cp:lastModifiedBy>
  <cp:lastPrinted>2004-04-25T13:15:06Z</cp:lastPrinted>
  <dcterms:modified xsi:type="dcterms:W3CDTF">2005-02-22T15:42:21Z</dcterms:modified>
  <cp:revision>235</cp:revision>
  <dc:subject/>
  <dc:title>UKŁADY ZASILANIA TRANZYSTORÓW</dc:title>
</cp:coreProperties>
</file>